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EBE3-CB6B-4F86-A875-5F2BE00E3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08FD-7682-4C14-B0A8-71474992C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3FC2-A850-4CBB-A92A-FD50A9422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8EC6-C4DC-44F5-A2AE-A4C583ED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42F-9950-4C5C-9E43-5A8E158C0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AFCD-288A-4B8A-9EFD-65466556A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510-4416-446A-A9E9-8472ED503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15C2-C418-4CAA-B3CA-1BB150F78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D7CC-A465-4A44-BA79-42EC4CC8E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F1B-2617-449A-AC41-9C1A23F2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4C85-F255-4072-963A-210E5FFF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CB8-58C8-4761-B2AD-FC23A27A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9AC-3609-4393-B5AF-106EC6B9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0ADE-6898-4A53-8E51-40139E0E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3C5-771A-4875-971A-992DA7E5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1E48-0F22-439F-A798-1BF6870F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00D5-A174-4BE4-90B0-3AD4F969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B219-CD0A-4893-84AE-216283F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E720-1995-4622-A4EA-EEEBB74A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E675-548E-4D13-8509-12BD2F16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73FA-E47C-4B06-8BC3-402B62B4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2AB7-E88E-470C-AC36-5A4585E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B79C-122E-40EE-B420-6FB2CE21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728A-4D7C-4711-8DCB-1B3A01AA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FC3A-3531-43DA-9B51-41EA28B7E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DD9-D8A5-48FF-BFE1-781A63FF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7F4-4E03-4843-8539-20931D78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5AB-34A7-47F0-A431-9A6594DC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89B2-2BF7-453F-84B7-8591A12A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A51-84FA-4F80-8713-6EB54818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393-10E6-4A8D-9FBE-3CF852E3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5D2-8CE4-4203-923B-E0E4D8C7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B0B-6DA9-42D7-B58D-8A9484AF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 3 - Adattípus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3-</a:t>
            </a:r>
            <a:fld id="{23D4281D-6F59-46DD-AEAF-CE776145C575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5B51-6097-48D7-A194-F186DB8F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3</a:t>
            </a: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400"/>
            </a:b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Adat formátumo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arakterek ábrázol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I –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szélesebb körben haszná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CDIC:  IBM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agyszámítóg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gyomány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code: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ilágméretű használatra kifejlesz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DEE-C00F-473B-813A-82F643B7477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SCII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 (American National Standards Institute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által kifejleszt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brázolá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tű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rab szám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ltalános írásjel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s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éhány ékez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más európai speciális karak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tes kó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28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8A7-8B65-4AA5-8B5B-9158026536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SCII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referencia tábla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838080" y="1523880"/>
          <a:ext cx="7086600" cy="4680000"/>
        </p:xfrm>
        <a:graphic>
          <a:graphicData uri="http://schemas.openxmlformats.org/drawingml/2006/table">
            <a:tbl>
              <a:tblPr/>
              <a:tblGrid>
                <a:gridCol w="787680"/>
                <a:gridCol w="787320"/>
                <a:gridCol w="787320"/>
                <a:gridCol w="787320"/>
                <a:gridCol w="787320"/>
                <a:gridCol w="787680"/>
                <a:gridCol w="787320"/>
                <a:gridCol w="787320"/>
                <a:gridCol w="78732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S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\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}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^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838080" y="1523880"/>
            <a:ext cx="83844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352680"/>
            <a:ext cx="1143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74</a:t>
            </a:r>
            <a:r>
              <a:rPr b="1" lang="en-US" sz="1400" spc="-1" strike="noStrike" baseline="-25000">
                <a:solidFill>
                  <a:srgbClr val="000099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11 0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413600">
            <a:off x="868320" y="-1031760"/>
            <a:ext cx="12746880" cy="532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38" y="74"/>
                </a:moveTo>
                <a:arcTo wR="10800" hR="10800" stAng="-5802618" swAng="4687986"/>
                <a:lnTo>
                  <a:pt x="10800" y="10800"/>
                </a:lnTo>
                <a:close/>
              </a:path>
              <a:path fill="none" w="21600" h="21600">
                <a:moveTo>
                  <a:pt x="9538" y="74"/>
                </a:moveTo>
                <a:arcTo wR="10800" hR="10800" stAng="-5802618" swAng="4687986"/>
              </a:path>
            </a:pathLst>
          </a:custGeom>
          <a:noFill/>
          <a:ln w="1584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2133720"/>
            <a:ext cx="304920" cy="1218960"/>
          </a:xfrm>
          <a:prstGeom prst="line">
            <a:avLst/>
          </a:prstGeom>
          <a:ln w="158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042A-C198-4CA7-BE25-FC21E36042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BCDIC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tended Binary Coded Decimal Interchange Code az IBM által kifejlesz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őként IBM vagy IBM kompatibilis nagyszámítógépek körében használ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SCII-ba/ból konvertáló szoftver hozzáférhet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akori az archív adatokn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arakterkódok eltérnek az ASCII-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62320" y="4572000"/>
          <a:ext cx="3657600" cy="1581120"/>
        </p:xfrm>
        <a:graphic>
          <a:graphicData uri="http://schemas.openxmlformats.org/drawingml/2006/table">
            <a:tbl>
              <a:tblPr/>
              <a:tblGrid>
                <a:gridCol w="914400"/>
                <a:gridCol w="1143000"/>
                <a:gridCol w="1600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C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BCD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E99-0AE7-4F77-8038-D1779464B7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Unicod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gyakoribb, 16-bites forma, 65.536 karakter ábrázolására alkal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CII Latin-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nicode ré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0-tól 255-ig a Unicode táblá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oknyelvű: kódokat határoz m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ajdnem az összes betű alapú karakter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agy része a kínai, japán és koreai „szóképekne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gyesen magánhangzók és szótag csoportok néhány nyelv igénye sze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mogatja a szoftvermódosítást helyi nyelvek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492B-3846-41CE-A919-A37033A51E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hasonlító soroz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fabetikus rendezés ha a szoftver kezeli a vegyes kis- és nagybet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ódok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okat helyezi elő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EBCDIC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ben utolj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CI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ndezési sorre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láncok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71600" y="4343400"/>
          <a:ext cx="7378560" cy="1581120"/>
        </p:xfrm>
        <a:graphic>
          <a:graphicData uri="http://schemas.openxmlformats.org/drawingml/2006/table">
            <a:tbl>
              <a:tblPr/>
              <a:tblGrid>
                <a:gridCol w="1371600"/>
                <a:gridCol w="380880"/>
                <a:gridCol w="381240"/>
                <a:gridCol w="380880"/>
                <a:gridCol w="395280"/>
                <a:gridCol w="311040"/>
                <a:gridCol w="325440"/>
                <a:gridCol w="325440"/>
                <a:gridCol w="325440"/>
                <a:gridCol w="466920"/>
                <a:gridCol w="608040"/>
                <a:gridCol w="749160"/>
                <a:gridCol w="608040"/>
                <a:gridCol w="749160"/>
              </a:tblGrid>
              <a:tr h="3988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tű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 karakter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7CCC-B786-488B-AE83-28B5BF2993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 kódok kettő osztály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Nyomtathat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jelenik a képernyőn vagy a nyomt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Vezérl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zícionálja a kimenetet a képernyőn vagy a nyomtat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vékenységet vált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lapotot közö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mítógép és a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/O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szköz közö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3643200"/>
          <a:ext cx="7086600" cy="395280"/>
        </p:xfrm>
        <a:graphic>
          <a:graphicData uri="http://schemas.openxmlformats.org/drawingml/2006/table">
            <a:tbl>
              <a:tblPr/>
              <a:tblGrid>
                <a:gridCol w="3386160"/>
                <a:gridCol w="370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T: vertical tab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abulá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F: Line feed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újs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00200" y="5410080"/>
          <a:ext cx="6934320" cy="700200"/>
        </p:xfrm>
        <a:graphic>
          <a:graphicData uri="http://schemas.openxmlformats.org/drawingml/2006/table">
            <a:tbl>
              <a:tblPr/>
              <a:tblGrid>
                <a:gridCol w="6934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: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oron következő karakter értelmezésének megváltoztatá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00200" y="4495680"/>
          <a:ext cx="7086600" cy="533520"/>
        </p:xfrm>
        <a:graphic>
          <a:graphicData uri="http://schemas.openxmlformats.org/drawingml/2006/table">
            <a:tbl>
              <a:tblPr/>
              <a:tblGrid>
                <a:gridCol w="3352680"/>
                <a:gridCol w="37339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: bell rings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csipogá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: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tuális karakter törlé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DC23-35B4-4236-AF3E-139AD17E57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Vezérlőkód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meghatározás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E11F-053F-4384-BD4D-0D10E290E0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llentyűzet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emene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Scan kó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 különböző scan kód van a billentyűze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ik akkor keletkezik ha egy gombot lenyomunk, a másik, ha felengedünk egy gomb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oftver által terminálon vagy PC-n Unicode -dá, ASCII –vé vagy EBCDIC –ké konvertá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nnyen alkalmazható különböző nyelveknél vagy billentyűzetkiosztásokn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scan kód a gombok megnyomásához/ felengedéséhez és a billentyűzetkombinációk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  shift és control gomb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8C9-284D-452E-888A-842623C8C45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Más alfanumerikus bemene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OC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optical character reader/optikai jelolvas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omtatott szöveget olvas be és szöveges adattá konvertál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ülönlegesen kódolt karakterek olvasására használjá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talános használat korlátozott a nagymértékű hibaarány mi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ágneses felületek „optikai” felismerése (pl. csekkeken vízjel helyet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Vonalkód olvasó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lyan alkalmazásokban használják, ami gyors, pontos, ismétlődő inputot igényel minimálisan képzett alkalmazotta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k: bevásárlóközpont pénztár- és leltár kez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fanumerikus adat a vonalkód olvasóban optikailag vonalakat haszná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Mágneskártya olvasók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fanumerikus adat bankkártyákró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H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gitalizált audió rögzítése egyszerű, de alfanumerikus adattá konvertálása nehé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smerni kell a hangmintákat egy nyelvben (</a:t>
            </a:r>
            <a:r>
              <a:rPr b="0" i="1" lang="hu-HU" sz="1600" spc="-1" strike="noStrike">
                <a:solidFill>
                  <a:srgbClr val="000080"/>
                </a:solidFill>
                <a:latin typeface="Arial"/>
              </a:rPr>
              <a:t>fonéma/beszédhang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) plusz  a kiejtés-, nyelvtan- és mondattan szabály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A0E-C2EE-496C-871C-C8F3C45AD4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 formátum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ógép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adatformátumot bináris formában kezel és tá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beri kommunik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leértve a nyelveket, képeket és hang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at formátum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írások az adatok számítógép által kezelhető formába konvertál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módok emberi adat ábrázolására a számítógép által feldolgozva és táro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18D-618A-43AC-A3A0-B54BA395C2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ép ad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énykép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brá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kon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ajz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áblázat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grafikon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féle megközelít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Bit-térképes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raszteres (rácsos) képe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pek és festmények összefüggő váltak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Objektumos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vektorgrafikus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grafikai objektumokbó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áll össze, mint a vonalak és görbé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tr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ag meghatároz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ség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p minő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árhely ig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vábbadás időtart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ódosítás könnyedsé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5F6-159E-4DEA-B638-CF7C845A2F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e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sághű, folytonosan változó árnyékú, színű, élességű és szerkezetű képeknél haszná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canner-elt kép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ptár egy </a:t>
            </a: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rajz-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gram által létrehoz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őként nagymértékben részletezett és meglehetősen egyszerű feldolgozás igényű képeknél használj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put eszközö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canner-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tális kamerák és videó felvevő eszközö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rafikus input eszközök, mint az egér és a to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ff"/>
                </a:solidFill>
                <a:latin typeface="Arial"/>
              </a:rPr>
              <a:t>Képszerkesztő-</a:t>
            </a:r>
            <a:r>
              <a:rPr b="0" lang="hu-HU" sz="2400" spc="-1" strike="noStrike">
                <a:solidFill>
                  <a:srgbClr val="da0027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 </a:t>
            </a:r>
            <a:r>
              <a:rPr b="0" i="1" lang="hu-HU" sz="2400" spc="-1" strike="noStrike">
                <a:solidFill>
                  <a:srgbClr val="0000ff"/>
                </a:solidFill>
                <a:latin typeface="Arial"/>
              </a:rPr>
              <a:t>rajz program</a:t>
            </a:r>
            <a:r>
              <a:rPr b="0" lang="hu-HU" sz="2400" spc="-1" strike="noStrike">
                <a:solidFill>
                  <a:srgbClr val="da0027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z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erkesztő eszközök, amelyek könnyebbé teszik a fárasztó bit-ről bit-re való feldolgoz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CED-52BE-4E23-AA8E-1E39474B9D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e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ábrában minden egyes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pix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pi(x</a:t>
            </a:r>
            <a:r>
              <a:rPr b="0" lang="hu-HU" sz="28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ture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e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ment / képpont) bináris számként van táro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xel: kis terület koordinátákkal meghatároz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minden 4 bites kódon ábrázolt pontnak képes megfeleltetni a 16 szürke árnyalat egyik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4038480"/>
            <a:ext cx="5486400" cy="20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7748-23A7-45F5-A596-2A14E460F0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 megjeleníté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hrome: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 vagy fehé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it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xelenké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ür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k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ehé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llet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54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rnyalata a szürké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byte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ixelenké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ínes kép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16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56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4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ue color (16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llió szí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8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4 bi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3 x 8 bit-es) ké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2C30-231E-4F33-80C1-285929F1CF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-térképes képek tárol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akran nagy fájl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élda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00×6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három szín (RGB) 1 byte-on tárolv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.5MB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os file-t ad (1.37 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ile méret függ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Felbontástó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xelek száma inch-enké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hatással van a kép élességére és részletességé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Mélységtő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ürke vagy összetett színek megjelenítéséhez használt bit-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Paletta (színválaszték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ínfordító tábla, ami minden pixelhez kódot használ az aktuális szín értéke helye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tömörítéstő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2362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DF2-93AB-41B5-BE3E-A3718E77EA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GIF 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(Graphics Interchange Format)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87-ben fejlesztette ki a CompuSe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89a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imált képek lehetősé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hetővé teszi a képek egymást követő megjelenítését rögzített időközön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ínkorlá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ZW (Lempel-Zif-Welch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goritmussal tömörít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őként vonalrajzoláshoz, művészi és nagyméretű azonos színű területeket tartalmazó képek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Veszteségmentes tömör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4311-B7A9-44BD-8798-D1CE7FCA82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GIF 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(Graphics Interchange Format)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5284800" cy="2441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76520" y="4343400"/>
            <a:ext cx="6095880" cy="13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DF0-EFE7-4E4F-86FC-17C9917CB0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JPEG </a:t>
            </a:r>
            <a:br>
              <a:rPr sz="4000"/>
            </a:br>
            <a:r>
              <a:rPr b="1" lang="en-US" sz="3400" spc="-1" strike="noStrike">
                <a:solidFill>
                  <a:srgbClr val="000080"/>
                </a:solidFill>
                <a:latin typeface="Arial"/>
              </a:rPr>
              <a:t>(Joint Photographers Expert Group)</a:t>
            </a:r>
            <a:endParaRPr b="1" lang="en-US" sz="3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 mint 16 millió színre ké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felelő nagy részletességű fényképekhez és festmények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Veszteséges tömörítés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goritmust alkalmaz, a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atokat eldob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i a file méretét és az átviteli sebessé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heti a kép felbontásá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lmoshatja az éles vonala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den egyes mentés ”rontja” a kép minő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1601-AE00-4CE6-BBB7-E28CB026C9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Más bit-térképes formátumok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FF (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ed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e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e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ma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címkézett kép file formát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váló minőségű képek feldolgozá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ösképp kiadás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MP (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Bittérkép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szköz-független formát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Windows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nyezethe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ixel színek a kimeneti eszközöktől függetlenül táro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X: 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c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Paintbrush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formátu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G: (Portable Network Graphics): 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rnetes alkalmazásoknál a GIF és JPEG lecserélésére tervezté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abadalom m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ovábbfejlesztett </a:t>
            </a:r>
            <a:r>
              <a:rPr b="0" i="1" lang="hu-HU" sz="2000" spc="-1" strike="noStrike">
                <a:solidFill>
                  <a:srgbClr val="000099"/>
                </a:solidFill>
                <a:latin typeface="Arial"/>
              </a:rPr>
              <a:t>veszteségmente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ömörí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incs animáció támogat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1B50-FCF0-4D0C-99F2-24E2C71311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Vektorgrafiku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omagok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rajzolásával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vagy ábratáblázattal készí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színű vonalakból és alakzatokból áll ös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lefordítja a geometriai formulákat a kép megalkot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árhely mérete függ a kép összetettségétő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Utasítások száma egy vonal rajzolásáh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kzat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ák mennyi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ilmek, így a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r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oy Sto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alkotásához is vektorgrafikát használt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9228-E452-4DB7-BF3B-CB15CA3475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ok forr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náris bem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edi inputként ind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billentyűzeti bemenet </a:t>
            </a:r>
            <a:r>
              <a:rPr b="1" i="1" lang="hu-HU" sz="2000" spc="-1" strike="noStrike">
                <a:solidFill>
                  <a:srgbClr val="000080"/>
                </a:solidFill>
                <a:latin typeface="Arial"/>
              </a:rPr>
              <a:t>1+2=3 számol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llentyűzet generál egy bináris számot minden gomb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naló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függő adatok mint a hang vagy a kép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ükséges egy hardver az adatok bináris számokká konvertálásá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43000" y="4495680"/>
            <a:ext cx="7391160" cy="1202760"/>
            <a:chOff x="1143000" y="4495680"/>
            <a:chExt cx="7391160" cy="1202760"/>
          </a:xfrm>
        </p:grpSpPr>
        <p:sp>
          <p:nvSpPr>
            <p:cNvPr id="102" name=""/>
            <p:cNvSpPr/>
            <p:nvPr/>
          </p:nvSpPr>
          <p:spPr>
            <a:xfrm>
              <a:off x="5832000" y="4495680"/>
              <a:ext cx="2702160" cy="120276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Számítógé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101000101010101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06840" y="4818600"/>
              <a:ext cx="953640" cy="6426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put </a:t>
              </a:r>
              <a:r>
                <a:rPr b="1" lang="hu-HU" sz="1800" spc="-1" strike="noStrike">
                  <a:solidFill>
                    <a:srgbClr val="ffffff"/>
                  </a:solidFill>
                  <a:latin typeface="Arial"/>
                </a:rPr>
                <a:t>eszkö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43000" y="4899600"/>
              <a:ext cx="182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+2=3 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számolá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0720" y="5142240"/>
              <a:ext cx="397440" cy="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57920" y="5142240"/>
              <a:ext cx="397080" cy="0"/>
            </a:xfrm>
            <a:prstGeom prst="line">
              <a:avLst/>
            </a:prstGeom>
            <a:ln w="3492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6B7-BC4F-448F-9884-FFDDF0F5E5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Vektorgrafikus 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tematikai képleteken alap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nnyű mozgatni, méretezni és elforgatni az élesség elvesztése nélkül, a bit-térképesek képekkel szem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evesebb helyre van szüksége, mint a  bit-térképes képekn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tud képeket vagy festményeket ábrázol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em lehet közvetlenül megjeleníteni vagy nyomtat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-térképessé kell konvertálni, mivel a rajzgép bit-térké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8E5-C9BD-4D97-B9EE-9E96556237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80"/>
                </a:solidFill>
                <a:latin typeface="Arial"/>
              </a:rPr>
              <a:t>Ismertebb vektorgrafikus programok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több vektorgrafikus formátum szabadalmazo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ile kiterjesztéseket is beleért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wmf, .dxf, .mgx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cg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media Flash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csony sávszélességű anim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graphx Designer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rajzkészítés, 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mékek illusztrálásá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lDraw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ktoros illusztrál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rendez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t-térkép készít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pszerkeszt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estő és animáló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desk AutoCAD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pítésze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érnökö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ő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tervfüggő szakemberekne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3C SVG (Scalable Vector Graphics) XML Web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eíró nyelven alap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m szabadalma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881-F0CE-484D-B71E-A818BD7E967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PostScrip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Oldalleíró nyel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űveletek és tulajdonságok listája, amely jellemzi az összes objektumot a nyomtatandó olda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SCII-ben vagy Unicode-ban táro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értelmező program a számítógépen vagy a kimeneti eszközön olvassa a PostScript-et a kép konvertál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éretezhető betű támoga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bbi objektumhoz hasonló meghatár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B36-BB23-418E-929F-AF794E9C3A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PostScript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rogra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32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CD7-5EE2-4800-94EB-EEA15C877F3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arakterek ábrázolás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arakterek tárolása Unicode-hoz vagy ASCII-hez hasonló formátumok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öveg elsősorban tartalom szerint kerül feldolgozásra és tárolás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jelenítési feltételek, mint a betűkészlet tárolása karakterr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övegmegjelenés az elsődleges tényez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élda: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készlet 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Glyph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-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cintosh kódolási minta, amely tartalmazza a karakterek azonosítási és megjelenési feltétel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4CA6-060E-43FC-B5AA-DB71F5CF3BC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80"/>
                </a:solidFill>
                <a:latin typeface="Arial"/>
              </a:rPr>
              <a:t>Bit-térképes és vektorgrafikus képek összehasonlítása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1523880"/>
          <a:ext cx="7543800" cy="4179960"/>
        </p:xfrm>
        <a:graphic>
          <a:graphicData uri="http://schemas.openxmlformats.org/drawingml/2006/table">
            <a:tbl>
              <a:tblPr/>
              <a:tblGrid>
                <a:gridCol w="3733920"/>
                <a:gridCol w="3809880"/>
              </a:tblGrid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-térké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ktorgrafik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xel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rké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metriailag meghatározott formá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énykép minősé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tett rajz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stő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jz pro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yobb tárhely ig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yobb számítási igé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p méretének növelése életlenséget ok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ktumok méretezése egyenle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imenet felbontását a kép felbontása korlátoz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kimenet felbontását a kimeneti eszköz korlátoz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3D4-4DE7-4BA7-9F3E-9C7DFC97B90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Vide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ó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ép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agymennyiségű adatra van szük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ideokamera 720x576/704x480 (PAL/NTSC) felbontású 24 bit-es képet rögzít 25/30 kép/másodperc sebességg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z 248 Mbit/sec a CCD-n, a szalagon átlagosan 28.8 Mbit/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 perces film 1.7 Gbit és egy 1 órás film közel 13 Gbyte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hetőségek a file méret csökkentésére: csökkenti a kép méretét, korlátozza a színek számát, csökkenti a képkocka-arán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ideohoz való hozzájutási módtól függő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Videó folya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 videó úgy jelenik meg, ahogy letöltöttük a Web szerverr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a: videó konf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elyi adat (file a DVD-re vagy a rendszerre letöltve) a jobb minőségé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PEG-2: kódolási példa: IBBPBBPB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ra, Bidirectional, Predictive, film minőségű képek, magas tömörítéssel, tekintélyes feldolgozási képességet igény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1716120"/>
                <a:tab algn="l" pos="3370320"/>
                <a:tab algn="l" pos="4799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10 Mbit/sec tömörítési arányra optimalizálva, ez a DVD szabványa is. A file méret = 95% videó-adat + 5% tömörítetlen audió-ada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6D5-006A-469D-A14D-C8F1F1D7B6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udi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ó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viteli és feldolgozási igényei kisebbek, mint a video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Waveform aud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ang digitális ábrázol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MI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usical Instrument Digital Interface)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tasítások a hangok előállít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A-D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 (analóg-digitális)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konverte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analóg hangot konvertál a digitális értékek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220-4F2E-40E1-AE24-94280F1520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Waveform Audio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34120" y="304920"/>
            <a:ext cx="3124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10280" y="30481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tavételezési ará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ndszeri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410080" cy="397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E36-36DB-4112-821E-E80A1E375C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Mintavételezési arány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hangból vett mintavételek száma másodpercenként a rögzítési folyamat al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000 mintavétel másodpercenként = 1 kHz (kilohertz), azaz ezred másodpercenké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 Audió CD mintavételezési aránya = 44.1 kHz, azaz 226 tízmilliomod másodpercenkén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minőségű rögzítés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8 bit-es kvantáltság a rádió minőségű rögzítéshez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6 bit-esnél 44.1 kHz CD, 48 kHz a Hi-Fi minőségű rögzítéshez, 2 sztereó csatorná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2 bit-es kvantáltság 32 kHz-en 2 x 2 sztereó csatornán rögzíti a hango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4 bit-es kvantáltság 192 kHz-en 5.1 hangkép audió DVD-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5B9-1B2F-4B39-B14B-6630AE75453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ltalános adat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517760"/>
          <a:ext cx="8077320" cy="4821120"/>
        </p:xfrm>
        <a:graphic>
          <a:graphicData uri="http://schemas.openxmlformats.org/drawingml/2006/table">
            <a:tbl>
              <a:tblPr/>
              <a:tblGrid>
                <a:gridCol w="3325680"/>
                <a:gridCol w="4751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at típ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abvány(o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anumerik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code, ASCII, EDCD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p (bit térkép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F (graphical image form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F (tagged image file form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8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NG (portable network grap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ép (vektorgrafiku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Script, SWF (Macromedia Flash), SV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fikai megjelenés, ill. betűkészlet leí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Script, True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V, AVI, MP3, MIDI, W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umozott dokumentum leír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F (Adobe Portable Document Format), HTML, X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time, MPEG-2, RealVideo, WM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E0C-3B2E-460C-A93B-E7A607F043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MIDI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Zene jelölési rendszer, amely lehetővé teszi a számítógépek kommunikációját a szintetizátorokk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Utasítások, melyeket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űszere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és 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I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ngkártyák használnak a hang visszajátszásáho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m alkalmas beszéd- vagy énekhang tárolására vagy visszajátszásá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okkal tömörebb, min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v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279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er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663-3418-49F5-800D-77F9C9E0ED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udi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ó</a:t>
            </a:r>
            <a:r>
              <a:rPr b="1" i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formátum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MP3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MPEG-2 leszármazottja (ISO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ving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cture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xperts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G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sychoacoustic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–kus tömörítési technikát alkalmaz a tárhelyigény csökkentéséh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dobja az ember számára hallhatatlan hangokat: veszteséges tömör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W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crosoft fejlesztette ki a multimédiás környezetének a része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ltalános felhasználású veszteségmentes tömörí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C9F-7C1A-40EE-B963-5F5816D00D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WAV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hang formátum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121440" cy="187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28C-8B17-47EE-8558-DA0A1FE45F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tömöríté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Tömöríté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datrögzítés, amelynek kevesebb tárhelyre van szük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Tömörítési arány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méretes file kicsinyí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Veszteség ment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 fordított algoritmus visszaállítja az adatot eredeti formájá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  GIF, PCX, TIFF, W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Veszteség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datvesztés lép fel a kisebb méret és a gyorsabb letöltés kedvéé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okkal nagyobb tömörítési arányok, általában 1-től 10-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 JP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akori a multimédiáb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PEG-2: mindkettőt használja 100:1-es arány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8210-3BBA-4DB8-96A7-AA2F18DBB8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mörítő algoritmus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smétlő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5 8 7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0 0 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3 4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0 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5 8 7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4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3 4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0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 nagy területek ugyanazzal a színne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inta helyettesít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ntákat keres az adat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helyettesíti az új mintákat,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ótárat hoz lé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45-ből 30 byte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plusz szótá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P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00ff"/>
                </a:solidFill>
                <a:latin typeface="Arial"/>
              </a:rPr>
              <a:t>P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0" lang="hu-HU" sz="2000" spc="-1" strike="noStrike">
                <a:solidFill>
                  <a:srgbClr val="00cc00"/>
                </a:solidFill>
                <a:latin typeface="Arial"/>
              </a:rPr>
              <a:t>ck</a:t>
            </a:r>
            <a:r>
              <a:rPr b="0" lang="hu-HU" sz="2000" spc="-1" strike="noStrike">
                <a:solidFill>
                  <a:srgbClr val="996633"/>
                </a:solidFill>
                <a:latin typeface="Arial"/>
              </a:rPr>
              <a:t>e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hu-HU" sz="2000" spc="-1" strike="noStrike">
                <a:solidFill>
                  <a:srgbClr val="66ccff"/>
                </a:solidFill>
                <a:latin typeface="Arial"/>
              </a:rPr>
              <a:t>pe</a:t>
            </a:r>
            <a:r>
              <a:rPr b="0" lang="hu-HU" sz="2000" spc="-1" strike="noStrike">
                <a:solidFill>
                  <a:srgbClr val="00cc00"/>
                </a:solidFill>
                <a:latin typeface="Arial"/>
              </a:rPr>
              <a:t>c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hu-HU" sz="2000" spc="-1" strike="noStrike">
                <a:solidFill>
                  <a:srgbClr val="0000ff"/>
                </a:solidFill>
                <a:latin typeface="Arial"/>
              </a:rPr>
              <a:t>pi</a:t>
            </a:r>
            <a:r>
              <a:rPr b="0" lang="hu-HU" sz="2000" spc="-1" strike="noStrike">
                <a:solidFill>
                  <a:srgbClr val="00cc00"/>
                </a:solidFill>
                <a:latin typeface="Arial"/>
              </a:rPr>
              <a:t>c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996633"/>
                </a:solidFill>
                <a:latin typeface="Arial"/>
              </a:rPr>
              <a:t>ed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66ccff"/>
                </a:solidFill>
                <a:latin typeface="Arial"/>
              </a:rPr>
              <a:t>p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e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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hu-HU" sz="2000" spc="-1" strike="noStrike">
                <a:solidFill>
                  <a:srgbClr val="ff9f11"/>
                </a:solidFill>
                <a:latin typeface="Wingdings 2"/>
                <a:ea typeface="Wingdings 2"/>
              </a:rPr>
              <a:t>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00ff"/>
                </a:solidFill>
                <a:latin typeface="Wingdings"/>
                <a:ea typeface="Wingdings"/>
              </a:rPr>
              <a:t>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hu-HU" sz="2000" spc="-1" strike="noStrike">
                <a:solidFill>
                  <a:srgbClr val="ff9f11"/>
                </a:solidFill>
                <a:latin typeface="Wingdings 2"/>
                <a:ea typeface="Wingdings 2"/>
              </a:rPr>
              <a:t>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ff"/>
                </a:solidFill>
                <a:latin typeface="ZapfDingbats"/>
                <a:ea typeface="ZapfDingbats"/>
              </a:rPr>
              <a:t></a:t>
            </a:r>
            <a:r>
              <a:rPr b="0" lang="hu-HU" sz="2000" spc="-1" strike="noStrike">
                <a:solidFill>
                  <a:srgbClr val="00cc00"/>
                </a:solidFill>
                <a:latin typeface="ZapfDingbats"/>
                <a:ea typeface="ZapfDingbats"/>
              </a:rPr>
              <a:t></a:t>
            </a:r>
            <a:r>
              <a:rPr b="0" lang="hu-HU" sz="2000" spc="-1" strike="noStrike">
                <a:solidFill>
                  <a:srgbClr val="996633"/>
                </a:solidFill>
                <a:latin typeface="ZapfDingbats"/>
                <a:ea typeface="ZapfDingbats"/>
              </a:rPr>
              <a:t>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</a:t>
            </a:r>
            <a:r>
              <a:rPr b="0" lang="hu-HU" sz="2000" spc="-1" strike="noStrike">
                <a:solidFill>
                  <a:srgbClr val="00cc00"/>
                </a:solidFill>
                <a:latin typeface="ZapfDingbats"/>
                <a:ea typeface="ZapfDingbats"/>
              </a:rPr>
              <a:t>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hu-HU" sz="2000" spc="-1" strike="noStrike">
                <a:solidFill>
                  <a:srgbClr val="0000ff"/>
                </a:solidFill>
                <a:latin typeface="ZapfDingbats"/>
                <a:ea typeface="ZapfDingbats"/>
              </a:rPr>
              <a:t></a:t>
            </a:r>
            <a:r>
              <a:rPr b="0" lang="hu-HU" sz="2000" spc="-1" strike="noStrike">
                <a:solidFill>
                  <a:srgbClr val="00cc00"/>
                </a:solidFill>
                <a:latin typeface="ZapfDingbats"/>
                <a:ea typeface="ZapfDingbats"/>
              </a:rPr>
              <a:t>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996633"/>
                </a:solidFill>
                <a:latin typeface="ZapfDingbats"/>
                <a:ea typeface="ZapfDingbats"/>
              </a:rPr>
              <a:t>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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hu-HU" sz="2000" spc="-1" strike="noStrike">
                <a:solidFill>
                  <a:srgbClr val="ff9f11"/>
                </a:solidFill>
                <a:latin typeface="Wingdings 2"/>
                <a:ea typeface="Wingdings 2"/>
              </a:rPr>
              <a:t>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410080" y="4038480"/>
          <a:ext cx="3429000" cy="1005120"/>
        </p:xfrm>
        <a:graphic>
          <a:graphicData uri="http://schemas.openxmlformats.org/drawingml/2006/table">
            <a:tbl>
              <a:tblPr/>
              <a:tblGrid>
                <a:gridCol w="428400"/>
                <a:gridCol w="685800"/>
                <a:gridCol w="428760"/>
                <a:gridCol w="666720"/>
                <a:gridCol w="533520"/>
                <a:gridCol w="685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ZapfDingbats"/>
                          <a:ea typeface="ZapfDingbats"/>
                        </a:rPr>
                        <a:t>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ZapfDingbats"/>
                          <a:ea typeface="ZapfDingbats"/>
                        </a:rPr>
                        <a:t>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f11"/>
                          </a:solidFill>
                          <a:latin typeface="Wingdings 2"/>
                          <a:ea typeface="Wingdings 2"/>
                        </a:rPr>
                        <a:t>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cc00"/>
                          </a:solidFill>
                          <a:latin typeface="ZapfDingbats"/>
                          <a:ea typeface="ZapfDingbats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ccff"/>
                          </a:solidFill>
                          <a:latin typeface="Wingdings"/>
                          <a:ea typeface="Wingdings"/>
                        </a:rPr>
                        <a:t>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Wingdings"/>
                          <a:ea typeface="Wingdings"/>
                        </a:rPr>
                        <a:t>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5029200" y="2057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A02-4D05-41F8-8286-3DE4B4859CA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első számítógép adatformátum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den adat bináris számként van rögzít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rtelmezés alap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képes a műveletek végrehaj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ogramozási nyelvek adattípus támogatása az alkalmazások készítéséh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1DA-BC71-4CA7-9FCC-C7A43DE464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t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gyszerű adattípu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ettő értékű változó vagy konstans, amelynek értéke igaz vagy h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áltozó vagy konstans, amelynek értéke alfanumerikus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umerated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(felsorol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használó által meghatározott adattípusok, a definícióban megadott értékeket veheti f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DayOfWeek = Mon, Tues, Wed, Thurs, Fri, Sat, S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zitív vagy negatív egész sz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 tizedespont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, amelyek érté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lyan nagy vagy kic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gy meghaladja a számítógép integer tárolási határ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9A50-BC26-42A4-8EF6-7AEF17FC09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első adat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fejezi a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put forrás összetettségé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ükséges feldolgozás módjá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timális ábrázolás szempontj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ontossá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felbontá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szerű fényké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emben eg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estmény-album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ömörsé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rolás és továbbítá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öbb adat szükséges a jobb pontossághoz és felbontásho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80"/>
                </a:solidFill>
                <a:latin typeface="Arial"/>
              </a:rPr>
              <a:t>Tömörítés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ábrázolás tömörebb formá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Metadata</a:t>
            </a:r>
            <a:r>
              <a:rPr b="0" i="1" lang="en-US" sz="1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, ami leírja vagy meghatározza az adat értelm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ódosítások egyszerűsödé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szerű audió szemben 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-Fi minőségű hangg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bványosí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80"/>
                </a:solidFill>
                <a:latin typeface="Arial"/>
              </a:rPr>
              <a:t>Szabadalmazott formátum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dattároláshoz és feldolgozásho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ordPerfect vs. Wo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Tényleges szabványo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abadalmazott szabványok az általánosan használt formákon alapul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ostScri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E23-1798-48D7-A1A3-286CEA8633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típusok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ad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tematikai számításokhoz használjá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sszead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von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orzá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sz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ípu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ész szám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artalmaz egy tizedespont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205-0CE6-4CC4-B37A-C6B8CED6B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dattípusok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lfanumeriku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fanumeriku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raktere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b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7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Írásjele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! ;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peciális karakterek: </a:t>
            </a: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$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jegy karakterek és szám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gyiket általános karakterként visszük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ítógép konvertálja számokká a számításokh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k: változók deklarálása számokként a programozó által (int fut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arakterként kezeli, ha szövegként kerül feldolgozás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ák:  telefonszámok, irányítószám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68A-7D17-49D1-90B7-06DFE2119E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lfanumerikus kód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tszőleges bit-sorozatok választása a karakterek ábrázolás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vetelmény: input és output eszköznek ismernie kell a kódol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náris szám értékének karakter ábrázolása összhangban van az abc-ben való elhelyezkedésé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segíti a rendezést és keresé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E46-9918-4474-95E6-758203F6C8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A 852-es kódlap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1523880"/>
            <a:ext cx="7772400" cy="4525920"/>
            <a:chOff x="914400" y="1523880"/>
            <a:chExt cx="7772400" cy="4525920"/>
          </a:xfrm>
        </p:grpSpPr>
        <p:pic>
          <p:nvPicPr>
            <p:cNvPr id="119" name="" descr=""/>
            <p:cNvPicPr/>
            <p:nvPr/>
          </p:nvPicPr>
          <p:blipFill>
            <a:blip r:embed="rId1"/>
            <a:stretch/>
          </p:blipFill>
          <p:spPr>
            <a:xfrm>
              <a:off x="914400" y="1523880"/>
              <a:ext cx="77724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 txBox="1"/>
            <p:nvPr/>
          </p:nvSpPr>
          <p:spPr>
            <a:xfrm>
              <a:off x="914400" y="1523880"/>
              <a:ext cx="77724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893-2966-4D97-AF72-70CC74F717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09:43:58Z</dcterms:modified>
  <cp:revision>349</cp:revision>
  <dc:subject/>
  <dc:title>CHAPTER 1: Computer Systems</dc:title>
</cp:coreProperties>
</file>