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82F8-8344-4CB7-8413-9B6D732A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6AF-9D06-4800-BCF6-DE1794ED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408-B1D6-4BBC-B7B0-223CF872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057-09FA-4C36-9475-19EDDE65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3458-D59F-4814-B89C-E09CE84C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31AB-62AD-4F89-93E5-A71A921C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5DE-6272-4F5B-93B3-6F317C2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244D-2848-49ED-B765-0940882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CF3D-90E0-40E9-8662-F09B6F07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C388-B305-4E22-942D-80D6B4FB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60D2-B65B-4727-A995-610F9DBC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AA96-DDA8-49AC-804A-754D77C7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F1CD-A531-492F-BABD-348DA037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F79F-DE51-4E06-859A-E2437BB8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B98C-6375-409E-AC1C-AD028D23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404B-754A-4B5B-8D84-2D3243DC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6128-10E0-46AA-89A7-5817A3D6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C340-6E90-4509-9851-4D39FD39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F1A-BF60-414D-A3E4-5F0DBE20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639A-C847-4CA4-BCFA-AEC2DC5D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6BB-06B9-446B-836A-7255AD10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C85-A1E6-4A96-BE1C-81D7DD4E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3F8-9A16-4FD3-B6E3-1F2C465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10F-D08F-42C3-96B2-243A64DD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 5. - Lebegőpontos számo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5-</a:t>
            </a:r>
            <a:fld id="{F4A28657-A092-4719-AB31-2C73A7DDB4AA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566E-4CCB-4658-BCF7-183E96FEF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5</a:t>
            </a: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400"/>
            </a:b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Lebegőpontos számok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élda 3: - 0.00000075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14400" y="1676520"/>
          <a:ext cx="7931160" cy="3611520"/>
        </p:xfrm>
        <a:graphic>
          <a:graphicData uri="http://schemas.openxmlformats.org/drawingml/2006/table">
            <a:tbl>
              <a:tblPr/>
              <a:tblGrid>
                <a:gridCol w="4724280"/>
                <a:gridCol w="3206880"/>
              </a:tblGrid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1760" indent="-401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enciális jelölé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0000007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zedespont a helyé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 alakra hoz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7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hozzáadása az 5 jegyh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7500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átalakít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4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9205-354B-4AD8-8B45-8056DA23D8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talakítás példá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90720" y="1752480"/>
          <a:ext cx="7561080" cy="4525920"/>
        </p:xfrm>
        <a:graphic>
          <a:graphicData uri="http://schemas.openxmlformats.org/drawingml/2006/table">
            <a:tbl>
              <a:tblPr/>
              <a:tblGrid>
                <a:gridCol w="1771560"/>
                <a:gridCol w="392040"/>
                <a:gridCol w="2838600"/>
                <a:gridCol w="392040"/>
                <a:gridCol w="21668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45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567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8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0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555</a:t>
                      </a:r>
                      <a:r>
                        <a:rPr b="0" lang="hu-H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55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5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9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000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BF7-B707-4521-8063-0855DCF113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Normál alakra ho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01760" indent="-40176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oljuk el balra a számokat növelve a kitevőt, míg a kezdő nullák el nem tűn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1760" indent="-401760">
              <a:lnSpc>
                <a:spcPct val="8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cimális számok konvertálása általános formá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ássuk el számmal a kitevő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még nincs meghatároz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öveljük/csökkentsük a kitevő értékét a tizedes pont eltolásával a helyes irány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sük a kitevőt, hogy eltüntessük a nullákat a mantisszábó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87280">
              <a:lnSpc>
                <a:spcPct val="80000"/>
              </a:lnSpc>
              <a:spcBef>
                <a:spcPts val="601"/>
              </a:spcBef>
              <a:buClr>
                <a:srgbClr val="ff9f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avítsunk a pontosságon 0-kat írva vagy elhagyva/kerekítve a kevésbé fontos számjegyekn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FCD-4A2A-4003-8369-F2B3A294B7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Lebegőpont a számítógépben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69343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ipikus lebegőpontos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32 biten a mérete ~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-38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tól 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+38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ig terj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8 bites kitevő = 256 sz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xcess-128 jelö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3/24 bites mantissza: körülbelül 7 decimális jegy pontosság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09680" y="3886200"/>
            <a:ext cx="448020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58F6-0D25-409F-AA23-116178267C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Lebegőpont a számítógépben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838080" y="1523880"/>
          <a:ext cx="8458200" cy="4689720"/>
        </p:xfrm>
        <a:graphic>
          <a:graphicData uri="http://schemas.openxmlformats.org/drawingml/2006/table">
            <a:tbl>
              <a:tblPr/>
              <a:tblGrid>
                <a:gridCol w="492120"/>
                <a:gridCol w="2054520"/>
                <a:gridCol w="5911560"/>
              </a:tblGrid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Excess-128 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mantissza előj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ntis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 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00 1100 0000 0000 0000 000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01 1000 0000 0000 00 </a:t>
                      </a:r>
                      <a:r>
                        <a:rPr b="1" lang="hu-HU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zaz: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1" lang="hu-HU" sz="20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 0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0 0111 1000 0000 00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.0111 1000 0000 0000 000 </a:t>
                      </a:r>
                      <a:r>
                        <a:rPr b="1" lang="hu-HU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zaz: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1" lang="hu-HU" sz="20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+</a:t>
                      </a:r>
                      <a:r>
                        <a:rPr b="1" lang="hu-HU" sz="20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 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10 1010 1010 1010 10101 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0 1010 1010 1010 1010 1</a:t>
                      </a:r>
                      <a:r>
                        <a:rPr b="1" lang="hu-HU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zaz: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hu-HU" sz="2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1" lang="hu-HU" sz="20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20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F27D-091D-4838-900E-641D1D9B53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IEEE 754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abvány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066680" y="1523880"/>
          <a:ext cx="7543800" cy="4606920"/>
        </p:xfrm>
        <a:graphic>
          <a:graphicData uri="http://schemas.openxmlformats.org/drawingml/2006/table">
            <a:tbl>
              <a:tblPr/>
              <a:tblGrid>
                <a:gridCol w="2667240"/>
                <a:gridCol w="2361960"/>
                <a:gridCol w="2514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ntossá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yszerű</a:t>
                      </a:r>
                      <a:br>
                        <a:rPr sz="2000"/>
                      </a:b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2 b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pla </a:t>
                      </a:r>
                      <a:br>
                        <a:rPr sz="2000"/>
                      </a:b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64 bi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őj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lölé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-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ess-1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ató a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jede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6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ól 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022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ől 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023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is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 pontossá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8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hatá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ól 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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00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ól 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0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9D02-394D-4ECD-98C3-4EF715A3BE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IEEE 754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abvány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begő pontos érték definí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066680" y="2133720"/>
          <a:ext cx="7314840" cy="3809520"/>
        </p:xfrm>
        <a:graphic>
          <a:graphicData uri="http://schemas.openxmlformats.org/drawingml/2006/table">
            <a:tbl>
              <a:tblPr/>
              <a:tblGrid>
                <a:gridCol w="1850760"/>
                <a:gridCol w="2820240"/>
                <a:gridCol w="2643840"/>
              </a:tblGrid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tis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rté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99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26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0.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r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2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(E-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27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x 1.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ális e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99"/>
                      </a:solidFill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24F-636B-49B8-96DB-8AA8A77C15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Átalakítás</a:t>
            </a:r>
            <a:r>
              <a:rPr b="1" lang="en-US" sz="3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10-es és 2-es alap</a:t>
            </a:r>
            <a:endParaRPr b="1" lang="en-US" sz="3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lép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ok egész és tört részét külön kell átalakítani, beágyazott tizedes vagy bináris pont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átalakítás végrehajtása előtt az exponenciális alakban lévő számokat vissza kell alakítani egyszerű decimális vagy bináris kevert számmá vagy tört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32F-A964-492D-B492-D7636D374C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Átalakítás</a:t>
            </a:r>
            <a:r>
              <a:rPr b="1" lang="en-US" sz="38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10-es és 2-es alap</a:t>
            </a:r>
            <a:endParaRPr b="1" lang="en-US" sz="3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3.7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átalakítása bináris lebegőpontos formá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14400" y="2611440"/>
          <a:ext cx="7924680" cy="3332160"/>
        </p:xfrm>
        <a:graphic>
          <a:graphicData uri="http://schemas.openxmlformats.org/drawingml/2006/table">
            <a:tbl>
              <a:tblPr/>
              <a:tblGrid>
                <a:gridCol w="3573360"/>
                <a:gridCol w="43513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szorzása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00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z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3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ssá alakít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0011 0001 1111 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gy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.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0 1100 0111</a:t>
                      </a:r>
                      <a:r>
                        <a:rPr b="0" lang="en-US" sz="2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2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brázolá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0</a:t>
                      </a:r>
                      <a:r>
                        <a:rPr b="0" lang="hu-HU" sz="22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10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11</a:t>
                      </a:r>
                      <a:r>
                        <a:rPr b="0" lang="hu-HU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01</a:t>
                      </a:r>
                      <a:r>
                        <a:rPr b="0" lang="hu-HU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spcBef>
                          <a:spcPts val="55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redeti decimális értéket visszakapjuk, ha elvégzünk egy 100</a:t>
                      </a:r>
                      <a:r>
                        <a:rPr b="0" lang="hu-HU" sz="2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hu-H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zal való osztást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7391520" y="4343400"/>
            <a:ext cx="1562040" cy="609480"/>
          </a:xfrm>
          <a:prstGeom prst="borderCallout1">
            <a:avLst>
              <a:gd name="adj1" fmla="val 18750"/>
              <a:gd name="adj2" fmla="val -8333"/>
              <a:gd name="adj3" fmla="val -20833"/>
              <a:gd name="adj4" fmla="val -14532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419720"/>
            <a:ext cx="2514600" cy="642600"/>
          </a:xfrm>
          <a:prstGeom prst="rect">
            <a:avLst/>
          </a:prstGeom>
          <a:noFill/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9f11"/>
                </a:solidFill>
                <a:latin typeface="Arial"/>
              </a:rPr>
              <a:t>Excess-127 kitevő = 127 + </a:t>
            </a:r>
            <a:r>
              <a:rPr b="1" lang="hu-HU" sz="1800" spc="-1" strike="noStrike">
                <a:solidFill>
                  <a:srgbClr val="ff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67480" y="44956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Arial"/>
              </a:rPr>
              <a:t>mant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441972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40106"/>
              <a:gd name="adj4" fmla="val 248263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45720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d1313"/>
                </a:solidFill>
                <a:latin typeface="Arial"/>
              </a:rPr>
              <a:t>Előj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486400" y="4190760"/>
            <a:ext cx="76320" cy="228600"/>
          </a:xfrm>
          <a:prstGeom prst="line">
            <a:avLst/>
          </a:prstGeom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D67-949F-427D-B8F0-F6701276D6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Excess</a:t>
            </a:r>
            <a:r>
              <a:rPr b="1" lang="hu-HU" sz="3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3800" spc="-1" strike="noStrike">
                <a:solidFill>
                  <a:srgbClr val="000080"/>
                </a:solidFill>
                <a:latin typeface="Arial"/>
              </a:rPr>
              <a:t>128-as illetve 127-es alak</a:t>
            </a:r>
            <a:endParaRPr b="1" lang="en-US" sz="3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28-as eset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di kitevő = szimbolikus kitevő - 1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27-es eseté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di kitevő = szimbolikus kitevő - 128+1 aza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lódi kitevő = szimbolikus kitevő - 1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198-47C7-4E3F-A273-7CB4FAB47F4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Lebegőpontos számo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ós szá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kkor használjuk a számítógépeknél,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ívül esik a számítógép integer határá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 kicsi vagy túl nag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zedes törtet tartalma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028-498E-428F-B81D-91C22864C9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Excess</a:t>
            </a:r>
            <a:r>
              <a:rPr b="1" lang="hu-HU" sz="3200" spc="-1" strike="noStrike">
                <a:solidFill>
                  <a:srgbClr val="000080"/>
                </a:solidFill>
                <a:latin typeface="Arial"/>
              </a:rPr>
              <a:t> 128-as illetve 127-es al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, ha a pozitív szimbolikus kitev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000 000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kko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9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0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as alak eseté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9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1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+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k eset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ául, ha a negatív szimbolikus kitevő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111 111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kkor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6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0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as alak eseté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k = 126 -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=&gt; (1.M * 2</a:t>
            </a:r>
            <a:r>
              <a:rPr b="0" lang="hu-HU" sz="2400" spc="-1" strike="noStrike" baseline="30000">
                <a:solidFill>
                  <a:srgbClr val="ff00ff"/>
                </a:solidFill>
                <a:latin typeface="Arial"/>
              </a:rPr>
              <a:t>-</a:t>
            </a:r>
            <a:r>
              <a:rPr b="0" lang="hu-HU" sz="24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 12</a:t>
            </a:r>
            <a:r>
              <a:rPr b="0" lang="hu-HU" sz="24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k eseté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B38C-4467-4CC1-BD46-8E569DDFDC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mörített decimális for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1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llárok és centek ábrázolása valós számokk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lalat-orientált nyelvek támogatják, mint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 370/39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aq Alp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5089680" cy="21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AC91-9FFF-437A-8168-4FC2CD3E75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Programozási megfontolá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er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ny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zámítógép könnyebben haszná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ecíze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a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ebb tárhely és idő igé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egtöbb magas szintű nyelv kettő vagy több formát szolgál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övid egés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6 bi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sszú egés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4 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14F9-0F3A-4A3A-A8F1-BE380103B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Programozási megfontolá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alós szám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áltozónak vagy konstansnak van tört rés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agyon kicsi vagy nagyon nagy értékű számok kívül esnek az integer ábrázolási határ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program lehet, hogy nem lesz elég precíz a feladat végrehajtásá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mörített decimális számábrázolás vonzóbb a vállalati alkalmazások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A80C-5FE2-437B-96EE-4FF0A1B913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xponenciális jelölé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ívják még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tudományos jelölésnek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4 alkotóelem kell egy szám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jel (pl.: ”+”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 vagy </a:t>
            </a:r>
            <a:r>
              <a:rPr b="0" i="1" lang="hu-HU" sz="2000" spc="-1" strike="noStrike">
                <a:solidFill>
                  <a:srgbClr val="000099"/>
                </a:solidFill>
                <a:latin typeface="Arial"/>
              </a:rPr>
              <a:t>mantissz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 (pl.: 1234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tevő előjele (pl.: ”+” a 10</a:t>
            </a:r>
            <a:r>
              <a:rPr b="0" lang="hu-HU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-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tevő értéke (pl.: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lu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itevő alapja (pl.: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3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izedesvessző helye (vagy más bázisé) alap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00200" y="1981080"/>
          <a:ext cx="5638680" cy="911520"/>
        </p:xfrm>
        <a:graphic>
          <a:graphicData uri="http://schemas.openxmlformats.org/drawingml/2006/table">
            <a:tbl>
              <a:tblPr/>
              <a:tblGrid>
                <a:gridCol w="2514600"/>
                <a:gridCol w="3124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7280" indent="-287280"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345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450000 x 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5053-9390-49DF-88F1-F8E69AECF4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abályok összegzés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1981080"/>
          <a:ext cx="7848720" cy="2957760"/>
        </p:xfrm>
        <a:graphic>
          <a:graphicData uri="http://schemas.openxmlformats.org/drawingml/2006/table">
            <a:tbl>
              <a:tblPr/>
              <a:tblGrid>
                <a:gridCol w="1962000"/>
                <a:gridCol w="1963800"/>
                <a:gridCol w="1960560"/>
                <a:gridCol w="1962360"/>
              </a:tblGrid>
              <a:tr h="521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Mantissza előj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Kitevő előj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4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</a:t>
                      </a:r>
                      <a:r>
                        <a:rPr b="1" lang="hu-HU" sz="3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5790</a:t>
                      </a:r>
                      <a:r>
                        <a:rPr b="0" lang="hu-H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 </a:t>
                      </a:r>
                      <a:r>
                        <a:rPr b="1" lang="hu-H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hu-HU" sz="3600" spc="-1" strike="noStrike" baseline="30000">
                          <a:solidFill>
                            <a:srgbClr val="ff00ff"/>
                          </a:solidFill>
                          <a:latin typeface="Arial"/>
                        </a:rPr>
                        <a:t>-</a:t>
                      </a:r>
                      <a:r>
                        <a:rPr b="1" lang="hu-HU" sz="3600" spc="-1" strike="noStrike" baseline="30000">
                          <a:solidFill>
                            <a:srgbClr val="ff9f11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zedes-vessző hel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antis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Kitev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1981080" y="2438280"/>
            <a:ext cx="4876920" cy="1371240"/>
            <a:chOff x="1981080" y="2438280"/>
            <a:chExt cx="4876920" cy="1371240"/>
          </a:xfrm>
        </p:grpSpPr>
        <p:sp>
          <p:nvSpPr>
            <p:cNvPr id="98" name=""/>
            <p:cNvSpPr/>
            <p:nvPr/>
          </p:nvSpPr>
          <p:spPr>
            <a:xfrm>
              <a:off x="1981080" y="2514600"/>
              <a:ext cx="1143000" cy="533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095520" y="2438280"/>
              <a:ext cx="304920" cy="38124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6324480" y="3124080"/>
              <a:ext cx="533520" cy="533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790960" y="3276360"/>
              <a:ext cx="7632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809880" y="3276720"/>
              <a:ext cx="533520" cy="4572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2514600" y="3276360"/>
              <a:ext cx="114300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7F4C-C6C6-4EE8-9878-42091B2103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Formai leír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lőre definiált fo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ltalában 8 b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növelt értékhatá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jegyű kitev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isebb pontosság árá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ötjegyű mantiss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066680" y="3657600"/>
          <a:ext cx="7134120" cy="2200320"/>
        </p:xfrm>
        <a:graphic>
          <a:graphicData uri="http://schemas.openxmlformats.org/drawingml/2006/table">
            <a:tbl>
              <a:tblPr/>
              <a:tblGrid>
                <a:gridCol w="3468600"/>
                <a:gridCol w="366552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Mantissza elője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4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E</a:t>
                      </a:r>
                      <a:r>
                        <a:rPr b="1" lang="en-US" sz="4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MMMMM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 jegyű kitev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 jegyű mantis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2286000" y="4114800"/>
            <a:ext cx="4114440" cy="1295280"/>
            <a:chOff x="2286000" y="4114800"/>
            <a:chExt cx="4114440" cy="1295280"/>
          </a:xfrm>
        </p:grpSpPr>
        <p:sp>
          <p:nvSpPr>
            <p:cNvPr id="108" name=""/>
            <p:cNvSpPr/>
            <p:nvPr/>
          </p:nvSpPr>
          <p:spPr>
            <a:xfrm>
              <a:off x="2286000" y="4114800"/>
              <a:ext cx="60948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5333760" y="5029200"/>
              <a:ext cx="1066680" cy="3808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666880" y="4952880"/>
              <a:ext cx="1067040" cy="3808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7C3-2F6C-4C90-9681-D501F15750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For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antissza: előjel karakter az előjel-érték formá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zedespont a mantissza elején helyezkedik 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xcess-N jelölés: komplemens ábráz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gyük az eltolást a középértéknek, ahol N a közép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4952880"/>
          <a:ext cx="7640640" cy="1239840"/>
        </p:xfrm>
        <a:graphic>
          <a:graphicData uri="http://schemas.openxmlformats.org/drawingml/2006/table">
            <a:tbl>
              <a:tblPr/>
              <a:tblGrid>
                <a:gridCol w="3373200"/>
                <a:gridCol w="1140120"/>
                <a:gridCol w="1101600"/>
                <a:gridCol w="927000"/>
                <a:gridCol w="109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brázolá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brázolt kitev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</a:t>
                      </a: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1872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   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övekvő érték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724280" y="6095880"/>
            <a:ext cx="4038840" cy="0"/>
          </a:xfrm>
          <a:prstGeom prst="line">
            <a:avLst/>
          </a:prstGeom>
          <a:ln w="316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708-6470-4E21-A6BD-74F2686E7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Túlcsordulás és alulcsordulá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kkor fordul elő, ha az adott számábrázolást tekintve túl kicsi vagy túl nagy számokat szeretnénk keze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3048120"/>
            <a:ext cx="6096240" cy="1541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4236-3DDF-467A-9393-E544BDE85C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élda 1: 246.8035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14400" y="1752480"/>
          <a:ext cx="7931160" cy="3946680"/>
        </p:xfrm>
        <a:graphic>
          <a:graphicData uri="http://schemas.openxmlformats.org/drawingml/2006/table">
            <a:tbl>
              <a:tblPr/>
              <a:tblGrid>
                <a:gridCol w="4044960"/>
                <a:gridCol w="388620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Adjunk kitevő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.8035 x 10</a:t>
                      </a:r>
                      <a:r>
                        <a:rPr b="0" lang="hu-H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Pozícionáljuk a tizedesvesszőt a normál alakho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68035 x 10</a:t>
                      </a:r>
                      <a:r>
                        <a:rPr b="0" lang="hu-H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Vágjuk le 5 jegyű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24680 x 10</a:t>
                      </a:r>
                      <a:r>
                        <a:rPr b="0" lang="hu-HU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zám átalakítá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3</a:t>
                      </a:r>
                      <a:r>
                        <a:rPr b="0" lang="hu-HU" sz="24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4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14600" y="5410080"/>
            <a:ext cx="2666880" cy="609840"/>
          </a:xfrm>
          <a:prstGeom prst="borderCallout1">
            <a:avLst>
              <a:gd name="adj1" fmla="val 18750"/>
              <a:gd name="adj2" fmla="val -8333"/>
              <a:gd name="adj3" fmla="val -147657"/>
              <a:gd name="adj4" fmla="val 15309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86400" y="5410080"/>
            <a:ext cx="1562040" cy="609840"/>
          </a:xfrm>
          <a:prstGeom prst="borderCallout1">
            <a:avLst>
              <a:gd name="adj1" fmla="val 18750"/>
              <a:gd name="adj2" fmla="val -8333"/>
              <a:gd name="adj3" fmla="val -146092"/>
              <a:gd name="adj4" fmla="val 113921"/>
            </a:avLst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648320"/>
            <a:ext cx="1066680" cy="609480"/>
          </a:xfrm>
          <a:prstGeom prst="borderCallout1">
            <a:avLst>
              <a:gd name="adj1" fmla="val 18750"/>
              <a:gd name="adj2" fmla="val -8333"/>
              <a:gd name="adj3" fmla="val -42967"/>
              <a:gd name="adj4" fmla="val 229912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4800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d1313"/>
                </a:solidFill>
                <a:latin typeface="Arial"/>
              </a:rPr>
              <a:t>Előj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9f11"/>
                </a:solidFill>
                <a:latin typeface="Arial"/>
              </a:rPr>
              <a:t>Excess-50 kitev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62720" y="5486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80"/>
                </a:solidFill>
                <a:latin typeface="Arial"/>
              </a:rPr>
              <a:t>Mantiss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1D40-E8BD-4669-8C42-255A2DC34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Példa 2: 1255 x 10</a:t>
            </a:r>
            <a:r>
              <a:rPr b="1" lang="hu-HU" sz="4400" spc="-1" strike="noStrike" baseline="30000">
                <a:solidFill>
                  <a:srgbClr val="000080"/>
                </a:solidFill>
                <a:latin typeface="Arial"/>
              </a:rPr>
              <a:t>-3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676520"/>
          <a:ext cx="7931160" cy="4022640"/>
        </p:xfrm>
        <a:graphic>
          <a:graphicData uri="http://schemas.openxmlformats.org/drawingml/2006/table">
            <a:tbl>
              <a:tblPr/>
              <a:tblGrid>
                <a:gridCol w="5105520"/>
                <a:gridCol w="282564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01760" indent="-401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r exponenciális formáj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ícionáljuk a tizedesvessző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125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ál alak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unk hozzá 0-t az 5 jegyh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55 x 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átalakítá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d1313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1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85DC-FE8C-48E0-9828-10D0964F3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10:42:42Z</dcterms:modified>
  <cp:revision>144</cp:revision>
  <dc:subject/>
  <dc:title>CHAPTER 1: Computer Systems</dc:title>
</cp:coreProperties>
</file>