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96E-BDDF-4C94-B5A0-7A71B95C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1A5-6547-4122-9D6A-C3994FE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769-55C6-440A-BC1C-4487B4E4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DDC-FA02-459A-8FE8-5EBDE1D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5EBC-2D1C-4245-88BF-3E7481DC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61C5-93AB-43A5-ADAC-21A266DB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3B29-6329-4526-BB7B-DB3A8A6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C141-6A01-4E77-92DA-93D1F0A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174-DBA9-4555-9BBD-CCEC84F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F0CA-9B2C-47F9-B95A-1FA59AC5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032A-328D-46FE-9544-CC4F853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D90-1446-4F2F-962E-34055A7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5DE-ECED-44E0-B28F-BA3C82B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EC80-A3CF-4DFD-BC6A-5277294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DFE-834B-4551-A08F-3D51CDF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727-40F7-4466-A776-AAD8D747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0D2-7B09-4F88-8C70-B924561C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353-AA7D-4B51-B7AB-F03F37C2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E3A-8E04-4709-AECF-FA5A71EB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B99-E915-4962-A327-0A23CDE8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E30-815A-44EB-A5CB-EA80BB7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D35-AB89-44A8-A7CA-DEBCD7B9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D39-88BF-4A1B-ACB9-7671F1B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E33-7AB0-4FA0-BC88-EAD93740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 2 </a:t>
            </a: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számrendszer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2-</a:t>
            </a:r>
            <a:fld id="{F62D281E-16B7-4C17-A511-9318A1B30DAE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F11-6BE6-41D1-B787-239A384C3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2</a:t>
            </a: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400"/>
            </a:b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Számrendszere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exadecimáli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6</a:t>
            </a:r>
            <a:r>
              <a:rPr b="1" lang="hu-HU" sz="3200" spc="-1" strike="noStrike">
                <a:solidFill>
                  <a:srgbClr val="00008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704</a:t>
            </a:r>
            <a:r>
              <a:rPr b="1" lang="en-US" sz="3200" spc="-1" strike="noStrike" baseline="-25000">
                <a:solidFill>
                  <a:srgbClr val="00008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26</a:t>
            </a:r>
            <a:r>
              <a:rPr b="1" lang="hu-HU" sz="3200" spc="-1" strike="noStrike">
                <a:solidFill>
                  <a:srgbClr val="ff9f1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372</a:t>
            </a:r>
            <a:r>
              <a:rPr b="1" lang="en-US" sz="32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81080" y="3200400"/>
          <a:ext cx="5791320" cy="259092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170000"/>
                <a:gridCol w="1116000"/>
                <a:gridCol w="1143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 x  4</a:t>
                      </a: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 x 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x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Decimális 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4</a:t>
                      </a: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1447920" y="2133720"/>
            <a:ext cx="2286000" cy="1280880"/>
            <a:chOff x="1447920" y="2133720"/>
            <a:chExt cx="2286000" cy="1280880"/>
          </a:xfrm>
        </p:grpSpPr>
        <p:sp>
          <p:nvSpPr>
            <p:cNvPr id="144" name=""/>
            <p:cNvSpPr/>
            <p:nvPr/>
          </p:nvSpPr>
          <p:spPr>
            <a:xfrm>
              <a:off x="2438640" y="243828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2133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096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o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124080" y="2133720"/>
            <a:ext cx="1981080" cy="1280520"/>
            <a:chOff x="3124080" y="2133720"/>
            <a:chExt cx="1981080" cy="1280520"/>
          </a:xfrm>
        </p:grpSpPr>
        <p:sp>
          <p:nvSpPr>
            <p:cNvPr id="147" name=""/>
            <p:cNvSpPr/>
            <p:nvPr/>
          </p:nvSpPr>
          <p:spPr>
            <a:xfrm>
              <a:off x="3809880" y="2438280"/>
              <a:ext cx="1295280" cy="975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256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o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162920" y="2133720"/>
            <a:ext cx="1675800" cy="1280520"/>
            <a:chOff x="7162920" y="2133720"/>
            <a:chExt cx="1675800" cy="1280520"/>
          </a:xfrm>
        </p:grpSpPr>
        <p:sp>
          <p:nvSpPr>
            <p:cNvPr id="150" name=""/>
            <p:cNvSpPr/>
            <p:nvPr/>
          </p:nvSpPr>
          <p:spPr>
            <a:xfrm flipH="1">
              <a:off x="7162920" y="2438280"/>
              <a:ext cx="1218960" cy="97596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44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4640" y="2133720"/>
            <a:ext cx="1676880" cy="1280520"/>
            <a:chOff x="5714640" y="2133720"/>
            <a:chExt cx="1676880" cy="1280520"/>
          </a:xfrm>
        </p:grpSpPr>
        <p:sp>
          <p:nvSpPr>
            <p:cNvPr id="153" name=""/>
            <p:cNvSpPr/>
            <p:nvPr/>
          </p:nvSpPr>
          <p:spPr>
            <a:xfrm flipH="1">
              <a:off x="5714280" y="2438280"/>
              <a:ext cx="1219320" cy="9759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21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16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o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C3C-3004-4B8A-9646-3BCA8DCF44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inári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2590920"/>
          <a:ext cx="7772400" cy="3203280"/>
        </p:xfrm>
        <a:graphic>
          <a:graphicData uri="http://schemas.openxmlformats.org/drawingml/2006/table">
            <a:tbl>
              <a:tblPr/>
              <a:tblGrid>
                <a:gridCol w="1295280"/>
                <a:gridCol w="831960"/>
                <a:gridCol w="822240"/>
                <a:gridCol w="897120"/>
                <a:gridCol w="820800"/>
                <a:gridCol w="822240"/>
                <a:gridCol w="747720"/>
                <a:gridCol w="822240"/>
                <a:gridCol w="712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Decimális 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838080" y="1600200"/>
            <a:ext cx="7772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ahoma"/>
              </a:rPr>
              <a:t>1101 0110</a:t>
            </a:r>
            <a:r>
              <a:rPr b="1" lang="en-US" sz="3200" spc="-1" strike="noStrike" baseline="-25000">
                <a:solidFill>
                  <a:srgbClr val="000080"/>
                </a:solidFill>
                <a:latin typeface="Tahoma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ff9f11"/>
                </a:solidFill>
                <a:latin typeface="Tahoma"/>
              </a:rPr>
              <a:t>214</a:t>
            </a:r>
            <a:r>
              <a:rPr b="0" lang="en-US" sz="3200" spc="-1" strike="noStrike" baseline="-25000">
                <a:solidFill>
                  <a:srgbClr val="ff9f11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ff9f1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274-5EA3-4949-A3D9-48513545ED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brázolható értékek szá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h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brázolható értékek szám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rendszer alapja (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jegy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Pél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j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10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8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szá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…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él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6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j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5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6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4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 65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6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értéket képes táro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610-4632-47CD-B6E2-705850EB20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ek d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cimális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erjedelm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1600200"/>
          <a:ext cx="6095880" cy="4419720"/>
        </p:xfrm>
        <a:graphic>
          <a:graphicData uri="http://schemas.openxmlformats.org/drawingml/2006/table">
            <a:tbl>
              <a:tblPr/>
              <a:tblGrid>
                <a:gridCol w="907920"/>
                <a:gridCol w="1801800"/>
                <a:gridCol w="338616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</a:t>
                      </a: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jegy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ede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514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941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0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0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4 (1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 (64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8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(1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(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6 x 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[exa]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319-45D6-43B4-8DBF-B85911DC8B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ámrendszer alapja </a:t>
            </a:r>
            <a:br>
              <a:rPr sz="4000"/>
            </a:b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(base, radix)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mrendszerben számábrázoláshoz szükséges szimbólumo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nagyo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tö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jegyet igény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3,4,5,6,7,8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a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3,4,5,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o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3,4,5,6,7,8,9,A,B,C,D,E,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BDB-F0CE-4B2B-A726-3383F6A533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imbólumok száma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vs.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jegyek szá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adott szám ábrázolásához a </a:t>
            </a: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nagyob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lap eset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töb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imbólum szük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keveseb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ámjegy k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Péld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10 0101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1C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84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34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 0001 1100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DBF-EAAA-4E12-8001-62507AC37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olás 2-es alappa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14400" y="1447920"/>
          <a:ext cx="7772400" cy="47196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áris 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yen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 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77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aso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ese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ese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ese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3EA-5AD4-406B-B78B-A46F1EEE20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ú összeadó 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905120"/>
          <a:ext cx="7010280" cy="4282920"/>
        </p:xfrm>
        <a:graphic>
          <a:graphicData uri="http://schemas.openxmlformats.org/drawingml/2006/table">
            <a:tbl>
              <a:tblPr/>
              <a:tblGrid>
                <a:gridCol w="616680"/>
                <a:gridCol w="600840"/>
                <a:gridCol w="636120"/>
                <a:gridCol w="581760"/>
                <a:gridCol w="684720"/>
                <a:gridCol w="586800"/>
                <a:gridCol w="619920"/>
                <a:gridCol w="619920"/>
                <a:gridCol w="615240"/>
                <a:gridCol w="618480"/>
                <a:gridCol w="616680"/>
                <a:gridCol w="216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990720" y="14479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+ 6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= 9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455-A3D3-4EC7-A0F5-50777BB94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ú összeadó 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3880" y="1981080"/>
          <a:ext cx="5773680" cy="4054680"/>
        </p:xfrm>
        <a:graphic>
          <a:graphicData uri="http://schemas.openxmlformats.org/drawingml/2006/table">
            <a:tbl>
              <a:tblPr/>
              <a:tblGrid>
                <a:gridCol w="616680"/>
                <a:gridCol w="619560"/>
                <a:gridCol w="616320"/>
                <a:gridCol w="581760"/>
                <a:gridCol w="654480"/>
                <a:gridCol w="616320"/>
                <a:gridCol w="619560"/>
                <a:gridCol w="616680"/>
                <a:gridCol w="618120"/>
                <a:gridCol w="21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990720" y="1523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+ 6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11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31240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természete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763-ECB4-4027-897C-2C08FC0F6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ú szorzó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981080"/>
          <a:ext cx="7012080" cy="4511880"/>
        </p:xfrm>
        <a:graphic>
          <a:graphicData uri="http://schemas.openxmlformats.org/drawingml/2006/table">
            <a:tbl>
              <a:tblPr/>
              <a:tblGrid>
                <a:gridCol w="617040"/>
                <a:gridCol w="619920"/>
                <a:gridCol w="616680"/>
                <a:gridCol w="582120"/>
                <a:gridCol w="654840"/>
                <a:gridCol w="616680"/>
                <a:gridCol w="619920"/>
                <a:gridCol w="617040"/>
                <a:gridCol w="618480"/>
                <a:gridCol w="618120"/>
                <a:gridCol w="618480"/>
                <a:gridCol w="21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990720" y="1523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x 6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= 18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0496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648320"/>
            <a:ext cx="0" cy="60948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590920" y="3428640"/>
            <a:ext cx="0" cy="76212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993-9896-4D47-AB45-4F31202377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Miért binári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rai számítógépek decimális számábrázolást használt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rk I és EN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umann János javasolta a bináris számábrázolást 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szerűbb a számítógépek megvaló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asítások és adatok tárolásához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t egyaránt használj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mészetes kapcsola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állású kapcsolók és Bool logi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k, ill. műveletek közö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0" y="3809880"/>
          <a:ext cx="6462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809880"/>
                    <a:ext cx="646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924680" y="3809880"/>
          <a:ext cx="646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3809880"/>
                    <a:ext cx="646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705720" y="3733920"/>
          <a:ext cx="2057400" cy="248760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DD0-D949-4DDA-8729-1BF758968D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ú szorzó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981080"/>
          <a:ext cx="5773680" cy="4054680"/>
        </p:xfrm>
        <a:graphic>
          <a:graphicData uri="http://schemas.openxmlformats.org/drawingml/2006/table">
            <a:tbl>
              <a:tblPr/>
              <a:tblGrid>
                <a:gridCol w="616680"/>
                <a:gridCol w="619560"/>
                <a:gridCol w="616320"/>
                <a:gridCol w="581760"/>
                <a:gridCol w="654480"/>
                <a:gridCol w="616320"/>
                <a:gridCol w="619560"/>
                <a:gridCol w="616680"/>
                <a:gridCol w="618120"/>
                <a:gridCol w="21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990720" y="1523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x 6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22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0496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590920" y="3123720"/>
            <a:ext cx="0" cy="68580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343400"/>
            <a:ext cx="0" cy="60948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906-50EA-4392-835B-D7230501D4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ad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371600" y="1676520"/>
          <a:ext cx="6553080" cy="396216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342900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a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nagyobb egyjegyű sz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8E6-A6C1-4FFA-A027-AE32D62D3E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ad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752480"/>
          <a:ext cx="6629040" cy="3692520"/>
        </p:xfrm>
        <a:graphic>
          <a:graphicData uri="http://schemas.openxmlformats.org/drawingml/2006/table">
            <a:tbl>
              <a:tblPr/>
              <a:tblGrid>
                <a:gridCol w="1932120"/>
                <a:gridCol w="1333800"/>
                <a:gridCol w="1906200"/>
                <a:gridCol w="145692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a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tvi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A2D-B847-49E4-80E8-348833C97E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aritmetik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2057400"/>
          <a:ext cx="6476760" cy="23194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  <a:gridCol w="809280"/>
                <a:gridCol w="809640"/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F2D-A0F1-4D0D-AF3E-976E889048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aritmetik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ool XOR-t és AND-e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or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ift (eltol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950000" y="1981080"/>
          <a:ext cx="3438360" cy="1812960"/>
        </p:xfrm>
        <a:graphic>
          <a:graphicData uri="http://schemas.openxmlformats.org/drawingml/2006/table">
            <a:tbl>
              <a:tblPr/>
              <a:tblGrid>
                <a:gridCol w="1145880"/>
                <a:gridCol w="1146240"/>
                <a:gridCol w="114624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952880" y="4114800"/>
          <a:ext cx="3429000" cy="17812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74C-8E8F-48CC-A358-CE083F89C2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000080"/>
                </a:solidFill>
                <a:latin typeface="Arial"/>
              </a:rPr>
              <a:t>Bináris aritmetika: Bool logika</a:t>
            </a:r>
            <a:endParaRPr b="1" lang="en-US" sz="4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ool logika véges aritmetika nélk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EXCLUSIVE-OR (kizáró va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” az output ha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indegyik bemenet értéke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99"/>
                </a:solidFill>
                <a:latin typeface="Arial"/>
              </a:rPr>
              <a:t>AND (carry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” az output ha mindegyik bemenet értéke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3880" y="3505320"/>
          <a:ext cx="6705720" cy="22240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7720"/>
                <a:gridCol w="838440"/>
                <a:gridCol w="838440"/>
                <a:gridCol w="838080"/>
                <a:gridCol w="838080"/>
                <a:gridCol w="838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F12-E714-42F4-A354-B15388A2FA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ool logika véges aritmetika nélk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ND (carry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” az output ha mindegyik bemenet értéke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Shift (elto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zám eltolása bármelyik alapban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bal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gy jeggyel, az egyenlő az alappal való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szorz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zám eltolása bármelyik alapban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jobb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gy jeggyel, az egyenlő az alappal való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oszt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71600" y="5029200"/>
          <a:ext cx="6858000" cy="892080"/>
        </p:xfrm>
        <a:graphic>
          <a:graphicData uri="http://schemas.openxmlformats.org/drawingml/2006/table">
            <a:tbl>
              <a:tblPr/>
              <a:tblGrid>
                <a:gridCol w="3525840"/>
                <a:gridCol w="333216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bal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jobb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bal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jobb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74D-8828-4996-ADD2-FAE64FF464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1905120"/>
          <a:ext cx="8229600" cy="2963880"/>
        </p:xfrm>
        <a:graphic>
          <a:graphicData uri="http://schemas.openxmlformats.org/drawingml/2006/table">
            <a:tbl>
              <a:tblPr/>
              <a:tblGrid>
                <a:gridCol w="374760"/>
                <a:gridCol w="372960"/>
                <a:gridCol w="372960"/>
                <a:gridCol w="373320"/>
                <a:gridCol w="334800"/>
                <a:gridCol w="412920"/>
                <a:gridCol w="374400"/>
                <a:gridCol w="5613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ő h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odik h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adik hel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rzandó bitje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ltolva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yel feljebb a harmadik hel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dmén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H="1">
            <a:off x="2590560" y="2133720"/>
            <a:ext cx="685800" cy="167616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D94-6EE9-40E7-8882-DBA005D562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99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523880"/>
          <a:ext cx="7772400" cy="491040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401760"/>
                <a:gridCol w="336600"/>
                <a:gridCol w="369720"/>
                <a:gridCol w="370080"/>
                <a:gridCol w="380880"/>
                <a:gridCol w="358920"/>
                <a:gridCol w="368280"/>
                <a:gridCol w="342720"/>
                <a:gridCol w="381240"/>
                <a:gridCol w="385560"/>
                <a:gridCol w="29671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odik helyiértékhez tartozik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rzandó bitje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ltolva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 helyiértékkel balra ~ 2-vel megszoroztu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elyiértékhez tartozik (2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elyiérték (2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dmén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br>
                        <a:rPr sz="1600"/>
                      </a:b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jegyzés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0 a végé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lső helyen nem lett leírv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jegyzé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öbbszörös carry lehetség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 flipH="1">
            <a:off x="5181120" y="1981080"/>
            <a:ext cx="304920" cy="685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438280"/>
            <a:ext cx="0" cy="3049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228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60020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F7D-8B25-4921-8D00-3A5F071C86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2209680"/>
          <a:ext cx="8077320" cy="2932200"/>
        </p:xfrm>
        <a:graphic>
          <a:graphicData uri="http://schemas.openxmlformats.org/drawingml/2006/table">
            <a:tbl>
              <a:tblPr/>
              <a:tblGrid>
                <a:gridCol w="504000"/>
                <a:gridCol w="504000"/>
                <a:gridCol w="504000"/>
                <a:gridCol w="507240"/>
                <a:gridCol w="504000"/>
                <a:gridCol w="504000"/>
                <a:gridCol w="504000"/>
                <a:gridCol w="507240"/>
                <a:gridCol w="504000"/>
                <a:gridCol w="504000"/>
                <a:gridCol w="507240"/>
                <a:gridCol w="504000"/>
                <a:gridCol w="504000"/>
                <a:gridCol w="504360"/>
                <a:gridCol w="506880"/>
                <a:gridCol w="50436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066680" y="1752480"/>
            <a:ext cx="6705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1828800"/>
          <a:ext cx="8001000" cy="272880"/>
        </p:xfrm>
        <a:graphic>
          <a:graphicData uri="http://schemas.openxmlformats.org/drawingml/2006/table">
            <a:tbl>
              <a:tblPr/>
              <a:tblGrid>
                <a:gridCol w="500040"/>
                <a:gridCol w="498600"/>
                <a:gridCol w="500040"/>
                <a:gridCol w="500040"/>
                <a:gridCol w="500040"/>
                <a:gridCol w="501480"/>
                <a:gridCol w="500040"/>
                <a:gridCol w="500400"/>
                <a:gridCol w="500040"/>
                <a:gridCol w="498240"/>
                <a:gridCol w="501840"/>
                <a:gridCol w="498240"/>
                <a:gridCol w="501840"/>
                <a:gridCol w="500040"/>
                <a:gridCol w="500040"/>
                <a:gridCol w="500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914400" y="1447920"/>
          <a:ext cx="8001000" cy="272880"/>
        </p:xfrm>
        <a:graphic>
          <a:graphicData uri="http://schemas.openxmlformats.org/drawingml/2006/table">
            <a:tbl>
              <a:tblPr/>
              <a:tblGrid>
                <a:gridCol w="500040"/>
                <a:gridCol w="498600"/>
                <a:gridCol w="500040"/>
                <a:gridCol w="500040"/>
                <a:gridCol w="500040"/>
                <a:gridCol w="501480"/>
                <a:gridCol w="500040"/>
                <a:gridCol w="500400"/>
                <a:gridCol w="500040"/>
                <a:gridCol w="498240"/>
                <a:gridCol w="501840"/>
                <a:gridCol w="498240"/>
                <a:gridCol w="501840"/>
                <a:gridCol w="500040"/>
                <a:gridCol w="500040"/>
                <a:gridCol w="500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8132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315200" y="25909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772400" y="259092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ACA-F530-4365-9FE9-50244EF996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olás és aritmetik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cimális vagy tízes alapú szám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edet: számolás az ujj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t” (számjegy)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igitu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atin szóból ered, jelentése “ujj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Ala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 számrendszerben használt számjegyek száma, a nullát is beleért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 10-es alapban 10 számjegy van, 0-tól 9-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Binári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 2-es alap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Bi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ritmetikai számjegy):  2 számjegy, 0 és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Oktáli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 8-as alapú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számjegy, 0-tól 7-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Hexadecimális vagy 16-os alap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6 számjegy, 0-tól F-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  </a:t>
            </a: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10</a:t>
            </a:r>
            <a:r>
              <a:rPr b="1" lang="hu-HU" sz="2000" spc="-1" strike="noStrike" baseline="-25000">
                <a:solidFill>
                  <a:srgbClr val="ff9f11"/>
                </a:solidFill>
                <a:latin typeface="Arial"/>
              </a:rPr>
              <a:t>1</a:t>
            </a:r>
            <a:r>
              <a:rPr b="0" lang="hu-HU" sz="2000" spc="-1" strike="noStrike" baseline="-25000">
                <a:solidFill>
                  <a:srgbClr val="ff9f11"/>
                </a:solidFill>
                <a:latin typeface="Arial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hu-HU" sz="2000" spc="-1" strike="noStrike" baseline="-25000">
                <a:solidFill>
                  <a:srgbClr val="000080"/>
                </a:solidFill>
                <a:latin typeface="Arial"/>
              </a:rPr>
              <a:t>16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11</a:t>
            </a:r>
            <a:r>
              <a:rPr b="1" lang="hu-HU" sz="20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1" lang="hu-HU" sz="2000" spc="-1" strike="noStrike" baseline="-25000">
                <a:solidFill>
                  <a:srgbClr val="000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65B-197E-41FC-A992-120437D0A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H="1" flipV="1">
            <a:off x="1142280" y="2208960"/>
            <a:ext cx="1066680" cy="685800"/>
          </a:xfrm>
          <a:prstGeom prst="rtTriangle">
            <a:avLst/>
          </a:pr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onvertálás 10-es alapbó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2209680"/>
          <a:ext cx="7315200" cy="2667240"/>
        </p:xfrm>
        <a:graphic>
          <a:graphicData uri="http://schemas.openxmlformats.org/drawingml/2006/table">
            <a:tbl>
              <a:tblPr/>
              <a:tblGrid>
                <a:gridCol w="1143000"/>
                <a:gridCol w="636840"/>
                <a:gridCol w="658800"/>
                <a:gridCol w="603000"/>
                <a:gridCol w="804960"/>
                <a:gridCol w="804960"/>
                <a:gridCol w="691920"/>
                <a:gridCol w="676440"/>
                <a:gridCol w="627120"/>
                <a:gridCol w="6681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tvány tá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F2D-B5CF-4176-80F5-7DD377D8DF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 flipV="1">
            <a:off x="1066680" y="2361600"/>
            <a:ext cx="1447920" cy="685800"/>
          </a:xfrm>
          <a:prstGeom prst="rtTriangle">
            <a:avLst/>
          </a:pr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2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38320" y="1676520"/>
          <a:ext cx="6875280" cy="3870360"/>
        </p:xfrm>
        <a:graphic>
          <a:graphicData uri="http://schemas.openxmlformats.org/drawingml/2006/table">
            <a:tbl>
              <a:tblPr/>
              <a:tblGrid>
                <a:gridCol w="1380960"/>
                <a:gridCol w="860400"/>
                <a:gridCol w="822600"/>
                <a:gridCol w="822240"/>
                <a:gridCol w="896760"/>
                <a:gridCol w="673200"/>
                <a:gridCol w="746280"/>
                <a:gridCol w="672840"/>
              </a:tblGrid>
              <a:tr h="684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2</a:t>
                      </a:r>
                      <a:r>
                        <a:rPr b="0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10</a:t>
                      </a:r>
                      <a:r>
                        <a:rPr b="0" lang="en-US" sz="2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é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/32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d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2" name=""/>
          <p:cNvGrpSpPr/>
          <p:nvPr/>
        </p:nvGrpSpPr>
        <p:grpSpPr>
          <a:xfrm>
            <a:off x="3886200" y="4343400"/>
            <a:ext cx="1143000" cy="1130400"/>
            <a:chOff x="3886200" y="4343400"/>
            <a:chExt cx="1143000" cy="1130400"/>
          </a:xfrm>
        </p:grpSpPr>
        <p:sp>
          <p:nvSpPr>
            <p:cNvPr id="233" name=""/>
            <p:cNvSpPr/>
            <p:nvPr/>
          </p:nvSpPr>
          <p:spPr>
            <a:xfrm flipV="1">
              <a:off x="388620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/16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6708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724280" y="4343400"/>
            <a:ext cx="1143000" cy="1130400"/>
            <a:chOff x="4724280" y="4343400"/>
            <a:chExt cx="1143000" cy="1130400"/>
          </a:xfrm>
        </p:grpSpPr>
        <p:sp>
          <p:nvSpPr>
            <p:cNvPr id="237" name=""/>
            <p:cNvSpPr/>
            <p:nvPr/>
          </p:nvSpPr>
          <p:spPr>
            <a:xfrm flipV="1">
              <a:off x="47242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/8 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1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638680" y="4343400"/>
            <a:ext cx="1143000" cy="1130400"/>
            <a:chOff x="5638680" y="4343400"/>
            <a:chExt cx="1143000" cy="1130400"/>
          </a:xfrm>
        </p:grpSpPr>
        <p:sp>
          <p:nvSpPr>
            <p:cNvPr id="241" name=""/>
            <p:cNvSpPr/>
            <p:nvPr/>
          </p:nvSpPr>
          <p:spPr>
            <a:xfrm flipV="1">
              <a:off x="56386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/4   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95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4480" y="4343400"/>
            <a:ext cx="1143000" cy="1130400"/>
            <a:chOff x="6324480" y="4343400"/>
            <a:chExt cx="1143000" cy="1130400"/>
          </a:xfrm>
        </p:grpSpPr>
        <p:sp>
          <p:nvSpPr>
            <p:cNvPr id="245" name=""/>
            <p:cNvSpPr/>
            <p:nvPr/>
          </p:nvSpPr>
          <p:spPr>
            <a:xfrm flipV="1">
              <a:off x="63244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/2   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53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010280" y="4343400"/>
            <a:ext cx="1143000" cy="1130400"/>
            <a:chOff x="7010280" y="4343400"/>
            <a:chExt cx="1143000" cy="1130400"/>
          </a:xfrm>
        </p:grpSpPr>
        <p:sp>
          <p:nvSpPr>
            <p:cNvPr id="249" name=""/>
            <p:cNvSpPr/>
            <p:nvPr/>
          </p:nvSpPr>
          <p:spPr>
            <a:xfrm flipV="1">
              <a:off x="70102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52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1   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1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4290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562-5E48-4F77-B0DA-1C5FC39215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2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14400" y="1523880"/>
          <a:ext cx="8077320" cy="4599000"/>
        </p:xfrm>
        <a:graphic>
          <a:graphicData uri="http://schemas.openxmlformats.org/drawingml/2006/table">
            <a:tbl>
              <a:tblPr/>
              <a:tblGrid>
                <a:gridCol w="2355840"/>
                <a:gridCol w="925560"/>
                <a:gridCol w="479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kise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 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4647960" y="1676520"/>
            <a:ext cx="2209680" cy="761760"/>
            <a:chOff x="4647960" y="1676520"/>
            <a:chExt cx="2209680" cy="761760"/>
          </a:xfrm>
        </p:grpSpPr>
        <p:sp>
          <p:nvSpPr>
            <p:cNvPr id="256" name=""/>
            <p:cNvSpPr/>
            <p:nvPr/>
          </p:nvSpPr>
          <p:spPr>
            <a:xfrm>
              <a:off x="5029200" y="167652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Mara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647960" y="2057400"/>
              <a:ext cx="456840" cy="38088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838080" y="2438280"/>
            <a:ext cx="2895480" cy="838080"/>
            <a:chOff x="838080" y="2438280"/>
            <a:chExt cx="2895480" cy="838080"/>
          </a:xfrm>
        </p:grpSpPr>
        <p:sp>
          <p:nvSpPr>
            <p:cNvPr id="259" name=""/>
            <p:cNvSpPr/>
            <p:nvPr/>
          </p:nvSpPr>
          <p:spPr>
            <a:xfrm>
              <a:off x="838080" y="2438280"/>
              <a:ext cx="16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Hány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7200" y="2689560"/>
              <a:ext cx="1206360" cy="5868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6ED-24A6-41FD-9AA8-06FA820EB8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 flipV="1">
            <a:off x="914400" y="2208960"/>
            <a:ext cx="1447920" cy="685800"/>
          </a:xfrm>
          <a:prstGeom prst="rtTriangle">
            <a:avLst/>
          </a:pr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16-osb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1523880"/>
          <a:ext cx="7848720" cy="4183200"/>
        </p:xfrm>
        <a:graphic>
          <a:graphicData uri="http://schemas.openxmlformats.org/drawingml/2006/table">
            <a:tbl>
              <a:tblPr/>
              <a:tblGrid>
                <a:gridCol w="1420920"/>
                <a:gridCol w="971280"/>
                <a:gridCol w="1798920"/>
                <a:gridCol w="1600200"/>
                <a:gridCol w="1234800"/>
                <a:gridCol w="822600"/>
              </a:tblGrid>
              <a:tr h="685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</a:t>
                      </a: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35</a:t>
                      </a:r>
                      <a:r>
                        <a:rPr b="1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67</a:t>
                      </a:r>
                      <a:r>
                        <a:rPr b="1" lang="en-US" sz="2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é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 /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 / 256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/16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d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 – 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 = 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 –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 = 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– 96 =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990720" y="1523880"/>
            <a:ext cx="350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C2C-0B84-4FD3-87B7-E0FA75D3D6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16-osb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90720" y="1676520"/>
          <a:ext cx="7924680" cy="4252680"/>
        </p:xfrm>
        <a:graphic>
          <a:graphicData uri="http://schemas.openxmlformats.org/drawingml/2006/table">
            <a:tbl>
              <a:tblPr/>
              <a:tblGrid>
                <a:gridCol w="2136600"/>
                <a:gridCol w="1446120"/>
                <a:gridCol w="434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7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kise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-o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838080" y="2590920"/>
            <a:ext cx="2743200" cy="1191240"/>
            <a:chOff x="838080" y="2590920"/>
            <a:chExt cx="2743200" cy="1191240"/>
          </a:xfrm>
        </p:grpSpPr>
        <p:sp>
          <p:nvSpPr>
            <p:cNvPr id="268" name=""/>
            <p:cNvSpPr/>
            <p:nvPr/>
          </p:nvSpPr>
          <p:spPr>
            <a:xfrm>
              <a:off x="838080" y="259092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Hány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8280" y="2819520"/>
              <a:ext cx="1143000" cy="53316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105160" y="1676520"/>
            <a:ext cx="2209680" cy="761760"/>
            <a:chOff x="5105160" y="1676520"/>
            <a:chExt cx="2209680" cy="761760"/>
          </a:xfrm>
        </p:grpSpPr>
        <p:sp>
          <p:nvSpPr>
            <p:cNvPr id="271" name=""/>
            <p:cNvSpPr/>
            <p:nvPr/>
          </p:nvSpPr>
          <p:spPr>
            <a:xfrm>
              <a:off x="5486400" y="167652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Mara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05160" y="2057400"/>
              <a:ext cx="456840" cy="38088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E77-4465-46B0-B088-136A202C3C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16-osb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914400" y="1676520"/>
          <a:ext cx="7924680" cy="4252680"/>
        </p:xfrm>
        <a:graphic>
          <a:graphicData uri="http://schemas.openxmlformats.org/drawingml/2006/table">
            <a:tbl>
              <a:tblPr/>
              <a:tblGrid>
                <a:gridCol w="2306520"/>
                <a:gridCol w="1276560"/>
                <a:gridCol w="4341600"/>
              </a:tblGrid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8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7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kise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-o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F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5" name=""/>
          <p:cNvGrpSpPr/>
          <p:nvPr/>
        </p:nvGrpSpPr>
        <p:grpSpPr>
          <a:xfrm>
            <a:off x="762120" y="2514600"/>
            <a:ext cx="2743200" cy="1191240"/>
            <a:chOff x="762120" y="2514600"/>
            <a:chExt cx="2743200" cy="1191240"/>
          </a:xfrm>
        </p:grpSpPr>
        <p:sp>
          <p:nvSpPr>
            <p:cNvPr id="276" name=""/>
            <p:cNvSpPr/>
            <p:nvPr/>
          </p:nvSpPr>
          <p:spPr>
            <a:xfrm>
              <a:off x="762120" y="25146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Hány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2320" y="2743200"/>
              <a:ext cx="1143000" cy="53316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952880" y="1752480"/>
            <a:ext cx="2210040" cy="761760"/>
            <a:chOff x="4952880" y="1752480"/>
            <a:chExt cx="2210040" cy="761760"/>
          </a:xfrm>
        </p:grpSpPr>
        <p:sp>
          <p:nvSpPr>
            <p:cNvPr id="279" name=""/>
            <p:cNvSpPr/>
            <p:nvPr/>
          </p:nvSpPr>
          <p:spPr>
            <a:xfrm>
              <a:off x="5334120" y="1752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Mara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952880" y="2133360"/>
              <a:ext cx="457200" cy="38088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C59-5A99-4425-A99E-6D46C2ED16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ból 10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19320" y="1600200"/>
          <a:ext cx="6589440" cy="3313080"/>
        </p:xfrm>
        <a:graphic>
          <a:graphicData uri="http://schemas.openxmlformats.org/drawingml/2006/table">
            <a:tbl>
              <a:tblPr/>
              <a:tblGrid>
                <a:gridCol w="1295280"/>
                <a:gridCol w="1407960"/>
                <a:gridCol w="1295640"/>
                <a:gridCol w="1258920"/>
                <a:gridCol w="1331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263</a:t>
                      </a:r>
                      <a:r>
                        <a:rPr b="0" lang="en-US" sz="28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 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63</a:t>
                      </a:r>
                      <a:r>
                        <a:rPr b="0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687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687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 össz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BFF-A821-4757-861C-75D74990A4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ból 10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43000" y="1600200"/>
          <a:ext cx="7467480" cy="44370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838080"/>
                <a:gridCol w="1066680"/>
                <a:gridCol w="990720"/>
                <a:gridCol w="1066680"/>
                <a:gridCol w="114300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263</a:t>
                      </a:r>
                      <a:r>
                        <a:rPr b="0" lang="en-US" sz="28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 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63</a:t>
                      </a:r>
                      <a:r>
                        <a:rPr b="0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x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x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x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B63-68BB-4291-B6F7-B99DFA91E1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6-os alapból 2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800" spc="-1" strike="noStrike">
                <a:solidFill>
                  <a:srgbClr val="000080"/>
                </a:solidFill>
                <a:latin typeface="Arial"/>
              </a:rPr>
              <a:t>nibble (négy bites szó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egközel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xadecimálist könnyebb írni és olvasni, mint biná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ért hexadecimál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ációs rendszer, ill. hálózati hibák esetén a rend-szer a hibaeseményhez tartózó adatokat hexadecimális formában jelenít meg. (~ ismeretlen memóriatartal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523880" y="2666880"/>
          <a:ext cx="6477120" cy="1981440"/>
        </p:xfrm>
        <a:graphic>
          <a:graphicData uri="http://schemas.openxmlformats.org/drawingml/2006/table">
            <a:tbl>
              <a:tblPr/>
              <a:tblGrid>
                <a:gridCol w="2286000"/>
                <a:gridCol w="1219320"/>
                <a:gridCol w="990720"/>
                <a:gridCol w="990360"/>
                <a:gridCol w="99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o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F3D-9479-40FD-B3E3-0301C5367B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rt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80"/>
                </a:solidFill>
                <a:latin typeface="Arial"/>
              </a:rPr>
              <a:t>Tizedespo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0" lang="hu-HU" sz="3200" spc="-1" strike="noStrike">
                <a:solidFill>
                  <a:srgbClr val="000080"/>
                </a:solidFill>
                <a:latin typeface="Arial"/>
              </a:rPr>
              <a:t>alap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zedespont a 10-es alap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nárispont a 2-es alap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 tökéletes alakja a törteknek különböző számrendszerek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os átalakítás nem mindig lehet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C7E-828D-4283-BBAE-56E7246801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itek kezelése a gyakorlatban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it-eket általában csoportokban tárolják és módosítj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bit = 1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yte = 1 wor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sz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több rendszerb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ási műveletek során a számábrázolásra használt bit-ek szá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folyásolja az eredmé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ntosság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rlátozza a számítógép által kezelhető számok nagyságát (ill. azok számá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851-46A1-410C-B943-DFACD84C6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izedestört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akjuk eggyel jobbra a tizedespont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ség:  a szám megszorzódik a számrendszer alapj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 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9.0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90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akjuk eggyel balra a tizedespont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ség:  a szám osztódik a számrendszer alapj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 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9.0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.9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2004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5257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rot="10800000">
            <a:off x="3580200" y="335232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3352320" y="5409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2B9-2E1C-41BA-8ACB-B9A4420141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rtek: 10-es és 2-es alap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90720" y="1905120"/>
          <a:ext cx="7238880" cy="1536480"/>
        </p:xfrm>
        <a:graphic>
          <a:graphicData uri="http://schemas.openxmlformats.org/drawingml/2006/table">
            <a:tbl>
              <a:tblPr/>
              <a:tblGrid>
                <a:gridCol w="1269720"/>
                <a:gridCol w="1254240"/>
                <a:gridCol w="1571760"/>
                <a:gridCol w="1571400"/>
                <a:gridCol w="15717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/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x 1/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x1/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066680" y="35053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0,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01011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ff9f11"/>
                </a:solidFill>
                <a:latin typeface="Arial"/>
              </a:rPr>
              <a:t>= 0</a:t>
            </a: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9f11"/>
                </a:solidFill>
                <a:latin typeface="Arial"/>
              </a:rPr>
              <a:t>671875</a:t>
            </a:r>
            <a:r>
              <a:rPr b="1" lang="en-US" sz="20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66680" y="4038480"/>
          <a:ext cx="7467840" cy="1706760"/>
        </p:xfrm>
        <a:graphic>
          <a:graphicData uri="http://schemas.openxmlformats.org/drawingml/2006/table">
            <a:tbl>
              <a:tblPr/>
              <a:tblGrid>
                <a:gridCol w="1295640"/>
                <a:gridCol w="838080"/>
                <a:gridCol w="1014480"/>
                <a:gridCol w="1206360"/>
                <a:gridCol w="979560"/>
                <a:gridCol w="979560"/>
                <a:gridCol w="11541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x 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 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x 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1/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1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5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1143000" y="1447920"/>
            <a:ext cx="24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0,</a:t>
            </a:r>
            <a:r>
              <a:rPr b="1" lang="en-US" sz="2000" spc="-1" strike="noStrike">
                <a:solidFill>
                  <a:srgbClr val="ff9f11"/>
                </a:solidFill>
                <a:latin typeface="Arial"/>
              </a:rPr>
              <a:t>2589</a:t>
            </a:r>
            <a:r>
              <a:rPr b="1" lang="en-US" sz="20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92A-0BE7-4E57-8F48-4A8AE96FF1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rtek: 10-es és 2-es alap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általános összefüggés az 1/10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1/2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ípusú tört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nek következtében néhány 10-es alapban ábrázolható szám nem ábrázolható 2-es al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 minden 1/2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májú törtet tudunk ábrázolni 10-es al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rt átalakítása két alap között akkor ér vé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van racionális megoldás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kívánt pontosságot elért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AB6-7407-4FE8-8914-DB0DBE4F42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evert számalakít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ész és tört részeket külön kell konvert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pont (tizedes pont): rögzített viszonyítás az átalakítás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al oldalon lévő számjegy egységnyi minden alap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ndig 1, alaptól független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F5B-CB84-4EA9-904A-DA94318CBFB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ámok, ill. azok értékéne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fizikai reprezentációj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448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számjegyek, ugyanaz az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vás írás: II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ómai: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ab: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alapok, ugyanazok az érték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248440" y="2438280"/>
          <a:ext cx="343836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2438280"/>
                    <a:ext cx="34383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043-312B-4BBF-BCA2-4B2639BF4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rendszer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ómai: pozíció vagy helyiérték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független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helyiérték nélkü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odern: helyiértékes jelölésen alapsz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cimális szám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 10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náris 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 2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ktális 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 8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xadecimális 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16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868-E016-474C-862F-AE249AE908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10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es alap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59000" y="3352680"/>
          <a:ext cx="5045040" cy="2013120"/>
        </p:xfrm>
        <a:graphic>
          <a:graphicData uri="http://schemas.openxmlformats.org/drawingml/2006/table">
            <a:tbl>
              <a:tblPr/>
              <a:tblGrid>
                <a:gridCol w="1474920"/>
                <a:gridCol w="1663560"/>
                <a:gridCol w="19065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x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6171840" y="2209680"/>
            <a:ext cx="1676880" cy="1281240"/>
            <a:chOff x="6171840" y="2209680"/>
            <a:chExt cx="1676880" cy="1281240"/>
          </a:xfrm>
        </p:grpSpPr>
        <p:sp>
          <p:nvSpPr>
            <p:cNvPr id="110" name=""/>
            <p:cNvSpPr/>
            <p:nvPr/>
          </p:nvSpPr>
          <p:spPr>
            <a:xfrm flipH="1">
              <a:off x="6171480" y="2514600"/>
              <a:ext cx="1219320" cy="97632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209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19520" y="2209680"/>
            <a:ext cx="1752480" cy="1281240"/>
            <a:chOff x="2819520" y="2209680"/>
            <a:chExt cx="1752480" cy="1281240"/>
          </a:xfrm>
        </p:grpSpPr>
        <p:sp>
          <p:nvSpPr>
            <p:cNvPr id="113" name=""/>
            <p:cNvSpPr/>
            <p:nvPr/>
          </p:nvSpPr>
          <p:spPr>
            <a:xfrm>
              <a:off x="3276720" y="251460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520" y="2209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0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66680" y="1600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43 = 4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+ 3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AA8-04C6-4D6F-95C0-C842C8B0F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 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10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es alap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2840" y="3276720"/>
          <a:ext cx="6711840" cy="2012760"/>
        </p:xfrm>
        <a:graphic>
          <a:graphicData uri="http://schemas.openxmlformats.org/drawingml/2006/table">
            <a:tbl>
              <a:tblPr/>
              <a:tblGrid>
                <a:gridCol w="1530360"/>
                <a:gridCol w="1676520"/>
                <a:gridCol w="1828800"/>
                <a:gridCol w="167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6857640" y="2133720"/>
            <a:ext cx="1676880" cy="1280520"/>
            <a:chOff x="6857640" y="2133720"/>
            <a:chExt cx="1676880" cy="1280520"/>
          </a:xfrm>
        </p:grpSpPr>
        <p:sp>
          <p:nvSpPr>
            <p:cNvPr id="119" name=""/>
            <p:cNvSpPr/>
            <p:nvPr/>
          </p:nvSpPr>
          <p:spPr>
            <a:xfrm flipH="1">
              <a:off x="6857280" y="2438280"/>
              <a:ext cx="1219320" cy="9759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8880" y="21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81280" y="2209680"/>
            <a:ext cx="1752480" cy="1281240"/>
            <a:chOff x="3581280" y="2209680"/>
            <a:chExt cx="1752480" cy="1281240"/>
          </a:xfrm>
        </p:grpSpPr>
        <p:sp>
          <p:nvSpPr>
            <p:cNvPr id="122" name=""/>
            <p:cNvSpPr/>
            <p:nvPr/>
          </p:nvSpPr>
          <p:spPr>
            <a:xfrm>
              <a:off x="4038480" y="251460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209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0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14300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527 = 5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+ 2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+ 7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2209680"/>
            <a:ext cx="1981080" cy="1281240"/>
            <a:chOff x="1371600" y="2209680"/>
            <a:chExt cx="1981080" cy="1281240"/>
          </a:xfrm>
        </p:grpSpPr>
        <p:sp>
          <p:nvSpPr>
            <p:cNvPr id="126" name=""/>
            <p:cNvSpPr/>
            <p:nvPr/>
          </p:nvSpPr>
          <p:spPr>
            <a:xfrm>
              <a:off x="2057400" y="251460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2209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00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a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0F6-8014-4FB5-AD16-83F7216C1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Oktáli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624</a:t>
            </a:r>
            <a:r>
              <a:rPr b="1" lang="en-US" sz="3200" spc="-1" strike="noStrike" baseline="-25000">
                <a:solidFill>
                  <a:srgbClr val="000080"/>
                </a:solidFill>
                <a:latin typeface="Arial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404</a:t>
            </a:r>
            <a:r>
              <a:rPr b="1" lang="en-US" sz="32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09680" y="3352680"/>
          <a:ext cx="4921200" cy="2149560"/>
        </p:xfrm>
        <a:graphic>
          <a:graphicData uri="http://schemas.openxmlformats.org/drawingml/2006/table">
            <a:tbl>
              <a:tblPr/>
              <a:tblGrid>
                <a:gridCol w="1371600"/>
                <a:gridCol w="1089000"/>
                <a:gridCol w="1230480"/>
                <a:gridCol w="12301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 x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x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x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Decimális 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2209680" y="2286000"/>
            <a:ext cx="1981080" cy="1281240"/>
            <a:chOff x="2209680" y="2286000"/>
            <a:chExt cx="1981080" cy="1281240"/>
          </a:xfrm>
        </p:grpSpPr>
        <p:sp>
          <p:nvSpPr>
            <p:cNvPr id="132" name=""/>
            <p:cNvSpPr/>
            <p:nvPr/>
          </p:nvSpPr>
          <p:spPr>
            <a:xfrm>
              <a:off x="2895480" y="259092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2286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64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81280" y="2286000"/>
            <a:ext cx="1981080" cy="1281240"/>
            <a:chOff x="3581280" y="2286000"/>
            <a:chExt cx="1981080" cy="1281240"/>
          </a:xfrm>
        </p:grpSpPr>
        <p:sp>
          <p:nvSpPr>
            <p:cNvPr id="135" name=""/>
            <p:cNvSpPr/>
            <p:nvPr/>
          </p:nvSpPr>
          <p:spPr>
            <a:xfrm>
              <a:off x="4267080" y="259092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1280" y="2286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8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a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00440" y="2286000"/>
            <a:ext cx="1676880" cy="1281240"/>
            <a:chOff x="6400440" y="2286000"/>
            <a:chExt cx="1676880" cy="1281240"/>
          </a:xfrm>
        </p:grpSpPr>
        <p:sp>
          <p:nvSpPr>
            <p:cNvPr id="138" name=""/>
            <p:cNvSpPr/>
            <p:nvPr/>
          </p:nvSpPr>
          <p:spPr>
            <a:xfrm flipH="1">
              <a:off x="6400080" y="2590920"/>
              <a:ext cx="1219320" cy="97632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81680" y="22860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019-C8DD-4ED8-BDCB-34F80478F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09:18:08Z</dcterms:modified>
  <cp:revision>189</cp:revision>
  <dc:subject/>
  <dc:title>CHAPTER 1: Computer Systems</dc:title>
</cp:coreProperties>
</file>