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E72B4-C1D9-4CF3-99F4-07A39A8A6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A444A-336C-455C-A9C9-51BDFC058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1F725-CE48-4D49-9298-211AEE5CD7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8FBC6-EB50-43A5-89C8-AD7DC9F25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10E3-2365-4DE4-8B86-DB20D298E9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E436C-FB4B-488C-9A60-521EE5F57A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A713C-D658-4022-A67E-C1CC9353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A98B-41DA-4313-AEB2-38A34338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9021F-6579-4B02-9070-CBA8BB79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B2BF1-B285-44CB-96C1-7B0EE71E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192C8-1B97-419B-98ED-CAAB4DB9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BD2DD-BFBC-4DD0-BB61-E950A9EA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CD8F-AD27-44D0-9F46-784C140B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43A2-CF0A-449F-9FC2-A555ED3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5FCA4-C1A9-4FC1-A7A5-5768371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1A66-ABEB-4226-AD44-EE2AF2C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ECEB-204E-4EE7-BB95-119EA7F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0D21-AD3E-4DDC-8B6F-C908E7F4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CA9C-7CFC-4B64-99E3-119602FCBE4A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Adatok ábrázolása, adattípusok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Összefoglalá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modell határ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Nem foglalkozunk vele, hogy hogyan történik, feltételezzük, hogy rendelkezésre áll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rogram betöltése a memóriáb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ok belehelyezése a bemeneti kosárba („In Basket”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E29FF-AAA4-4EF3-AD9B-BC370078C2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LM képes utasításokat végrehajtani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 sorozatát működés előtt elkészítjük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z utasításokat különböző csoportokba oszthatjuk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ritmetikai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 mozgató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put/output (be-/kimeneti) 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zérlő utasításo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AAC0-7BD2-4139-B302-FFABE0E7A9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Utasítások tárolás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Verdana"/>
              </a:rPr>
              <a:t>Gépi kód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hoz rendelt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zeket az utasításkódokat valós számítógépekben a processzor közvetlenül tudja értelmezni és végrehajt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gépi kódú utasítások az LMC esetén háromjegyű decimális számok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D50FA-9256-4A6E-8523-D7E6F64582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ok felépítés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137440" cy="30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i kó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űvelet kód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etszőleges rövidítés (mnemoni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operandu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ódosítandó „objektu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értéke va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dat címe, ahol az érték tárolód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143000" y="4772160"/>
          <a:ext cx="7238880" cy="1552320"/>
        </p:xfrm>
        <a:graphic>
          <a:graphicData uri="http://schemas.openxmlformats.org/drawingml/2006/table">
            <a:tbl>
              <a:tblPr/>
              <a:tblGrid>
                <a:gridCol w="1676520"/>
                <a:gridCol w="2666880"/>
                <a:gridCol w="2895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66AFE-0C9C-44EC-ABAF-EB005B1F27C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készle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1606680"/>
          <a:ext cx="6477120" cy="464184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  <a:gridCol w="259092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 mozgat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Be-</a:t>
                      </a: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/</a:t>
                      </a: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Kimene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</a:t>
                      </a: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Gép irányítása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F953-DB1A-4E1B-B868-ADC29CB86A4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alap utasítása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68360" y="1413000"/>
          <a:ext cx="8218440" cy="4994280"/>
        </p:xfrm>
        <a:graphic>
          <a:graphicData uri="http://schemas.openxmlformats.org/drawingml/2006/table">
            <a:tbl>
              <a:tblPr/>
              <a:tblGrid>
                <a:gridCol w="3122640"/>
                <a:gridCol w="1577880"/>
                <a:gridCol w="351792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típu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Aritmetik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Adat mozgat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f9f11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Input/Output </a:t>
                      </a:r>
                      <a:br>
                        <a:rPr sz="2800"/>
                      </a:b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(Be-/Kimeneti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fd1313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Vezérlő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800" spc="-1" strike="noStrike">
                          <a:solidFill>
                            <a:srgbClr val="555fff"/>
                          </a:solidFill>
                          <a:latin typeface="Arial"/>
                          <a:ea typeface="Times New Roman"/>
                        </a:rPr>
                        <a:t>Leállás (CO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85AD-1631-4EB5-B0F7-3468DFDECF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ssembly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nyelv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függő programnyel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az egyhez összerendelés az assembly nyelv utasításai és a bináris gépi kódú (CPU által végrehajtható) utasítás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Mnemonic-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övid karakter sorozato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utasításokat reprezentáln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kkor használjuk, ha a programozónak a hardver pontos vezérlésére van szüksé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pl.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meghajtók (driver-ek) készíté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84C6-C49B-4000-AB77-437A871795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alap utasításainak assembly kódj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04920" y="1600200"/>
          <a:ext cx="8446680" cy="4978440"/>
        </p:xfrm>
        <a:graphic>
          <a:graphicData uri="http://schemas.openxmlformats.org/drawingml/2006/table">
            <a:tbl>
              <a:tblPr/>
              <a:tblGrid>
                <a:gridCol w="1964160"/>
                <a:gridCol w="3819600"/>
                <a:gridCol w="266292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Összead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von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áro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DA 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öl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olvasás (IN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iírás (OUTPU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ff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6B6B-107D-4CB9-B2C9-06318AE84B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Input/Output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mozgatása a számológép és a be/ki kosarak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219320" y="2743200"/>
          <a:ext cx="7162560" cy="2819520"/>
        </p:xfrm>
        <a:graphic>
          <a:graphicData uri="http://schemas.openxmlformats.org/drawingml/2006/table">
            <a:tbl>
              <a:tblPr/>
              <a:tblGrid>
                <a:gridCol w="2077200"/>
                <a:gridCol w="216000"/>
                <a:gridCol w="2510640"/>
                <a:gridCol w="2358720"/>
              </a:tblGrid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n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out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83F01-5519-4AF3-A19A-F3508F2A48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57520" y="1487520"/>
            <a:ext cx="5962320" cy="4262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Input/Outpu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429000"/>
            <a:ext cx="1066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d1313"/>
                </a:solidFill>
                <a:latin typeface="Tahoma"/>
              </a:rPr>
              <a:t>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505320" y="2819520"/>
            <a:ext cx="1218960" cy="83808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571920" y="3365280"/>
            <a:ext cx="1237320" cy="81180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E7DB-1731-4F4B-AC4D-5FE6180F0A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Adatok ábrázolása, adattípu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ítógépes rendszere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ködés: információfeldolgoz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PO: input-process-output mode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formáció tárolása adatok formájáb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atformátum választás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gépi feldolgozás, tárolás egyszerű legyen – Neumann János </a:t>
            </a:r>
            <a:r>
              <a:rPr b="0" lang="hu-HU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bináris ábrázo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formátum választása: az adatokon műveleteket egyszerűen SZISZTEMATIKUSA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FD50-FB6A-4FE9-A7BE-6812298BDD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Belső adatmozgás 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(LMC-n belü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734840"/>
            <a:ext cx="821844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 postaláda és a számológép közöt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76520" y="2666880"/>
          <a:ext cx="6629040" cy="3048120"/>
        </p:xfrm>
        <a:graphic>
          <a:graphicData uri="http://schemas.openxmlformats.org/drawingml/2006/table">
            <a:tbl>
              <a:tblPr/>
              <a:tblGrid>
                <a:gridCol w="1657080"/>
                <a:gridCol w="315360"/>
                <a:gridCol w="2525760"/>
                <a:gridCol w="213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STO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LDA 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r>
                        <a:rPr b="0" lang="en-US" sz="1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8BC6-04D8-47C8-9952-A4E96E1CEF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48160" cy="4798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belső adatmozgatá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3124080"/>
            <a:ext cx="1295640" cy="114300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5105160" y="2743200"/>
            <a:ext cx="1066680" cy="15228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2819520"/>
            <a:ext cx="1219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L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Tahoma"/>
              </a:rPr>
              <a:t>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17F1-FB32-44CA-8ACB-79AC81D07D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datok tárolás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Utasításokat és az adatokat tároló   postaláda fiókok fizikailag azonosak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 (általában) nincsenek beleágyazva az utasítások köz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Verdana"/>
              </a:rPr>
              <a:t>DAT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mnemonic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 azonosítja őket az assembly kódb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3D8C-DF0B-46A5-9FEE-241A7984CB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1844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ában tárolt érték beolvasás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űvelet elvégzése a számológép segítségé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3197160"/>
          <a:ext cx="8218440" cy="2288880"/>
        </p:xfrm>
        <a:graphic>
          <a:graphicData uri="http://schemas.openxmlformats.org/drawingml/2006/table">
            <a:tbl>
              <a:tblPr/>
              <a:tblGrid>
                <a:gridCol w="2152440"/>
                <a:gridCol w="628920"/>
                <a:gridCol w="2719440"/>
                <a:gridCol w="271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Műveleti 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Operand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x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8C9FE-3A60-4ECB-B99F-0FB7F56F28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096240" cy="4681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MC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itmetikai utasítás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33526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76560" y="2590920"/>
            <a:ext cx="1066680" cy="15228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2286000"/>
            <a:ext cx="1904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Tahoma"/>
              </a:rPr>
              <a:t>Kivon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C7B1-5221-4FF6-B8CB-B441E6CF00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Egyszerű program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  </a:t>
            </a:r>
            <a:br>
              <a:rPr sz="3600"/>
            </a:b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2 szám összeadás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1717560"/>
            <a:ext cx="572148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Feltételezzük, hogy az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adatokat 90&lt; címekkel címzett postaládákba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tárolju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Írjuk meg a programot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752480"/>
            <a:ext cx="2819160" cy="72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első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84328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Eltároljuk a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93552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Beolvassuk </a:t>
            </a:r>
            <a:br>
              <a:rPr sz="1800"/>
            </a:b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az második szám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19920" y="4879800"/>
            <a:ext cx="2819160" cy="72720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Összeadjuk a két számo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5826240"/>
            <a:ext cx="2819160" cy="72684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Book Antiqua"/>
              </a:rPr>
              <a:t>Kiírjuk az összeget</a:t>
            </a:r>
            <a:r>
              <a:rPr b="1" lang="en-US" sz="1800" spc="-1" strike="noStrike">
                <a:solidFill>
                  <a:srgbClr val="00008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46880" y="2479680"/>
            <a:ext cx="0" cy="3636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46880" y="3570120"/>
            <a:ext cx="0" cy="36540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46880" y="4662360"/>
            <a:ext cx="0" cy="21456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46880" y="5607000"/>
            <a:ext cx="0" cy="219240"/>
          </a:xfrm>
          <a:prstGeom prst="line">
            <a:avLst/>
          </a:prstGeom>
          <a:ln w="25560">
            <a:solidFill>
              <a:srgbClr val="000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0A294-4EFD-47E7-87BE-A802489294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assembly progra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752480"/>
          <a:ext cx="8218440" cy="4813200"/>
        </p:xfrm>
        <a:graphic>
          <a:graphicData uri="http://schemas.openxmlformats.org/drawingml/2006/table">
            <a:tbl>
              <a:tblPr/>
              <a:tblGrid>
                <a:gridCol w="1423800"/>
                <a:gridCol w="2130480"/>
                <a:gridCol w="46641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O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28C13-38CF-4A8A-9A0A-130CAB756AF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ét szám összeadását végző gépi kódú progra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752480"/>
          <a:ext cx="8218440" cy="4813200"/>
        </p:xfrm>
        <a:graphic>
          <a:graphicData uri="http://schemas.openxmlformats.org/drawingml/2006/table">
            <a:tbl>
              <a:tblPr/>
              <a:tblGrid>
                <a:gridCol w="1423800"/>
                <a:gridCol w="2132280"/>
                <a:gridCol w="466236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esláda címké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épi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le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12240">
                      <a:solidFill>
                        <a:srgbClr val="008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lső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Szám tárol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Második szám beolvas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Két szám összead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Adat rekesz a szám tárolásá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5CED2-3DCC-46B1-87E4-CDDC12D0EC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000"/>
            </a:b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Mnemonic-okat használv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716120"/>
          <a:ext cx="8076960" cy="4989600"/>
        </p:xfrm>
        <a:graphic>
          <a:graphicData uri="http://schemas.openxmlformats.org/drawingml/2006/table">
            <a:tbl>
              <a:tblPr/>
              <a:tblGrid>
                <a:gridCol w="1981080"/>
                <a:gridCol w="2209680"/>
                <a:gridCol w="3886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nemo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A952B-BF06-4E38-81DC-308722A4918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2 szám összeadásár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68360" y="1671480"/>
          <a:ext cx="8056080" cy="4424400"/>
        </p:xfrm>
        <a:graphic>
          <a:graphicData uri="http://schemas.openxmlformats.org/drawingml/2006/table">
            <a:tbl>
              <a:tblPr/>
              <a:tblGrid>
                <a:gridCol w="2014200"/>
                <a:gridCol w="966600"/>
                <a:gridCol w="5075280"/>
              </a:tblGrid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stalá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ó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tasítás le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5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 tárol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Input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ét szám összead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CCE21-23F2-424A-999B-98E5164FAE1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Adatokon végzett műveletek (IPO modell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793880"/>
            <a:ext cx="82184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Információ számítógép által feldolgozható formába rögzíteni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perifériák (bemeneti egysége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Információ feldolgoz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PU, memó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Eredmények megjelenítés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perifériák (kimeneti egységek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106AB-1CCD-4613-8581-54BEDFDA26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gram vezérl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ágaz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szekvenciális utasítás-végrehajtás eltéríté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ím megváltoztatása az utasítás-számlálób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áll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33520" y="3048120"/>
          <a:ext cx="7924320" cy="3105000"/>
        </p:xfrm>
        <a:graphic>
          <a:graphicData uri="http://schemas.openxmlformats.org/drawingml/2006/table">
            <a:tbl>
              <a:tblPr/>
              <a:tblGrid>
                <a:gridCol w="2726640"/>
                <a:gridCol w="406440"/>
                <a:gridCol w="2396520"/>
                <a:gridCol w="239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Műveleti</a:t>
                      </a: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kó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perand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Z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0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BRP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Ugrás + -nál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COB</a:t>
                      </a:r>
                      <a:r>
                        <a:rPr b="0" lang="en-US" sz="26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Leállás</a:t>
                      </a:r>
                      <a:r>
                        <a:rPr b="0" lang="en-US" sz="18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(ignor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0283C-A500-49C7-962F-2BA1A9BCEAE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rogram vezérlő utasításo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68360" y="1413000"/>
          <a:ext cx="8218440" cy="5252760"/>
        </p:xfrm>
        <a:graphic>
          <a:graphicData uri="http://schemas.openxmlformats.org/drawingml/2006/table">
            <a:tbl>
              <a:tblPr/>
              <a:tblGrid>
                <a:gridCol w="1574640"/>
                <a:gridCol w="2144880"/>
                <a:gridCol w="4498920"/>
              </a:tblGrid>
              <a:tr h="13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gépi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</a:t>
                      </a:r>
                      <a:br>
                        <a:rPr sz="2400"/>
                      </a:b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mbly kód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tasítás jelenté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ulla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 a számológép tartalma nagyobb nullánál, ugrás az XX számú rekeszr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állás (Coffee brea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C2530-39DE-4CE7-B0E7-4A0460A63F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MC utasításkészlet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93760" y="1487520"/>
          <a:ext cx="5945400" cy="4397400"/>
        </p:xfrm>
        <a:graphic>
          <a:graphicData uri="http://schemas.openxmlformats.org/drawingml/2006/table">
            <a:tbl>
              <a:tblPr/>
              <a:tblGrid>
                <a:gridCol w="2938680"/>
                <a:gridCol w="966600"/>
                <a:gridCol w="204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Aritmetik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1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Összead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2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Kivon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Adatmozgat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3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ár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5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Betölt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6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7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0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BR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8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Ugrás +-ná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/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IN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d1313"/>
                          </a:solidFill>
                          <a:latin typeface="Verdana"/>
                        </a:rPr>
                        <a:t>OUT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Vezérlő utasítá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(</a:t>
                      </a:r>
                      <a:r>
                        <a:rPr b="0" lang="hu-HU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kávészünet</a:t>
                      </a: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55fff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5C6B-3666-4D5E-B355-DB55F9BCCAF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juk ki két szám különbségének abszolút értékét (kimenet pozitív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914400" y="1657440"/>
          <a:ext cx="7772400" cy="504828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990360"/>
                <a:gridCol w="4876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P 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te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DA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 negatí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rdított sorrendben kell!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edmény kiír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ál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 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;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ttárol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8c8ce2"/>
                      </a:solidFill>
                    </a:lnL>
                    <a:lnR w="4320">
                      <a:solidFill>
                        <a:srgbClr val="8c8ce2"/>
                      </a:solidFill>
                    </a:lnR>
                    <a:lnT w="4320">
                      <a:solidFill>
                        <a:srgbClr val="8c8ce2"/>
                      </a:solidFill>
                    </a:lnT>
                    <a:lnB w="4320">
                      <a:solidFill>
                        <a:srgbClr val="8c8ce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2EA3-D6DB-4950-A40D-CF13ADA243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Utasítás-végrehajtási cikl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z utasítások végrehajtása két lépésre osztható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Fetch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 (~kikeresé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kideríti, hogy milyen utasítást hajtson vég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Végrehajtá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sember elvégzi az utasítás által definiált művelet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Számítógép által egy-egy utasítás végrehajtásakor elvégzett tevékenységek sorozatát </a:t>
            </a:r>
            <a:r>
              <a:rPr b="0" i="1" lang="hu-HU" sz="2800" spc="-1" strike="noStrike">
                <a:solidFill>
                  <a:srgbClr val="000000"/>
                </a:solidFill>
                <a:latin typeface="Verdana"/>
              </a:rPr>
              <a:t>utasítás végrehajtási ciklusnak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nevezzü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végrehajtott lépések ciklikusan ismétlődne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DD27-72DE-425A-A515-4092C22C13B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Fetch 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része az utasítás-végrehajtási ciklusna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133720"/>
            <a:ext cx="327672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beolvassa a címet az utasítás helyét tároló számlálóból (utasításszámlál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191120"/>
            <a:ext cx="3276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Elmegy a postaládához, ami az utasítás-számlálóban tárolt értékhez tar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rcRect l="0" t="0" r="44547" b="32657"/>
          <a:stretch/>
        </p:blipFill>
        <p:spPr>
          <a:xfrm>
            <a:off x="1295280" y="1752480"/>
            <a:ext cx="3276720" cy="4724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A19A-78B7-4DA1-93B3-7704383980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etch,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1981080"/>
            <a:ext cx="327672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A cetliről leolvassa postaládában tárolt a számot (visszarakja a cetlit, hátha szüksége lesz még rá későb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066680" y="1795320"/>
            <a:ext cx="3886200" cy="26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B546-F609-4CA4-8183-8BE1D6C625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54090" t="22326" r="0" b="43785"/>
          <a:stretch/>
        </p:blipFill>
        <p:spPr>
          <a:xfrm>
            <a:off x="4952880" y="3747960"/>
            <a:ext cx="3657600" cy="2652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Végrehajtás része az utasítás-végrehajtási ciklusnak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0" r="53890" b="68019"/>
          <a:stretch/>
        </p:blipFill>
        <p:spPr>
          <a:xfrm>
            <a:off x="468360" y="1754280"/>
            <a:ext cx="3867120" cy="2360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191120" y="2438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828800"/>
            <a:ext cx="358164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sember odamegy ahhoz a postaládához, ami az imént fetch-elt utasítás kódjában volt definiál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9320" y="4343400"/>
            <a:ext cx="37335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Kiolvassa a számot a postaládából (emlékezik a cserére, hátha szüksége lesz rá későb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4267080"/>
            <a:ext cx="228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191120"/>
            <a:ext cx="30456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27EE6-DDCF-43FA-AE9D-0F2A8512FD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Végrehajtás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(foly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43779" r="54685" b="19187"/>
          <a:stretch/>
        </p:blipFill>
        <p:spPr>
          <a:xfrm>
            <a:off x="468360" y="1413000"/>
            <a:ext cx="4110120" cy="2754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952880" y="2133720"/>
            <a:ext cx="3581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számológéphez és begépeli a szám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267080"/>
            <a:ext cx="434340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ahoma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ahoma"/>
              </a:rPr>
              <a:t>Odamegy a az utasítás helyét tároló számlálóhoz (utasításszámlálóhoz) és megnyomja (inkrementá-lja), ami után készen áll fetch-elni a következő utasítá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4952880"/>
            <a:ext cx="381240" cy="18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rcRect l="54000" t="65922" r="0" b="0"/>
          <a:stretch/>
        </p:blipFill>
        <p:spPr>
          <a:xfrm>
            <a:off x="4952880" y="3630600"/>
            <a:ext cx="3962520" cy="2577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952880" y="51814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544E-72FB-4191-8043-F2CE183402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Neumann architektúra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1945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t program el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programokat és az adatokat azonos memóriában tárolju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 használata a tartalom figyelembevétele nélkü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ináris számábrázolás használ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 lineáris (szekvenciális) címzé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686B-F5EA-41CA-804E-28E3934551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6</a:t>
            </a: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. Fejezet</a:t>
            </a:r>
            <a:r>
              <a:rPr b="0" lang="en-US" sz="46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4600"/>
            </a:br>
            <a:r>
              <a:rPr b="0" lang="hu-HU" sz="4600" spc="-1" strike="noStrike">
                <a:solidFill>
                  <a:srgbClr val="000000"/>
                </a:solidFill>
                <a:latin typeface="Georgia"/>
              </a:rPr>
              <a:t>Little Man Computer</a:t>
            </a:r>
            <a:br>
              <a:rPr sz="4600"/>
            </a:br>
            <a:r>
              <a:rPr b="0" lang="hu-HU" sz="4200" spc="-1" strike="noStrike">
                <a:solidFill>
                  <a:srgbClr val="000000"/>
                </a:solidFill>
                <a:latin typeface="Georgia"/>
              </a:rPr>
              <a:t>(Kisember számítógép)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5496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86600" cy="46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6FDBC-DEAA-44D2-869F-96143389573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Little Man Computer (LM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339920"/>
          <a:ext cx="9144000" cy="597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39920"/>
                    <a:ext cx="914400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9D62-5E50-4AEA-B87D-AA3B5E9B1E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Postalád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cím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é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tartalo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56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ostaláda adatok tárolására szolg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elérése a postaláda cím alapjá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címek egymást követ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00…99 (100 db rekesz v. leveleslád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 postaláda tartalma (3 számjegy) leh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 va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743200" y="4648320"/>
          <a:ext cx="4027320" cy="1552320"/>
        </p:xfrm>
        <a:graphic>
          <a:graphicData uri="http://schemas.openxmlformats.org/drawingml/2006/table">
            <a:tbl>
              <a:tblPr/>
              <a:tblGrid>
                <a:gridCol w="2014200"/>
                <a:gridCol w="2013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Verdana"/>
                        </a:rPr>
                        <a:t>Cí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Verdana"/>
                        </a:rPr>
                        <a:t>Tartal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0575-ACB7-4D98-A275-37B3D64AF5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Bemeneti és kimeneti kosá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LM bele tehet vagy kivehet egy 3 jegyű számot tartalmazó cetl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láló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0 és 99 között tud számol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Pedá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nyomására a számlálóban tárolt szám értéke eggyel megnövekszi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Értéket nullára állíthatjuk egy külső ún. „reset” (beállító) gombbal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4CB29-12BC-433E-B908-A93FE9805C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LMC elemei II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ológé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három számjegyű decimális számokat tud kezeln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ép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ivonni é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összeadni, valami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 begépelt vagy a számítás eredményeként kapott értéket eltárol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B74A-9041-4E24-A09C-37AF90F9EED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3:43:27Z</dcterms:created>
  <dc:creator>Linda Senne</dc:creator>
  <dc:description/>
  <dc:language>en-US</dc:language>
  <cp:lastModifiedBy>Horváth Zsolt</cp:lastModifiedBy>
  <dcterms:modified xsi:type="dcterms:W3CDTF">2009-05-23T13:14:44Z</dcterms:modified>
  <cp:revision>75</cp:revision>
  <dc:subject/>
  <dc:title>CHAPTER 1: Computer Systems</dc:title>
</cp:coreProperties>
</file>