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17BCD-D70B-4305-AF02-F36B8A261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1F6E1-CA47-40D5-8CD6-E39A1C125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959B1-E2B3-4FC3-8C82-CFDF2476A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A834D-80C1-400E-A039-46CEDE2BD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9BED-A3FE-4A77-82D6-D4982C68C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D76F1-2B23-4F9C-B9DC-9688F3DB5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9C262-979D-4AB8-B15D-1CD51F48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19C52-BAC3-4328-9194-AD2B3C35D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47CEF-D471-4828-A60E-3219415A2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0DAB8-BCFD-45FF-88F6-AAEB79E6B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C3E83-D7BC-4D91-83A0-8F39A0449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AEE55-4CAF-40D4-BAFB-2C44F2C11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C7D18-9649-4D2F-9F8D-ECABC119C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0DEF2-83B4-4C3A-BCB8-57631B42E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7E04A-B229-4113-8D88-328337751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B6F70-FBD6-4F05-892C-0BC47FFA1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4490E-DAAB-4444-8779-365577791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95A84-F2A5-47C3-ADC7-6E5DF8724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2BFC-A057-4FC4-86BD-933D9030C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A2151-3D32-46A1-94AE-4AE52CC14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243E7-1555-4745-8258-7F45673B9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A045A-473A-43CD-BC33-E9F61EC23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FFD19-4325-4832-BEDC-2768FA35E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29F33-56E2-4B63-9CFB-ADA2E1AD5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0C73-3DD9-4EDA-B785-21423DCAF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A3FD6-A5D1-4A34-9024-E841011F0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D7EFD-A101-491B-9A56-5F9DC6DCC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D227E-0193-4991-BD3A-ACD36FC5A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B402D-496B-4438-B615-25E62CD7B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C6D2F-3D23-40DD-ADC8-E024022D7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5C07-9664-4DFC-B81D-383350C56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F02E4-DC11-4182-8653-3CB125611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35F7-9B60-4DD2-B22C-D677E6184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6EAC4-B546-4AAB-91FD-A90A2D11F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0D73E-2588-468E-8147-466EF7208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CC3A-54EC-4373-947C-9AD0AD40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5509-7F0C-44C0-91BB-E15CE78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9455-2216-4CC1-B221-3F2386D4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904B-33A6-4720-80F6-8EAE5A29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F6A9-C36D-40C2-81F1-1FE13BA8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6AE5-336A-4E3E-8F48-1214958C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A948-9797-40A9-90F3-7CB6177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E188-67D7-45FC-B7BB-5499E6A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F764-8567-41FC-9300-F5AC7924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5804-406D-485E-9793-68D8564E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7452-3459-4F4A-8D13-40EFAC7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A335-06B5-452A-94FB-56F73FC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B9D-80AD-46E3-A394-BB4F8BD4DAED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bbc8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b577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sze_logo05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5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. Fejezet</a:t>
            </a: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4600"/>
            </a:b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Little Man Computer</a:t>
            </a:r>
            <a:br>
              <a:rPr sz="4600"/>
            </a:br>
            <a:r>
              <a:rPr b="0" lang="hu-HU" sz="4200" spc="-1" strike="noStrike">
                <a:solidFill>
                  <a:srgbClr val="000000"/>
                </a:solidFill>
                <a:latin typeface="Georgia"/>
              </a:rPr>
              <a:t>(Kisember számítógép)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71800" y="45496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8C00-62DC-4786-B3BB-6F6FED11229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ok felépíté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744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i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űvelet kód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tetszőleges rövidítés (mnemon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operand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ódosítandó „objektu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értéke va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címe, ahol az érték tárolód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4772160"/>
          <a:ext cx="7238880" cy="1554120"/>
        </p:xfrm>
        <a:graphic>
          <a:graphicData uri="http://schemas.openxmlformats.org/drawingml/2006/table">
            <a:tbl>
              <a:tblPr/>
              <a:tblGrid>
                <a:gridCol w="1676520"/>
                <a:gridCol w="2666880"/>
                <a:gridCol w="289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023-ABF1-4719-9E77-1B298AF8FFE8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alap utasítás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13000"/>
          <a:ext cx="8218440" cy="4998960"/>
        </p:xfrm>
        <a:graphic>
          <a:graphicData uri="http://schemas.openxmlformats.org/drawingml/2006/table">
            <a:tbl>
              <a:tblPr/>
              <a:tblGrid>
                <a:gridCol w="3122640"/>
                <a:gridCol w="1577880"/>
                <a:gridCol w="351792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típ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ritmetik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Adat mozgat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Input/Output </a:t>
                      </a:r>
                      <a:br>
                        <a:rPr sz="2800"/>
                      </a:b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(Be-/Kimenet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Vezérlő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Leállás (CO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512A-D8E8-4FB7-9332-E8EDCB602427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sembly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nyelv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függő programnyel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gy az egyhez összerendelés az assembly nyelv utasításai és a bináris gépi kódú (CPU által végrehajtható) utasítások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Mnemonic-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rövid karakter sorozat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utasításokat reprezentál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kkor használjuk, ha a programozónak a hardver pontos vezérlésére van szüksé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pl.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szközmeghajtók (driver-ek) készíté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F60A-730A-4E32-8D68-7781C6E72649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alap utasításainak assembly kódj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600200"/>
          <a:ext cx="8447040" cy="4991040"/>
        </p:xfrm>
        <a:graphic>
          <a:graphicData uri="http://schemas.openxmlformats.org/drawingml/2006/table">
            <a:tbl>
              <a:tblPr/>
              <a:tblGrid>
                <a:gridCol w="1963440"/>
                <a:gridCol w="3821400"/>
                <a:gridCol w="2662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A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ff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C427-F813-46E8-A648-81D3F7A4E54F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put/Output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mozgatása a számológép és a be/ki kosarak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2743200"/>
          <a:ext cx="7162560" cy="2819520"/>
        </p:xfrm>
        <a:graphic>
          <a:graphicData uri="http://schemas.openxmlformats.org/drawingml/2006/table">
            <a:tbl>
              <a:tblPr/>
              <a:tblGrid>
                <a:gridCol w="2077200"/>
                <a:gridCol w="216000"/>
                <a:gridCol w="2510640"/>
                <a:gridCol w="2358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out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CE8-6670-4C64-9D02-A745C3F09AA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5" descr="c06f01"/>
          <p:cNvPicPr/>
          <p:nvPr/>
        </p:nvPicPr>
        <p:blipFill>
          <a:blip r:embed="rId1"/>
          <a:stretch/>
        </p:blipFill>
        <p:spPr>
          <a:xfrm>
            <a:off x="1757520" y="1487520"/>
            <a:ext cx="5962320" cy="4262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Input/Outpu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447920" y="342900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V="1">
            <a:off x="3505320" y="2819520"/>
            <a:ext cx="1218960" cy="83808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>
            <a:off x="3571920" y="3365280"/>
            <a:ext cx="1237320" cy="81180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D34C-6021-45BC-B19D-78D40665968D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Belső adatmozgás 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(LMC-n belü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73484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postaláda és a számológép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2666880"/>
          <a:ext cx="6629400" cy="3048120"/>
        </p:xfrm>
        <a:graphic>
          <a:graphicData uri="http://schemas.openxmlformats.org/drawingml/2006/table">
            <a:tbl>
              <a:tblPr/>
              <a:tblGrid>
                <a:gridCol w="1657080"/>
                <a:gridCol w="316080"/>
                <a:gridCol w="2525760"/>
                <a:gridCol w="2130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STO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LDA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BAD1-6320-47A6-A9E8-1705E7E40635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6" descr="c06f01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4798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belső adatmozgatá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4952880" y="3124080"/>
            <a:ext cx="1295640" cy="114300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 flipH="1">
            <a:off x="5105160" y="2743200"/>
            <a:ext cx="1066680" cy="15228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7315200" y="281952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560-B8F7-4FDD-85EC-A8094F0B484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datok tárolás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at és az adatokat tároló   postaláda fiókok fizikailag azonosa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(általában) nincsenek beleágyazva az utasítások köz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Verdana"/>
              </a:rPr>
              <a:t>D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nemonic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 azonosítja őket az assembly kódb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88A-A6E7-479C-973D-6345EEEBAD45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ában tárolt érték beolvasá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elvégzése a számológép segítségé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8360" y="3197160"/>
          <a:ext cx="8218440" cy="2289240"/>
        </p:xfrm>
        <a:graphic>
          <a:graphicData uri="http://schemas.openxmlformats.org/drawingml/2006/table">
            <a:tbl>
              <a:tblPr/>
              <a:tblGrid>
                <a:gridCol w="2152440"/>
                <a:gridCol w="628920"/>
                <a:gridCol w="2719440"/>
                <a:gridCol w="271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035E-A03E-4900-ACE1-1BE42C1C7A29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c06f01"/>
          <p:cNvPicPr/>
          <p:nvPr/>
        </p:nvPicPr>
        <p:blipFill>
          <a:blip r:embed="rId1"/>
          <a:stretch/>
        </p:blipFill>
        <p:spPr>
          <a:xfrm>
            <a:off x="1066680" y="1523880"/>
            <a:ext cx="708660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9C18-F606-4EB3-8D91-C7F97CADF6EF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7" descr="c06f01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681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4876560" y="2590920"/>
            <a:ext cx="1066680" cy="152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934320" y="228600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Kivon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416C-0D7B-4BB6-B3AE-66F8204D975E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Egyszerű program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  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2 szám összeadá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717560"/>
            <a:ext cx="5721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Feltételezzük, hogy az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at 90&lt; címekkel címzett postaládákba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tárolju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Írjuk meg a programo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19920" y="1752480"/>
            <a:ext cx="2819160" cy="72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első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019920" y="2843280"/>
            <a:ext cx="2819160" cy="72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Eltároljuk a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19920" y="3935520"/>
            <a:ext cx="2819160" cy="72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második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019920" y="4879800"/>
            <a:ext cx="2819160" cy="72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Összeadjuk a két számo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6019920" y="5826240"/>
            <a:ext cx="2819160" cy="72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Kiírjuk az összege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7346880" y="2479680"/>
            <a:ext cx="0" cy="3636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7346880" y="3570120"/>
            <a:ext cx="0" cy="3654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7346880" y="4662360"/>
            <a:ext cx="0" cy="2145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7346880" y="5607000"/>
            <a:ext cx="0" cy="2192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68C6-15E6-4F75-B2F1-F7C3F6B6FA8C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assembly progra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752480"/>
          <a:ext cx="8218440" cy="4815000"/>
        </p:xfrm>
        <a:graphic>
          <a:graphicData uri="http://schemas.openxmlformats.org/drawingml/2006/table">
            <a:tbl>
              <a:tblPr/>
              <a:tblGrid>
                <a:gridCol w="1424160"/>
                <a:gridCol w="2130120"/>
                <a:gridCol w="46641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711-341F-4609-8C5F-5C3DC3169ADF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gépi kódú pro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752480"/>
          <a:ext cx="8218440" cy="4815000"/>
        </p:xfrm>
        <a:graphic>
          <a:graphicData uri="http://schemas.openxmlformats.org/drawingml/2006/table">
            <a:tbl>
              <a:tblPr/>
              <a:tblGrid>
                <a:gridCol w="1424160"/>
                <a:gridCol w="2131920"/>
                <a:gridCol w="46623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épi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0110-21E7-4961-94D0-2D9C1AFFFB9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Mnemonic-okat használ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1716120"/>
          <a:ext cx="8076960" cy="4991040"/>
        </p:xfrm>
        <a:graphic>
          <a:graphicData uri="http://schemas.openxmlformats.org/drawingml/2006/table">
            <a:tbl>
              <a:tblPr/>
              <a:tblGrid>
                <a:gridCol w="1981080"/>
                <a:gridCol w="2209680"/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nem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A8CA-E873-4B6E-918F-44BDF1244E6A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1671480"/>
          <a:ext cx="8056440" cy="4424400"/>
        </p:xfrm>
        <a:graphic>
          <a:graphicData uri="http://schemas.openxmlformats.org/drawingml/2006/table">
            <a:tbl>
              <a:tblPr/>
              <a:tblGrid>
                <a:gridCol w="2014560"/>
                <a:gridCol w="966600"/>
                <a:gridCol w="507528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6F6-4F3A-4E90-9157-5E70B2594962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Program vezérlé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ágaz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szekvenciális utasítás-végrehajtás eltéríté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ím megváltoztatása az utasítás-számlálób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áll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520" y="3048120"/>
          <a:ext cx="7924680" cy="3108240"/>
        </p:xfrm>
        <a:graphic>
          <a:graphicData uri="http://schemas.openxmlformats.org/drawingml/2006/table">
            <a:tbl>
              <a:tblPr/>
              <a:tblGrid>
                <a:gridCol w="2727360"/>
                <a:gridCol w="406080"/>
                <a:gridCol w="2395800"/>
                <a:gridCol w="239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</a:t>
                      </a: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Z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0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P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 +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COB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Leáll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gno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114-B2DC-43BF-A564-D6A61C4FC167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vezérlő 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8360" y="1413000"/>
          <a:ext cx="8218440" cy="5259240"/>
        </p:xfrm>
        <a:graphic>
          <a:graphicData uri="http://schemas.openxmlformats.org/drawingml/2006/table">
            <a:tbl>
              <a:tblPr/>
              <a:tblGrid>
                <a:gridCol w="1574640"/>
                <a:gridCol w="2144880"/>
                <a:gridCol w="4498920"/>
              </a:tblGrid>
              <a:tr h="13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ulla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agyobb nullánál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 (Coffe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21A5-584C-44F6-9B1F-3B2E32F94EE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utasításkészle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193760" y="1487520"/>
          <a:ext cx="5945400" cy="4406760"/>
        </p:xfrm>
        <a:graphic>
          <a:graphicData uri="http://schemas.openxmlformats.org/drawingml/2006/table">
            <a:tbl>
              <a:tblPr/>
              <a:tblGrid>
                <a:gridCol w="2938680"/>
                <a:gridCol w="966600"/>
                <a:gridCol w="204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Aritmetik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Adatmozga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6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7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0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8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+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/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Vezérlő utasítá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kávészünet</a:t>
                      </a: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C67-D47A-4025-BFBB-7DDFAD6669F9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juk ki két szám különbségének abszolút értékét (kimenet pozitív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14400" y="1657440"/>
          <a:ext cx="7772400" cy="505944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  <a:gridCol w="990360"/>
                <a:gridCol w="4876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P 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tes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DA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 negatí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dított sorrendben kell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0D11-E88C-4AE7-B2E7-30FF0589ABC2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0" y="1339920"/>
          <a:ext cx="9144000" cy="59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9A7-F506-47AE-B663-6EBE092F2C4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-végrehajtási cikl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 végrehajtása két lépésre oszthat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Fetch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 (~kikeresé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kideríti, hogy milyen utasítást hajtson vég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Végrehajt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elvégzi az utasítás által definiált művelet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által egy-egy utasítás végrehajtásakor elvégzett tevékenységek sorozatát </a:t>
            </a:r>
            <a:r>
              <a:rPr b="0" i="1" lang="hu-HU" sz="2800" spc="-1" strike="noStrike">
                <a:solidFill>
                  <a:srgbClr val="000000"/>
                </a:solidFill>
                <a:latin typeface="Verdana"/>
              </a:rPr>
              <a:t>utasítás végrehajtási ciklusnak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nevezzü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végrehajtott lépések ciklikusan ismétlődn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F1EE-1E3F-40F6-9627-F682DF27CFAC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része az utasítás-végrehajtási ciklusn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800600" y="2133720"/>
            <a:ext cx="3276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beolvassa a címet az utasítás helyét tároló számlálóból (utasításszámlál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876920" y="4191120"/>
            <a:ext cx="3276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lmegy a postaládához, ami az utasítás-számlálóban tárolt értékhez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c06f05a"/>
          <p:cNvPicPr/>
          <p:nvPr/>
        </p:nvPicPr>
        <p:blipFill>
          <a:blip r:embed="rId1"/>
          <a:srcRect l="0" t="0" r="44547" b="32657"/>
          <a:stretch/>
        </p:blipFill>
        <p:spPr>
          <a:xfrm>
            <a:off x="1295280" y="1752480"/>
            <a:ext cx="327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E7E0-388A-415E-9A7F-751815F080EE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etch,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029200" y="1981080"/>
            <a:ext cx="327672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cetliről leolvassa postaládában tárolt a számot (visszarakja a cetlit, hátha szüksége lesz még rá későb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1066680" y="1795320"/>
            <a:ext cx="388620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F40-90B9-4E4A-9C1E-1E3B76766478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c06f05b"/>
          <p:cNvPicPr/>
          <p:nvPr/>
        </p:nvPicPr>
        <p:blipFill>
          <a:blip r:embed="rId1"/>
          <a:srcRect l="54090" t="22326" r="0" b="43785"/>
          <a:stretch/>
        </p:blipFill>
        <p:spPr>
          <a:xfrm>
            <a:off x="4952880" y="3747960"/>
            <a:ext cx="3657600" cy="26528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Végrehajtás része az utasítás-végrehajtási ciklusnak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7" descr="c06f05b"/>
          <p:cNvPicPr/>
          <p:nvPr/>
        </p:nvPicPr>
        <p:blipFill>
          <a:blip r:embed="rId2"/>
          <a:srcRect l="0" t="0" r="53890" b="68019"/>
          <a:stretch/>
        </p:blipFill>
        <p:spPr>
          <a:xfrm>
            <a:off x="468360" y="1754280"/>
            <a:ext cx="3867120" cy="23605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4191120" y="2438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495680" y="1828800"/>
            <a:ext cx="3581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odamegy ahhoz a postaládához, ami az imént fetch-elt utasítás kódjában volt definiál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4343400"/>
            <a:ext cx="3733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olvassa a számot a postaládából (emlékezik a cserére, hátha szüksége lesz rá későb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5029200" y="42670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876920" y="4191120"/>
            <a:ext cx="304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2A2-3998-4469-8803-032D043BACDA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Végrehajtás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10" descr="c06f05b"/>
          <p:cNvPicPr/>
          <p:nvPr/>
        </p:nvPicPr>
        <p:blipFill>
          <a:blip r:embed="rId1"/>
          <a:srcRect l="0" t="43779" r="54685" b="19187"/>
          <a:stretch/>
        </p:blipFill>
        <p:spPr>
          <a:xfrm>
            <a:off x="468360" y="1413000"/>
            <a:ext cx="4110120" cy="2754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4952880" y="2133720"/>
            <a:ext cx="358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számológéphez és begépeli a szám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62120" y="4267080"/>
            <a:ext cx="43434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az utasítás helyét tároló számlálóhoz (utasításszámlálóhoz) és megnyomja (inkrementá-lja), ami után készen áll fetch-elni a következő utasítá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724280" y="4952880"/>
            <a:ext cx="3812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c06f05b"/>
          <p:cNvPicPr/>
          <p:nvPr/>
        </p:nvPicPr>
        <p:blipFill>
          <a:blip r:embed="rId2"/>
          <a:srcRect l="54000" t="65922" r="0" b="0"/>
          <a:stretch/>
        </p:blipFill>
        <p:spPr>
          <a:xfrm>
            <a:off x="4952880" y="3630600"/>
            <a:ext cx="3962520" cy="2577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4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0E18-FC49-4953-941F-DCDCDADE7ECE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ostalád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cí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é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tartal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56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a adatok tárolására szolg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elérése a postaláda cím alapjá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címek egymást köve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00…99 (100 db rekesz v. leveleslá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tartalma (3 számjegy) leh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 va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43200" y="4648320"/>
          <a:ext cx="4027320" cy="1554120"/>
        </p:xfrm>
        <a:graphic>
          <a:graphicData uri="http://schemas.openxmlformats.org/drawingml/2006/table">
            <a:tbl>
              <a:tblPr/>
              <a:tblGrid>
                <a:gridCol w="2014560"/>
                <a:gridCol w="2012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B72-7292-49A0-AA75-97C3C02D953D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Bemeneti és kimeneti kosá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LM bele tehet vagy kivehet egy 3 jegyű számot tartalmazó cetl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láló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0 és 99 között tud számol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ed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nyomására a számlálóban tárolt szám értéke eggyel megnöveksz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Értéket nullára állíthatjuk egy külső ún. „reset” (beállító) gombb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93B5-66EC-43F3-AD7C-0C19846C4D8F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ógé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három számjegyű decimális számokat tud kezeln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ép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vonni é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összeadni, valami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begépelt vagy a számítás eredményeként kapott értéket eltárol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4D22-ED81-4FD6-B79A-49B95D5BD627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modell határ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Nem foglalkozunk vele, hogy hogyan történik, feltételezzük, hogy rendelkezésre ál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rogram betöltése a memóriá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ok belehelyezése a bemeneti kosárba („In Basket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A0B-855F-418E-94EA-1ABC74C46BE9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LM képes utasításokat végrehajtan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 sorozatát működés előtt elkészítjük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z utasításokat különböző csoportokba oszthatju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ritmetikai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 mozgat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put/output (be-/kimeneti) 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zérlő utasítás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769C-99D5-435D-8E7A-DE469A65CEDC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 tárolás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Verdana"/>
              </a:rPr>
              <a:t>Gépi kód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hoz rendelt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zeket az utasításkódokat valós számítógépekben a processzor közvetlenül tudja értelmezni és végrehajt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gépi kódú utasítások az LMC esetén háromjegyű decimális szám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3:43:27Z</dcterms:created>
  <dc:creator>Linda Senne</dc:creator>
  <dc:description/>
  <dc:language>en-US</dc:language>
  <cp:lastModifiedBy>Dave</cp:lastModifiedBy>
  <dcterms:modified xsi:type="dcterms:W3CDTF">2014-05-10T04:58:30Z</dcterms:modified>
  <cp:revision>77</cp:revision>
  <dc:subject/>
  <dc:title>CHAPTER 1: Computer Systems</dc:title>
</cp:coreProperties>
</file>