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5547-815F-494D-A170-3B6077801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38880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3112-EBBF-4368-8AFF-96F3F47F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708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E9CB-88CD-4908-B1DF-5326CF8E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240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004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240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004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F819-585D-4924-B7C1-68D311CC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D323-9861-496C-AB2A-9922E0846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1810-757A-4C1F-A256-D6A6BA7E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AABC-DEB8-44D2-8D6E-34125F5E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08E1-38EF-42EC-930E-5BF98BA6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6A32-1CC7-4DD5-89E9-885E1D11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27432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A269-E17E-4B56-9343-6869A048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579F-3964-46A1-BF73-4C0D706F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2334-D0A1-4146-9474-B9ABFE87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AF68-1FD9-40A7-BE76-3EA8B8C9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DCF1-8F02-4B9C-9B97-6B5D1FEC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8880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2C03-AE41-48A4-B067-59539575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8CC6-72FA-4AEC-AAF6-9941CB971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6158-8161-4A29-917C-77F071A27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6A94-A6C9-4772-BBC9-7C0121C1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B0EC-8CD4-48F2-9C79-703EF0E3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E5B1-74D5-4CEE-AA0C-538CF38C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27432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C9EF-EE06-4CED-9E9E-3B4E4078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B2A0-EEA5-4940-B3A5-514A232C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708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EF18-9CAC-4FC6-A4C0-54754501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665D-D5CE-41D0-AB52-B44E7ACB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f11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1144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48160"/>
            <a:ext cx="3200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80"/>
                </a:solidFill>
                <a:latin typeface="Times New Roman"/>
              </a:rPr>
              <a:t>4. </a:t>
            </a: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Fejezet:</a:t>
            </a:r>
            <a:r>
              <a:rPr b="0" lang="hu-HU" sz="1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Az integer </a:t>
            </a:r>
            <a:r>
              <a:rPr b="0" lang="hu-HU" sz="1400" spc="-1" strike="noStrike">
                <a:solidFill>
                  <a:srgbClr val="000080"/>
                </a:solidFill>
                <a:latin typeface="Times New Roman"/>
              </a:rPr>
              <a:t>ábrázolá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f1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f11"/>
                </a:solidFill>
                <a:latin typeface="Times New Roman"/>
              </a:rPr>
              <a:t>4-</a:t>
            </a:r>
            <a:fld id="{E5ADA2F9-D957-459A-BFAE-D31A9E837550}" type="slidenum">
              <a:rPr b="0" lang="en-US" sz="1400" spc="-1" strike="noStrike">
                <a:solidFill>
                  <a:srgbClr val="ff9f1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762120" y="228600"/>
            <a:ext cx="0" cy="5943600"/>
          </a:xfrm>
          <a:prstGeom prst="line">
            <a:avLst/>
          </a:prstGeom>
          <a:ln w="69840">
            <a:solidFill>
              <a:srgbClr val="ff9f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304560" y="1371600"/>
            <a:ext cx="8381880" cy="0"/>
          </a:xfrm>
          <a:prstGeom prst="line">
            <a:avLst/>
          </a:prstGeom>
          <a:ln w="69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52280" y="533520"/>
            <a:ext cx="487440" cy="70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396E-4F3F-469B-A8C2-50BAEF346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685800" y="152280"/>
            <a:ext cx="0" cy="5943600"/>
          </a:xfrm>
          <a:prstGeom prst="line">
            <a:avLst/>
          </a:prstGeom>
          <a:ln w="69840">
            <a:solidFill>
              <a:srgbClr val="ff9f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28240" y="2133720"/>
            <a:ext cx="8381880" cy="0"/>
          </a:xfrm>
          <a:prstGeom prst="line">
            <a:avLst/>
          </a:prstGeom>
          <a:ln w="69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487440" cy="7048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f11"/>
              </a:buClr>
              <a:buSzPct val="5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8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Arial"/>
              </a:rPr>
              <a:t>4</a:t>
            </a:r>
            <a:r>
              <a:rPr b="0" lang="hu-HU" sz="4000" spc="-1" strike="noStrike">
                <a:solidFill>
                  <a:srgbClr val="000080"/>
                </a:solidFill>
                <a:latin typeface="Arial"/>
              </a:rPr>
              <a:t>. Fejezet</a:t>
            </a:r>
            <a:r>
              <a:rPr b="0" lang="en-US" sz="4000" spc="-1" strike="noStrike">
                <a:solidFill>
                  <a:srgbClr val="000080"/>
                </a:solidFill>
                <a:latin typeface="Arial"/>
              </a:rPr>
              <a:t> :</a:t>
            </a:r>
            <a:br>
              <a:rPr sz="4000"/>
            </a:br>
            <a:r>
              <a:rPr b="0" lang="hu-HU" sz="4000" spc="-1" strike="noStrike">
                <a:solidFill>
                  <a:srgbClr val="000080"/>
                </a:solidFill>
                <a:latin typeface="Arial"/>
              </a:rPr>
              <a:t>Az egész számok (integer) ábrázolása</a:t>
            </a:r>
            <a:endParaRPr b="0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7720" y="236196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80"/>
                </a:solidFill>
                <a:latin typeface="Arial"/>
              </a:rPr>
              <a:t>The Architecture of Computer Hardware and Systems Software: </a:t>
            </a:r>
            <a:br>
              <a:rPr sz="2800"/>
            </a:br>
            <a:r>
              <a:rPr b="1" lang="hu-HU" sz="2400" spc="-1" strike="noStrike">
                <a:solidFill>
                  <a:srgbClr val="000080"/>
                </a:solidFill>
                <a:latin typeface="Arial"/>
              </a:rPr>
              <a:t>An Information Technology Approach</a:t>
            </a:r>
            <a:endParaRPr b="1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9f11"/>
                </a:solidFill>
                <a:latin typeface="Arial"/>
              </a:rPr>
              <a:t>3. kiadás</a:t>
            </a: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, Irv Englander</a:t>
            </a:r>
            <a:endParaRPr b="1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John Wiley and Sons </a:t>
            </a:r>
            <a:r>
              <a:rPr b="1" lang="en-US" sz="2400" spc="-1" strike="noStrike">
                <a:solidFill>
                  <a:srgbClr val="ff9f11"/>
                </a:solidFill>
                <a:latin typeface="Symbol"/>
                <a:ea typeface="Symbol"/>
              </a:rPr>
              <a:t></a:t>
            </a: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2003</a:t>
            </a:r>
            <a:endParaRPr b="1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Wilson Wong, Bentley College</a:t>
            </a:r>
            <a:endParaRPr b="1" lang="en-US" sz="20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inda Senne, </a:t>
            </a:r>
            <a:r>
              <a:rPr b="1" lang="hu-HU" sz="2000" spc="-1" strike="noStrike">
                <a:solidFill>
                  <a:srgbClr val="000080"/>
                </a:solidFill>
                <a:latin typeface="Arial"/>
              </a:rPr>
              <a:t>Bentley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College</a:t>
            </a:r>
            <a:endParaRPr b="1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Bonyolult számítási algoritmusok</a:t>
            </a: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792468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őjel-és-érték algoritmusok összetettek és bonyolultak ahhoz, hogy hardver hajtsa vé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izsgálni kell a 0 mindkét értéké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CD kódolás esetén használhat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előjeles szám és a carry/átvitel sorrendje hibát oko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élda:  Decimális összeadó algorit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14400" y="3862440"/>
          <a:ext cx="7772400" cy="2355840"/>
        </p:xfrm>
        <a:graphic>
          <a:graphicData uri="http://schemas.openxmlformats.org/drawingml/2006/table">
            <a:tbl>
              <a:tblPr/>
              <a:tblGrid>
                <a:gridCol w="3757680"/>
                <a:gridCol w="1366920"/>
                <a:gridCol w="1366560"/>
                <a:gridCol w="1281240"/>
              </a:tblGrid>
              <a:tr h="98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Összeadás: 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</a:t>
                      </a: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zitív szá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Összeadás: 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</a:t>
                      </a: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őjeles szá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9f11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r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+2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r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- 2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r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- 4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r" pos="574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- 4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EC92-4F59-42E5-8F90-3F85905D98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Komplemens </a:t>
            </a: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ábrázolá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szám előjelét nem kell elkülönítve kezel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egegyezik minden különböző előjelű bemeneti számkombináció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ét móds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lapszá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lap (abszolút) érté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sökkentett al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lap értéke mínusz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es komplemens: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2-es al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sökkentett alap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BA92-CE25-433A-A718-9E5F210944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Modulus aritmetika (számolás)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űveletek eredménye megadja a (számolás alapjaként használt értékkel) modulus történő osztás maradéká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él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4 mod 4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5 mod 4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1000 mod 999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odulusos aritmetika legfontosabb jellemző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ámolást nullától újrakezdjük, ha a számolás során túllépnénk a </a:t>
            </a:r>
            <a:r>
              <a:rPr b="0" i="1" lang="hu-HU" sz="2400" spc="-1" strike="noStrike">
                <a:solidFill>
                  <a:srgbClr val="000080"/>
                </a:solidFill>
                <a:latin typeface="Arial"/>
              </a:rPr>
              <a:t>modulu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1BA7-4F44-44B7-BCA1-05AEA6AE8E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Számábrázolás választásának indokai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egyen konzisztens (hasonló logikájú) a megszokott aritmetiká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(-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rté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rté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 egy értéknek kétszer kiszámoljuk a  komplemensét, akkor az eredeti értéket kapjuk vissz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plemens =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l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rté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 komplemens értékre még egyszer alkalmazzuk a komplemens számolá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lap – komplemens = al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l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érté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érték (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A396-E6C3-4909-B72B-430240FA07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Túlcsordulá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ögzített szó (word) méretnek rögzített a terjedel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úlcsordulás: számok azon kombinációja, amelyek összege a határon kívül es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úlcsordulás átvitellel, ezt a problémát kerüli 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omplemenses aritmetika: </a:t>
            </a:r>
            <a:r>
              <a:rPr b="0" i="1" lang="hu-HU" sz="2800" spc="-1" strike="noStrike">
                <a:solidFill>
                  <a:srgbClr val="000080"/>
                </a:solidFill>
                <a:latin typeface="Arial"/>
              </a:rPr>
              <a:t>határon kívüli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számoknak ellentétes előjelük 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szt: Ha összeadásnál mindkét bemeneti szám azonos előjelű és az eredmény előjele más, akkor túlcsordulás lépett 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79AA-380C-4CF2-82F4-3060054E78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1-es bináris komplemen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80"/>
                </a:solidFill>
                <a:latin typeface="Arial"/>
              </a:rPr>
              <a:t>Komplemens számítá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az érték kivonása az alap eredeti értékébő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ináris (2-es alap) csökkentett alapú komplemen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lap mínusz 1 = 2 – 1         1 mint az ala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80"/>
                </a:solidFill>
                <a:latin typeface="Arial"/>
              </a:rPr>
              <a:t>Invertálás: egyesek és nullák felcserélése (1-&gt;0, 0-&gt;1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0-val kezdődő számok pozitív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1-el kezdődő számok negatív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ét értéke van a nullának (-0, +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élda 8 bit-es bináris számok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14400" y="4038480"/>
          <a:ext cx="8001000" cy="1825920"/>
        </p:xfrm>
        <a:graphic>
          <a:graphicData uri="http://schemas.openxmlformats.org/drawingml/2006/table">
            <a:tbl>
              <a:tblPr/>
              <a:tblGrid>
                <a:gridCol w="2914560"/>
                <a:gridCol w="1219320"/>
                <a:gridCol w="1200240"/>
                <a:gridCol w="1390680"/>
                <a:gridCol w="1276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ám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í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ití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gjelenítési mó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mpleme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m önma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imális szám terjedel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-127</a:t>
                      </a:r>
                      <a:r>
                        <a:rPr b="1" i="1" lang="hu-HU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-0</a:t>
                      </a:r>
                      <a:r>
                        <a:rPr b="1" i="1" lang="hu-HU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+0</a:t>
                      </a:r>
                      <a:r>
                        <a:rPr b="1" i="1" lang="hu-HU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27</a:t>
                      </a:r>
                      <a:r>
                        <a:rPr b="1" i="1" lang="hu-HU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ámol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ál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Ábrázolási pél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9f11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00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r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111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00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r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111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3733920" y="213372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9ADA-2DF5-4C98-B70E-45DBC42706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1-es bináris komplemens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1. Példa:</a:t>
            </a:r>
            <a:r>
              <a:rPr b="0" lang="hu-HU" sz="3200" spc="-1" strike="noStrike">
                <a:solidFill>
                  <a:srgbClr val="ff0000"/>
                </a:solidFill>
                <a:latin typeface="Arial"/>
              </a:rPr>
              <a:t> 0</a:t>
            </a:r>
            <a:r>
              <a:rPr b="0" lang="hu-HU" sz="3200" spc="-1" strike="noStrike">
                <a:solidFill>
                  <a:srgbClr val="03c10c"/>
                </a:solidFill>
                <a:latin typeface="Arial"/>
              </a:rPr>
              <a:t>101 1111</a:t>
            </a:r>
            <a:r>
              <a:rPr b="0" lang="hu-HU" sz="3200" spc="-1" strike="noStrike" baseline="-25000">
                <a:solidFill>
                  <a:srgbClr val="000000"/>
                </a:solidFill>
                <a:latin typeface="Arial"/>
              </a:rPr>
              <a:t>1kB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hu-HU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hu-HU" sz="3200" spc="-1" strike="noStrike">
                <a:solidFill>
                  <a:srgbClr val="03c10c"/>
                </a:solidFill>
                <a:latin typeface="Arial"/>
              </a:rPr>
              <a:t>95</a:t>
            </a:r>
            <a:r>
              <a:rPr b="0" lang="hu-HU" sz="3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2. Példa:</a:t>
            </a:r>
            <a:r>
              <a:rPr b="0" lang="hu-HU" sz="3200" spc="-1" strike="noStrike">
                <a:solidFill>
                  <a:srgbClr val="ff0000"/>
                </a:solidFill>
                <a:latin typeface="Arial"/>
              </a:rPr>
              <a:t> 1</a:t>
            </a:r>
            <a:r>
              <a:rPr b="0" lang="hu-HU" sz="3200" spc="-1" strike="noStrike">
                <a:solidFill>
                  <a:srgbClr val="0000ff"/>
                </a:solidFill>
                <a:latin typeface="Arial"/>
              </a:rPr>
              <a:t>010 0000</a:t>
            </a:r>
            <a:r>
              <a:rPr b="0" lang="hu-HU" sz="3200" spc="-1" strike="noStrike" baseline="-25000">
                <a:solidFill>
                  <a:srgbClr val="000000"/>
                </a:solidFill>
                <a:latin typeface="Arial"/>
              </a:rPr>
              <a:t>1k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negatí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negáltja amely egyben az abszolút értéke is(!!!): </a:t>
            </a:r>
            <a:r>
              <a:rPr b="0" lang="hu-HU" sz="2800" spc="-1" strike="noStrike">
                <a:solidFill>
                  <a:srgbClr val="03c10c"/>
                </a:solidFill>
                <a:latin typeface="Arial"/>
              </a:rPr>
              <a:t>0101 1111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= |</a:t>
            </a:r>
            <a:r>
              <a:rPr b="0" lang="hu-HU" sz="2800" spc="-1" strike="noStrike">
                <a:solidFill>
                  <a:srgbClr val="03c10c"/>
                </a:solidFill>
                <a:latin typeface="Arial"/>
              </a:rPr>
              <a:t>95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ehát az eredmény: </a:t>
            </a: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hu-HU" sz="2800" spc="-1" strike="noStrike">
                <a:solidFill>
                  <a:srgbClr val="03c10c"/>
                </a:solidFill>
                <a:latin typeface="Arial"/>
              </a:rPr>
              <a:t>95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1072-764C-4D07-A4AB-4EF5F0AB02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 flipH="1">
            <a:off x="3276360" y="2514600"/>
            <a:ext cx="1981080" cy="2743200"/>
          </a:xfrm>
          <a:prstGeom prst="line">
            <a:avLst/>
          </a:prstGeom>
          <a:ln w="63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Összeadás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djunk össze 2 db 8 bit-es pozitív szám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djunk össze 2db 8 bit-es különböző előjelű szám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együk az 58 egyes komplemens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vertálju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0011 1010</a:t>
            </a:r>
            <a:br>
              <a:rPr sz="2400"/>
            </a:b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1100 0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181480" y="3200400"/>
          <a:ext cx="3276720" cy="1552680"/>
        </p:xfrm>
        <a:graphic>
          <a:graphicData uri="http://schemas.openxmlformats.org/drawingml/2006/table">
            <a:tbl>
              <a:tblPr/>
              <a:tblGrid>
                <a:gridCol w="1870200"/>
                <a:gridCol w="568440"/>
                <a:gridCol w="838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10 1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00 0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 0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–</a:t>
                      </a:r>
                      <a:r>
                        <a:rPr b="1" lang="en-US" sz="2800" spc="-1" strike="noStrike">
                          <a:solidFill>
                            <a:srgbClr val="ff9f11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181480" y="1523880"/>
          <a:ext cx="3505320" cy="1597320"/>
        </p:xfrm>
        <a:graphic>
          <a:graphicData uri="http://schemas.openxmlformats.org/drawingml/2006/table">
            <a:tbl>
              <a:tblPr/>
              <a:tblGrid>
                <a:gridCol w="2000520"/>
                <a:gridCol w="608040"/>
                <a:gridCol w="896760"/>
              </a:tblGrid>
              <a:tr h="55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10 1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11 1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0 0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5257800" y="4876920"/>
          <a:ext cx="3276720" cy="912600"/>
        </p:xfrm>
        <a:graphic>
          <a:graphicData uri="http://schemas.openxmlformats.org/drawingml/2006/table">
            <a:tbl>
              <a:tblPr/>
              <a:tblGrid>
                <a:gridCol w="1905120"/>
                <a:gridCol w="533160"/>
                <a:gridCol w="838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3c10c"/>
                          </a:solidFill>
                          <a:latin typeface="Arial"/>
                        </a:rPr>
                        <a:t>0000 1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3c10c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0" lang="en-US" sz="2400" spc="-1" strike="noStrike">
                          <a:solidFill>
                            <a:srgbClr val="03c10c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0" lang="en-US" sz="2400" spc="-1" strike="noStrike">
                          <a:solidFill>
                            <a:srgbClr val="03c10c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r>
                        <a:rPr b="0" lang="en-US" sz="2400" spc="-1" strike="noStrike">
                          <a:solidFill>
                            <a:srgbClr val="03c10c"/>
                          </a:solidFill>
                          <a:latin typeface="Arial"/>
                        </a:rPr>
                        <a:t>13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 flipV="1">
            <a:off x="3276720" y="4038480"/>
            <a:ext cx="1981080" cy="1524240"/>
          </a:xfrm>
          <a:prstGeom prst="line">
            <a:avLst/>
          </a:prstGeom>
          <a:ln w="63360">
            <a:solidFill>
              <a:srgbClr val="ff9f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886200" y="4495680"/>
            <a:ext cx="1676160" cy="1409040"/>
            <a:chOff x="3886200" y="4495680"/>
            <a:chExt cx="1676160" cy="1409040"/>
          </a:xfrm>
        </p:grpSpPr>
        <p:sp>
          <p:nvSpPr>
            <p:cNvPr id="134" name=""/>
            <p:cNvSpPr/>
            <p:nvPr/>
          </p:nvSpPr>
          <p:spPr>
            <a:xfrm>
              <a:off x="4503600" y="4495680"/>
              <a:ext cx="617760" cy="714960"/>
            </a:xfrm>
            <a:custGeom>
              <a:avLst/>
              <a:gdLst>
                <a:gd name="textAreaLeft" fmla="*/ 82800 w 617760"/>
                <a:gd name="textAreaRight" fmla="*/ 534960 w 617760"/>
                <a:gd name="textAreaTop" fmla="*/ 130680 h 714960"/>
                <a:gd name="textAreaBottom" fmla="*/ 489240 h 71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912" stAng="-5400000" swAng="-5400000"/>
                  <a:lnTo>
                    <a:pt x="0" y="10824"/>
                  </a:lnTo>
                  <a:arcTo wR="21600" hR="7912" stAng="10800000" swAng="-3501089"/>
                  <a:lnTo>
                    <a:pt x="16843" y="21406"/>
                  </a:lnTo>
                  <a:lnTo>
                    <a:pt x="21600" y="17280"/>
                  </a:lnTo>
                  <a:lnTo>
                    <a:pt x="16843" y="12766"/>
                  </a:lnTo>
                  <a:lnTo>
                    <a:pt x="16843" y="15630"/>
                  </a:lnTo>
                  <a:arcTo wR="21600" hR="7912" stAng="7298911" swAng="3265702"/>
                  <a:lnTo>
                    <a:pt x="369" y="9368"/>
                  </a:lnTo>
                  <a:arcTo wR="21600" hR="7912" stAng="-10564613" swAng="5164613"/>
                  <a:close/>
                </a:path>
                <a:path fill="darkenLess" w="21600" h="21600">
                  <a:moveTo>
                    <a:pt x="21600" y="0"/>
                  </a:moveTo>
                  <a:arcTo wR="21600" hR="7912" stAng="-5400000" swAng="-5400000"/>
                  <a:lnTo>
                    <a:pt x="0" y="7912"/>
                  </a:lnTo>
                  <a:arcTo wR="21600" hR="7912" stAng="10800000" swAng="-235387"/>
                  <a:lnTo>
                    <a:pt x="369" y="9368"/>
                  </a:lnTo>
                  <a:arcTo wR="21600" hR="7912" stAng="-10564613" swAng="5164613"/>
                  <a:close/>
                </a:path>
              </a:pathLst>
            </a:custGeom>
            <a:solidFill>
              <a:srgbClr val="ff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86200" y="5080680"/>
              <a:ext cx="1676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Invertáljuk, hogy megkapjuk az érték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 flipV="1">
            <a:off x="8001000" y="4723920"/>
            <a:ext cx="152280" cy="685800"/>
          </a:xfrm>
          <a:prstGeom prst="line">
            <a:avLst/>
          </a:prstGeom>
          <a:ln w="50760">
            <a:solidFill>
              <a:srgbClr val="ff9f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25909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1785-FB49-4089-A40D-0354EC06D4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Összeadás átvitellel (c</a:t>
            </a: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arry</a:t>
            </a: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-vel)</a:t>
            </a: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523880" y="1600200"/>
          <a:ext cx="3276720" cy="1552680"/>
        </p:xfrm>
        <a:graphic>
          <a:graphicData uri="http://schemas.openxmlformats.org/drawingml/2006/table">
            <a:tbl>
              <a:tblPr/>
              <a:tblGrid>
                <a:gridCol w="1870200"/>
                <a:gridCol w="568440"/>
                <a:gridCol w="838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10 1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r>
                        <a:rPr b="0" lang="hu-H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 0</a:t>
                      </a:r>
                      <a:r>
                        <a:rPr b="0" lang="hu-H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–</a:t>
                      </a: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hu-HU" sz="2800" spc="-1" strike="noStrike">
                          <a:solidFill>
                            <a:srgbClr val="03c10c"/>
                          </a:solidFill>
                          <a:latin typeface="Arial"/>
                        </a:rPr>
                        <a:t>00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2800" spc="-1" strike="noStrike">
                          <a:solidFill>
                            <a:srgbClr val="03c10c"/>
                          </a:solidFill>
                          <a:latin typeface="Arial"/>
                        </a:rPr>
                        <a:t>11</a:t>
                      </a:r>
                      <a:r>
                        <a:rPr b="0" lang="en-US" sz="2800" spc="-1" strike="noStrike">
                          <a:solidFill>
                            <a:srgbClr val="03c10c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5410080" y="1600200"/>
          <a:ext cx="3276720" cy="1035000"/>
        </p:xfrm>
        <a:graphic>
          <a:graphicData uri="http://schemas.openxmlformats.org/drawingml/2006/table">
            <a:tbl>
              <a:tblPr/>
              <a:tblGrid>
                <a:gridCol w="1870200"/>
                <a:gridCol w="568080"/>
                <a:gridCol w="838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r>
                        <a:rPr b="0" lang="hu-H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r>
                        <a:rPr b="0" lang="hu-H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–</a:t>
                      </a: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3c10c"/>
                          </a:solidFill>
                          <a:latin typeface="Arial"/>
                        </a:rPr>
                        <a:t>000</a:t>
                      </a:r>
                      <a:r>
                        <a:rPr b="0" lang="en-US" sz="2800" spc="-1" strike="noStrike">
                          <a:solidFill>
                            <a:srgbClr val="03c10c"/>
                          </a:solidFill>
                          <a:latin typeface="Arial"/>
                        </a:rPr>
                        <a:t>1 </a:t>
                      </a:r>
                      <a:r>
                        <a:rPr b="0" lang="hu-HU" sz="2800" spc="-1" strike="noStrike">
                          <a:solidFill>
                            <a:srgbClr val="03c10c"/>
                          </a:solidFill>
                          <a:latin typeface="Arial"/>
                        </a:rPr>
                        <a:t>11</a:t>
                      </a:r>
                      <a:r>
                        <a:rPr b="0" lang="en-US" sz="2800" spc="-1" strike="noStrike">
                          <a:solidFill>
                            <a:srgbClr val="03c10c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r>
                        <a:rPr b="0" lang="hu-HU" sz="2800" spc="-1" strike="noStrike">
                          <a:solidFill>
                            <a:srgbClr val="03c10c"/>
                          </a:solidFill>
                          <a:latin typeface="Arial"/>
                        </a:rPr>
                        <a:t>30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 flipV="1">
            <a:off x="4724280" y="1828800"/>
            <a:ext cx="685800" cy="457200"/>
          </a:xfrm>
          <a:prstGeom prst="line">
            <a:avLst/>
          </a:prstGeom>
          <a:ln w="50760">
            <a:solidFill>
              <a:srgbClr val="ff9f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2666880"/>
            <a:ext cx="533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ff"/>
                </a:solidFill>
                <a:latin typeface="Arial"/>
              </a:rPr>
              <a:t>1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371600" y="3200400"/>
            <a:ext cx="1523520" cy="228600"/>
            <a:chOff x="1371600" y="3200400"/>
            <a:chExt cx="1523520" cy="228600"/>
          </a:xfrm>
        </p:grpSpPr>
        <p:sp>
          <p:nvSpPr>
            <p:cNvPr id="144" name=""/>
            <p:cNvSpPr/>
            <p:nvPr/>
          </p:nvSpPr>
          <p:spPr>
            <a:xfrm>
              <a:off x="1371600" y="3200400"/>
              <a:ext cx="0" cy="2286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71600" y="3429000"/>
              <a:ext cx="1523520" cy="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819520" y="3200400"/>
            <a:ext cx="609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hu-HU" sz="2800" spc="-1" strike="noStrike">
                <a:solidFill>
                  <a:srgbClr val="03c10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429000" y="3124080"/>
          <a:ext cx="1406520" cy="517680"/>
        </p:xfrm>
        <a:graphic>
          <a:graphicData uri="http://schemas.openxmlformats.org/drawingml/2006/table">
            <a:tbl>
              <a:tblPr/>
              <a:tblGrid>
                <a:gridCol w="568440"/>
                <a:gridCol w="838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3c10c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505320" y="3124080"/>
          <a:ext cx="1406520" cy="1035000"/>
        </p:xfrm>
        <a:graphic>
          <a:graphicData uri="http://schemas.openxmlformats.org/drawingml/2006/table">
            <a:tbl>
              <a:tblPr/>
              <a:tblGrid>
                <a:gridCol w="568080"/>
                <a:gridCol w="838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</a:t>
                      </a:r>
                      <a:r>
                        <a:rPr b="0" lang="hu-HU" sz="2800" spc="-1" strike="noStrike">
                          <a:solidFill>
                            <a:srgbClr val="03c10c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242D-491C-43BD-A58C-D7FE7564F3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Összeadás</a:t>
            </a: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átvitellel (c</a:t>
            </a: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arry</a:t>
            </a: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-vel)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8 bit-es szá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gatív érték hozzáadá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vertálás</a:t>
            </a:r>
            <a:br>
              <a:rPr sz="2000"/>
            </a:b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0000 00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(2</a:t>
            </a:r>
            <a:r>
              <a:rPr b="0" lang="en-US" sz="2000" spc="-1" strike="noStrike" baseline="-25000">
                <a:solidFill>
                  <a:srgbClr val="00008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9f11"/>
                </a:solidFill>
                <a:latin typeface="Arial"/>
              </a:rPr>
              <a:t>1111 1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Összead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9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úlcsordulás átvitell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105520" y="2514600"/>
          <a:ext cx="3573360" cy="2603520"/>
        </p:xfrm>
        <a:graphic>
          <a:graphicData uri="http://schemas.openxmlformats.org/drawingml/2006/table">
            <a:tbl>
              <a:tblPr/>
              <a:tblGrid>
                <a:gridCol w="2068560"/>
                <a:gridCol w="607680"/>
                <a:gridCol w="897120"/>
              </a:tblGrid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0 1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11 1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0 0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0 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 flipV="1">
            <a:off x="3276720" y="3352680"/>
            <a:ext cx="1981080" cy="609840"/>
          </a:xfrm>
          <a:prstGeom prst="line">
            <a:avLst/>
          </a:prstGeom>
          <a:ln w="63360">
            <a:solidFill>
              <a:srgbClr val="ff9f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181480" y="3657600"/>
            <a:ext cx="1447920" cy="762120"/>
            <a:chOff x="5181480" y="3657600"/>
            <a:chExt cx="1447920" cy="762120"/>
          </a:xfrm>
        </p:grpSpPr>
        <p:sp>
          <p:nvSpPr>
            <p:cNvPr id="154" name=""/>
            <p:cNvSpPr/>
            <p:nvPr/>
          </p:nvSpPr>
          <p:spPr>
            <a:xfrm>
              <a:off x="5181480" y="3657600"/>
              <a:ext cx="228600" cy="457200"/>
            </a:xfrm>
            <a:prstGeom prst="ellipse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5334120" y="4191120"/>
              <a:ext cx="1295280" cy="228600"/>
              <a:chOff x="5334120" y="4191120"/>
              <a:chExt cx="1295280" cy="228600"/>
            </a:xfrm>
          </p:grpSpPr>
          <p:sp>
            <p:nvSpPr>
              <p:cNvPr id="156" name=""/>
              <p:cNvSpPr/>
              <p:nvPr/>
            </p:nvSpPr>
            <p:spPr>
              <a:xfrm>
                <a:off x="5334120" y="4191120"/>
                <a:ext cx="0" cy="2286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334120" y="4419720"/>
                <a:ext cx="1295280" cy="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>
            <a:off x="3200400" y="3886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96080" y="25146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96080" y="45720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AB1E-DB2F-4B3D-B377-7E41BC8E4F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Számábrázolá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gészszámok ábrázolásához a következő információt kell tárolnun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észszám abszolút értéke (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ue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gnitude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őj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lusz vagy mínus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BFD1-951E-4490-B125-CBCBDE6870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Kivonás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átvitellel (c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arry</a:t>
            </a: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-vel)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8 bit-es számábrázo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ám kivonása = szám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1 szeresének hozzáadása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800" spc="-1" strike="noStrike">
                <a:solidFill>
                  <a:srgbClr val="ff00ff"/>
                </a:solidFill>
                <a:latin typeface="Arial"/>
              </a:rPr>
              <a:t>negatív alak!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vertálás</a:t>
            </a:r>
            <a:br>
              <a:rPr sz="2000"/>
            </a:b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0101 10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(90</a:t>
            </a:r>
            <a:r>
              <a:rPr b="0" lang="en-US" sz="2000" spc="-1" strike="noStrike" baseline="-25000">
                <a:solidFill>
                  <a:srgbClr val="00008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9f11"/>
                </a:solidFill>
                <a:latin typeface="Arial"/>
              </a:rPr>
              <a:t>1010 0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Összead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9 b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úlcsordulás átvitelle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876920" y="1523880"/>
          <a:ext cx="3809880" cy="4519800"/>
        </p:xfrm>
        <a:graphic>
          <a:graphicData uri="http://schemas.openxmlformats.org/drawingml/2006/table">
            <a:tbl>
              <a:tblPr/>
              <a:tblGrid>
                <a:gridCol w="2205000"/>
                <a:gridCol w="309600"/>
                <a:gridCol w="1295280"/>
              </a:tblGrid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0 1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-</a:t>
                      </a: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1 1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-</a:t>
                      </a:r>
                      <a:r>
                        <a:rPr b="0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(+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90</a:t>
                      </a: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0 1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10 0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00 1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01 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3124080" y="3886200"/>
            <a:ext cx="1752840" cy="0"/>
          </a:xfrm>
          <a:prstGeom prst="line">
            <a:avLst/>
          </a:prstGeom>
          <a:ln w="63360">
            <a:solidFill>
              <a:srgbClr val="ff9f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105520" y="4419720"/>
            <a:ext cx="1447200" cy="761400"/>
            <a:chOff x="5105520" y="4419720"/>
            <a:chExt cx="1447200" cy="761400"/>
          </a:xfrm>
        </p:grpSpPr>
        <p:sp>
          <p:nvSpPr>
            <p:cNvPr id="166" name=""/>
            <p:cNvSpPr/>
            <p:nvPr/>
          </p:nvSpPr>
          <p:spPr>
            <a:xfrm>
              <a:off x="5105520" y="4419720"/>
              <a:ext cx="228240" cy="456840"/>
            </a:xfrm>
            <a:prstGeom prst="ellipse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5257800" y="4952880"/>
              <a:ext cx="1294920" cy="228240"/>
              <a:chOff x="5257800" y="4952880"/>
              <a:chExt cx="1294920" cy="228240"/>
            </a:xfrm>
          </p:grpSpPr>
          <p:sp>
            <p:nvSpPr>
              <p:cNvPr id="168" name=""/>
              <p:cNvSpPr/>
              <p:nvPr/>
            </p:nvSpPr>
            <p:spPr>
              <a:xfrm>
                <a:off x="5257800" y="4952880"/>
                <a:ext cx="0" cy="22824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257800" y="5181120"/>
                <a:ext cx="1294920" cy="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"/>
          <p:cNvSpPr/>
          <p:nvPr/>
        </p:nvSpPr>
        <p:spPr>
          <a:xfrm>
            <a:off x="3124080" y="3886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733560" y="2514600"/>
            <a:ext cx="1523880" cy="1143000"/>
          </a:xfrm>
          <a:prstGeom prst="line">
            <a:avLst/>
          </a:prstGeom>
          <a:ln w="63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3886200"/>
            <a:ext cx="609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96080" y="15238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96080" y="3276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C57A-9FF6-47A3-B17A-326AE6B21D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Kivonás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8 bit-es számábrázo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ám kivonása =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ám -1 szeresének hozzáadása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800" spc="-1" strike="noStrike">
                <a:solidFill>
                  <a:srgbClr val="ff00ff"/>
                </a:solidFill>
                <a:latin typeface="Arial"/>
              </a:rPr>
              <a:t>negatív alak!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vertálás</a:t>
            </a:r>
            <a:br>
              <a:rPr sz="2000"/>
            </a:br>
            <a:r>
              <a:rPr b="0" lang="hu-HU" sz="2000" spc="-1" strike="noStrike">
                <a:solidFill>
                  <a:srgbClr val="ff9f11"/>
                </a:solidFill>
                <a:latin typeface="Arial"/>
              </a:rPr>
              <a:t>1111 01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(</a:t>
            </a:r>
            <a:r>
              <a:rPr b="0" lang="hu-HU" sz="2000" spc="-1" strike="noStrike">
                <a:solidFill>
                  <a:srgbClr val="00008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9</a:t>
            </a:r>
            <a:r>
              <a:rPr b="0" lang="en-US" sz="2000" spc="-1" strike="noStrike" baseline="-25000">
                <a:solidFill>
                  <a:srgbClr val="00008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80"/>
                </a:solidFill>
                <a:latin typeface="Arial"/>
              </a:rPr>
              <a:t>0000 1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összead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876920" y="1523880"/>
          <a:ext cx="3809880" cy="3405240"/>
        </p:xfrm>
        <a:graphic>
          <a:graphicData uri="http://schemas.openxmlformats.org/drawingml/2006/table">
            <a:tbl>
              <a:tblPr/>
              <a:tblGrid>
                <a:gridCol w="2205000"/>
                <a:gridCol w="538200"/>
                <a:gridCol w="1066680"/>
              </a:tblGrid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0 1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11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1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-</a:t>
                      </a:r>
                      <a:r>
                        <a:rPr b="0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(-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9</a:t>
                      </a: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0 1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1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3352680" y="3962520"/>
            <a:ext cx="1524240" cy="75960"/>
          </a:xfrm>
          <a:prstGeom prst="line">
            <a:avLst/>
          </a:prstGeom>
          <a:ln w="63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3886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200040" y="2590920"/>
            <a:ext cx="2133720" cy="914400"/>
          </a:xfrm>
          <a:prstGeom prst="line">
            <a:avLst/>
          </a:prstGeom>
          <a:ln w="63360">
            <a:solidFill>
              <a:srgbClr val="ff9f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3886200"/>
            <a:ext cx="609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96080" y="15238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96080" y="3276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96080" y="43434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9E58-A7D9-48C1-ABDE-F997A8CE2B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Kivonás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8 bit-es szá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vertálás</a:t>
            </a:r>
            <a:br>
              <a:rPr sz="2400"/>
            </a:br>
            <a:r>
              <a:rPr b="0" lang="en-US" sz="2400" spc="-1" strike="noStrike">
                <a:solidFill>
                  <a:srgbClr val="ff9f11"/>
                </a:solidFill>
                <a:latin typeface="Arial"/>
              </a:rPr>
              <a:t>1010 0101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(90</a:t>
            </a:r>
            <a:r>
              <a:rPr b="0" lang="en-US" sz="2400" spc="-1" strike="noStrike" baseline="-25000">
                <a:solidFill>
                  <a:srgbClr val="00008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hu-HU" sz="2400" spc="-1" strike="noStrike">
                <a:solidFill>
                  <a:srgbClr val="000080"/>
                </a:solidFill>
                <a:latin typeface="Arial"/>
              </a:rPr>
              <a:t>0101 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sszead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876920" y="1523880"/>
          <a:ext cx="3809880" cy="3886200"/>
        </p:xfrm>
        <a:graphic>
          <a:graphicData uri="http://schemas.openxmlformats.org/drawingml/2006/table">
            <a:tbl>
              <a:tblPr/>
              <a:tblGrid>
                <a:gridCol w="2205000"/>
                <a:gridCol w="649080"/>
                <a:gridCol w="955800"/>
              </a:tblGrid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0 1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10 0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0 1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1</a:t>
                      </a:r>
                      <a:r>
                        <a:rPr b="0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0 </a:t>
                      </a: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011 10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9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3276720" y="3048120"/>
            <a:ext cx="1600200" cy="838080"/>
          </a:xfrm>
          <a:prstGeom prst="line">
            <a:avLst/>
          </a:prstGeom>
          <a:ln w="63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24080" y="3886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14440" y="2362320"/>
            <a:ext cx="762120" cy="152280"/>
          </a:xfrm>
          <a:prstGeom prst="line">
            <a:avLst/>
          </a:prstGeom>
          <a:ln w="63360">
            <a:solidFill>
              <a:srgbClr val="ff9f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3886200"/>
            <a:ext cx="609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15238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96080" y="3276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54864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80"/>
                </a:solidFill>
                <a:latin typeface="Arial"/>
              </a:rPr>
              <a:t>Tú</a:t>
            </a:r>
            <a:r>
              <a:rPr b="0" i="1" lang="en-US" sz="1800" spc="-1" strike="noStrike">
                <a:solidFill>
                  <a:srgbClr val="000080"/>
                </a:solidFill>
                <a:latin typeface="Arial"/>
              </a:rPr>
              <a:t>lcsordulás!</a:t>
            </a:r>
            <a:r>
              <a:rPr b="0" i="1" lang="hu-HU" sz="1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ossz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eredmén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!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F87E-BF67-4D1D-9983-7870E86F47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Túlcsordulá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8 bit-es szá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ülönböző sz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ozitív szám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to 1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sszead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80"/>
                </a:solidFill>
                <a:latin typeface="Arial"/>
              </a:rPr>
              <a:t>T</a:t>
            </a:r>
            <a:r>
              <a:rPr b="0" i="1" lang="en-US" sz="2000" spc="-1" strike="noStrike">
                <a:solidFill>
                  <a:srgbClr val="000080"/>
                </a:solidFill>
                <a:latin typeface="Arial"/>
              </a:rPr>
              <a:t>úlcsordulá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sztel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ozitív bemenet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gatív eredményt ado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80"/>
                </a:solidFill>
                <a:latin typeface="Arial"/>
              </a:rPr>
              <a:t>túlcsordulá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ossz </a:t>
            </a: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eredmény!!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ozók óvakodjat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éhány magas-szintű nyelv pl.: a BASIC néhány verziója nem ellenőrzi a túlcsordulást megfelelő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5486400" y="1523880"/>
          <a:ext cx="3252960" cy="2854440"/>
        </p:xfrm>
        <a:graphic>
          <a:graphicData uri="http://schemas.openxmlformats.org/drawingml/2006/table">
            <a:tbl>
              <a:tblPr/>
              <a:tblGrid>
                <a:gridCol w="1870200"/>
                <a:gridCol w="392040"/>
                <a:gridCol w="990720"/>
              </a:tblGrid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0 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0 0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6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00 0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1 11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26</a:t>
                      </a:r>
                      <a:r>
                        <a:rPr b="0" lang="en-US" sz="2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3505320" y="4114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2819520"/>
            <a:ext cx="533160" cy="838080"/>
          </a:xfrm>
          <a:custGeom>
            <a:avLst/>
            <a:gdLst>
              <a:gd name="textAreaLeft" fmla="*/ 71280 w 533160"/>
              <a:gd name="textAreaRight" fmla="*/ 461880 w 533160"/>
              <a:gd name="textAreaTop" fmla="*/ 153360 h 838080"/>
              <a:gd name="textAreaBottom" fmla="*/ 573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12" stAng="-5400000" swAng="-5400000"/>
                <a:lnTo>
                  <a:pt x="0" y="10824"/>
                </a:lnTo>
                <a:arcTo wR="21600" hR="7912" stAng="10800000" swAng="-3501089"/>
                <a:lnTo>
                  <a:pt x="16843" y="21406"/>
                </a:lnTo>
                <a:lnTo>
                  <a:pt x="21600" y="17280"/>
                </a:lnTo>
                <a:lnTo>
                  <a:pt x="16843" y="12766"/>
                </a:lnTo>
                <a:lnTo>
                  <a:pt x="16843" y="15630"/>
                </a:lnTo>
                <a:arcTo wR="21600" hR="7912" stAng="7298911" swAng="3265702"/>
                <a:lnTo>
                  <a:pt x="369" y="9368"/>
                </a:lnTo>
                <a:arcTo wR="21600" hR="7912" stAng="-10564613" swAng="5164613"/>
                <a:close/>
              </a:path>
              <a:path fill="darkenLess" w="21600" h="21600">
                <a:moveTo>
                  <a:pt x="21600" y="0"/>
                </a:moveTo>
                <a:arcTo wR="21600" hR="7912" stAng="-5400000" swAng="-5400000"/>
                <a:lnTo>
                  <a:pt x="0" y="7912"/>
                </a:lnTo>
                <a:arcTo wR="21600" hR="7912" stAng="10800000" swAng="-235387"/>
                <a:lnTo>
                  <a:pt x="369" y="9368"/>
                </a:lnTo>
                <a:arcTo wR="21600" hR="7912" stAng="-10564613" swAng="5164613"/>
                <a:close/>
              </a:path>
            </a:pathLst>
          </a:custGeom>
          <a:solidFill>
            <a:srgbClr val="ff9f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48320" y="3581280"/>
            <a:ext cx="1447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Invertáljuk, hogy megkapjuk az érté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7086600" y="3123720"/>
            <a:ext cx="838080" cy="76212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19320" y="4114800"/>
            <a:ext cx="380880" cy="0"/>
          </a:xfrm>
          <a:prstGeom prst="line">
            <a:avLst/>
          </a:prstGeom>
          <a:ln w="66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0448-0954-4FCF-8CA7-FC12CA5A57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2-es k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omplemen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us =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2-es alapú „1”-es után nullá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8 bit-en a modul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00 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ét módszer van megtalálni a komplemen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ivonjuk a szám értékét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ulu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ó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agy invertál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914400" y="3733920"/>
          <a:ext cx="7772400" cy="1969920"/>
        </p:xfrm>
        <a:graphic>
          <a:graphicData uri="http://schemas.openxmlformats.org/drawingml/2006/table">
            <a:tbl>
              <a:tblPr/>
              <a:tblGrid>
                <a:gridCol w="2590920"/>
                <a:gridCol w="1295280"/>
                <a:gridCol w="1295280"/>
                <a:gridCol w="1351080"/>
                <a:gridCol w="1239840"/>
              </a:tblGrid>
              <a:tr h="4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ám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í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ití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gjelenítési mó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mpleme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m önma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imális szám érté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-128</a:t>
                      </a:r>
                      <a:r>
                        <a:rPr b="1" i="1" lang="hu-HU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-1</a:t>
                      </a:r>
                      <a:r>
                        <a:rPr b="1" i="1" lang="hu-HU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+0</a:t>
                      </a:r>
                      <a:r>
                        <a:rPr b="1" i="1" lang="hu-HU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27</a:t>
                      </a:r>
                      <a:r>
                        <a:rPr b="1" i="1" lang="hu-HU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ámol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ál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gjelelenítési pél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9f11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00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r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111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00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r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111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2632-57F7-458A-A347-0BD9ACEACD4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1-es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 vs. 2</a:t>
            </a: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-es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komplemen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választás a számítógép tervezőitől füg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es komplem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szerű előjelet vált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sszeadásnak szüksége van e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tra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úlcsordulás átvitel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lgoritmusnak tesztelnie és konvertálnia kell a ”-0” -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es komplemens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szerű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gálás után egy |1| hozzáadás szüksé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33E9-FF27-4F33-AD5E-677A940BB5F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2-es bináris komplemens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. Példa:</a:t>
            </a: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 0</a:t>
            </a:r>
            <a:r>
              <a:rPr b="0" lang="hu-HU" sz="2800" spc="-1" strike="noStrike">
                <a:solidFill>
                  <a:srgbClr val="03c10c"/>
                </a:solidFill>
                <a:latin typeface="Arial"/>
              </a:rPr>
              <a:t>101 1111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2kB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hu-HU" sz="2800" spc="-1" strike="noStrike">
                <a:solidFill>
                  <a:srgbClr val="03c10c"/>
                </a:solidFill>
                <a:latin typeface="Arial"/>
              </a:rPr>
              <a:t>95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2. Példa:</a:t>
            </a: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 1</a:t>
            </a:r>
            <a:r>
              <a:rPr b="0" lang="hu-HU" sz="2800" spc="-1" strike="noStrike">
                <a:solidFill>
                  <a:srgbClr val="0000ff"/>
                </a:solidFill>
                <a:latin typeface="Arial"/>
              </a:rPr>
              <a:t>010 0000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2k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negatí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negáltja amely </a:t>
            </a:r>
            <a:r>
              <a:rPr b="1" lang="hu-HU" sz="2400" spc="-1" strike="noStrike" u="sng">
                <a:solidFill>
                  <a:srgbClr val="ff00ff"/>
                </a:solidFill>
                <a:uFillTx/>
                <a:latin typeface="Arial"/>
              </a:rPr>
              <a:t>nem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az abszolút értéke(!!!):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0101 1111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|1| hozzáadása a negálth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így: </a:t>
            </a: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0101 1111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 +                </a:t>
            </a: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br>
              <a:rPr sz="2400"/>
            </a:b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hu-HU" sz="2400" spc="-1" strike="noStrike">
                <a:solidFill>
                  <a:srgbClr val="03c10c"/>
                </a:solidFill>
                <a:latin typeface="Arial"/>
              </a:rPr>
              <a:t>0110</a:t>
            </a:r>
            <a:r>
              <a:rPr b="0" lang="hu-HU" sz="2800" spc="-1" strike="noStrike">
                <a:solidFill>
                  <a:srgbClr val="03c10c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3c10c"/>
                </a:solidFill>
                <a:latin typeface="Arial"/>
              </a:rPr>
              <a:t>0000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hu-HU" sz="2400" spc="-1" strike="noStrike" baseline="-25000">
                <a:solidFill>
                  <a:srgbClr val="333399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= |</a:t>
            </a:r>
            <a:r>
              <a:rPr b="0" lang="hu-HU" sz="2400" spc="-1" strike="noStrike">
                <a:solidFill>
                  <a:srgbClr val="03c10c"/>
                </a:solidFill>
                <a:latin typeface="Arial"/>
              </a:rPr>
              <a:t>96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hát az eredmény: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hu-HU" sz="2400" spc="-1" strike="noStrike">
                <a:solidFill>
                  <a:srgbClr val="03c10c"/>
                </a:solidFill>
                <a:latin typeface="Arial"/>
              </a:rPr>
              <a:t>96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33720" y="5029200"/>
            <a:ext cx="1904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6039-9F18-40DA-9178-9DCB0BFE748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Egy összetett példa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tározza meg a </a:t>
            </a:r>
            <a:r>
              <a:rPr b="1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decimáli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hexadecimáli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rtékét a következő 8 bit-es bináris számoknak, ha </a:t>
            </a:r>
            <a:r>
              <a:rPr b="1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közönséges bináriskén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vagy </a:t>
            </a:r>
            <a:r>
              <a:rPr b="1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1-es komplemenskén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lletve </a:t>
            </a:r>
            <a:r>
              <a:rPr b="1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2-es komplemenskén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rtelmezük őket. A hexadecimális számoknál az előjeleket kezelje a decimális számoknál megszokott mód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hu-HU" sz="2400" spc="-1" strike="noStrike">
                <a:solidFill>
                  <a:srgbClr val="03c10c"/>
                </a:solidFill>
                <a:latin typeface="Arial"/>
              </a:rPr>
              <a:t>111 0100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zönséges:   </a:t>
            </a:r>
            <a:r>
              <a:rPr b="0" lang="hu-HU" sz="2400" spc="-1" strike="noStrike">
                <a:solidFill>
                  <a:srgbClr val="03c10c"/>
                </a:solidFill>
                <a:latin typeface="Arial"/>
              </a:rPr>
              <a:t>116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s   </a:t>
            </a:r>
            <a:r>
              <a:rPr b="0" lang="hu-HU" sz="2400" spc="-1" strike="noStrike">
                <a:solidFill>
                  <a:srgbClr val="03c10c"/>
                </a:solidFill>
                <a:latin typeface="Arial"/>
              </a:rPr>
              <a:t>74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br>
              <a:rPr sz="2400"/>
            </a:b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-es: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hu-HU" sz="2400" spc="-1" strike="noStrike">
                <a:solidFill>
                  <a:srgbClr val="03c10c"/>
                </a:solidFill>
                <a:latin typeface="Arial"/>
              </a:rPr>
              <a:t>116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s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hu-HU" sz="2400" spc="-1" strike="noStrike">
                <a:solidFill>
                  <a:srgbClr val="03c10c"/>
                </a:solidFill>
                <a:latin typeface="Arial"/>
              </a:rPr>
              <a:t>74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br>
              <a:rPr sz="2400"/>
            </a:b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2-es: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hu-HU" sz="2400" spc="-1" strike="noStrike">
                <a:solidFill>
                  <a:srgbClr val="03c10c"/>
                </a:solidFill>
                <a:latin typeface="Arial"/>
              </a:rPr>
              <a:t>116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s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hu-HU" sz="2400" spc="-1" strike="noStrike">
                <a:solidFill>
                  <a:srgbClr val="03c10c"/>
                </a:solidFill>
                <a:latin typeface="Arial"/>
              </a:rPr>
              <a:t>74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hu-HU" sz="2400" spc="-1" strike="noStrike">
                <a:solidFill>
                  <a:srgbClr val="000099"/>
                </a:solidFill>
                <a:latin typeface="Arial"/>
              </a:rPr>
              <a:t>101 0101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   közönséges: </a:t>
            </a:r>
            <a:r>
              <a:rPr b="0" lang="hu-HU" sz="2400" spc="-1" strike="noStrike">
                <a:solidFill>
                  <a:srgbClr val="03c10c"/>
                </a:solidFill>
                <a:latin typeface="Arial"/>
              </a:rPr>
              <a:t>213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0" lang="hu-HU" sz="2400" spc="-1" strike="noStrike">
                <a:solidFill>
                  <a:srgbClr val="03c10c"/>
                </a:solidFill>
                <a:latin typeface="Arial"/>
              </a:rPr>
              <a:t>D5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hu-HU" sz="2400" spc="-1" strike="noStrike">
                <a:solidFill>
                  <a:srgbClr val="03c10c"/>
                </a:solidFill>
                <a:latin typeface="Arial"/>
              </a:rPr>
              <a:t>0010 1010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-es: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hu-HU" sz="2400" spc="-1" strike="noStrike">
                <a:solidFill>
                  <a:srgbClr val="03c10c"/>
                </a:solidFill>
                <a:latin typeface="Arial"/>
              </a:rPr>
              <a:t>42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s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 -</a:t>
            </a:r>
            <a:r>
              <a:rPr b="0" lang="hu-HU" sz="2400" spc="-1" strike="noStrike">
                <a:solidFill>
                  <a:srgbClr val="03c10c"/>
                </a:solidFill>
                <a:latin typeface="Arial"/>
              </a:rPr>
              <a:t>2A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hu-HU" sz="2400" spc="-1" strike="noStrike">
                <a:solidFill>
                  <a:srgbClr val="03c10c"/>
                </a:solidFill>
                <a:latin typeface="Arial"/>
              </a:rPr>
              <a:t>0010 101</a:t>
            </a:r>
            <a:r>
              <a:rPr b="0" lang="hu-HU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2-es: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hu-HU" sz="2400" spc="-1" strike="noStrike">
                <a:solidFill>
                  <a:srgbClr val="03c10c"/>
                </a:solidFill>
                <a:latin typeface="Arial"/>
              </a:rPr>
              <a:t>43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hu-HU" sz="2400" spc="-1" strike="noStrike">
                <a:solidFill>
                  <a:srgbClr val="03c10c"/>
                </a:solidFill>
                <a:latin typeface="Arial"/>
              </a:rPr>
              <a:t>2B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100C-08CC-4908-A164-4ABC37A33D8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Egy még összetettebb példa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égezze el a következő </a:t>
            </a:r>
            <a:r>
              <a:rPr b="1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kivonás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8 bit-es bináris számokkal úgy, hogy a számpár első tagját </a:t>
            </a:r>
            <a:r>
              <a:rPr b="1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1-es komplemenskén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a második tagját </a:t>
            </a:r>
            <a:r>
              <a:rPr b="1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2-es komplemenskén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rtelmezük. Az </a:t>
            </a:r>
            <a:r>
              <a:rPr b="0" lang="hu-HU" sz="2000" spc="-1" strike="noStrike">
                <a:solidFill>
                  <a:srgbClr val="03c10c"/>
                </a:solidFill>
                <a:latin typeface="Arial"/>
              </a:rPr>
              <a:t>eredmény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adja meg bináris </a:t>
            </a:r>
            <a:r>
              <a:rPr b="0" lang="hu-HU" sz="2000" spc="-1" strike="noStrike">
                <a:solidFill>
                  <a:srgbClr val="03c10c"/>
                </a:solidFill>
                <a:latin typeface="Arial"/>
              </a:rPr>
              <a:t>1-es komplemenskén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majd váltsa át azt </a:t>
            </a:r>
            <a:r>
              <a:rPr b="0" lang="hu-HU" sz="2000" spc="-1" strike="noStrike">
                <a:solidFill>
                  <a:srgbClr val="03c10c"/>
                </a:solidFill>
                <a:latin typeface="Arial"/>
              </a:rPr>
              <a:t>decimáli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számrendszer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hu-HU" sz="2400" spc="-1" strike="noStrike">
                <a:solidFill>
                  <a:srgbClr val="000099"/>
                </a:solidFill>
                <a:latin typeface="Arial"/>
              </a:rPr>
              <a:t>010 0101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B1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hu-HU" sz="2400" spc="-1" strike="noStrike">
                <a:solidFill>
                  <a:srgbClr val="000099"/>
                </a:solidFill>
                <a:latin typeface="Arial"/>
              </a:rPr>
              <a:t>001 1010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B2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hu-HU" sz="2400" spc="-1" strike="noStrike">
                <a:solidFill>
                  <a:srgbClr val="000099"/>
                </a:solidFill>
                <a:latin typeface="Arial"/>
              </a:rPr>
              <a:t>010 0101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B1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- </a:t>
            </a:r>
            <a:br>
              <a:rPr sz="2400"/>
            </a:b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000099"/>
                </a:solidFill>
                <a:latin typeface="Arial"/>
              </a:rPr>
              <a:t>0110 0101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Arial"/>
              </a:rPr>
              <a:t>B </a:t>
            </a: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i="1" lang="hu-HU" sz="24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hu-HU" sz="2400" spc="-1" strike="noStrike">
                <a:solidFill>
                  <a:srgbClr val="03c10c"/>
                </a:solidFill>
                <a:latin typeface="Arial"/>
              </a:rPr>
              <a:t>0110 0110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hu-HU" sz="2400" spc="-1" strike="noStrike">
                <a:solidFill>
                  <a:srgbClr val="000099"/>
                </a:solidFill>
                <a:latin typeface="Arial"/>
              </a:rPr>
              <a:t>001 1001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B1K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hu-HU" sz="2400" spc="-1" strike="noStrike">
                <a:solidFill>
                  <a:srgbClr val="000099"/>
                </a:solidFill>
                <a:latin typeface="Arial"/>
              </a:rPr>
              <a:t>010 0101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B1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hu-HU" sz="2400" spc="-1" strike="noStrike">
                <a:solidFill>
                  <a:srgbClr val="03c10c"/>
                </a:solidFill>
                <a:latin typeface="Arial"/>
              </a:rPr>
              <a:t>0110 0110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br>
              <a:rPr sz="2400"/>
            </a:br>
            <a:r>
              <a:rPr b="0" lang="hu-HU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hu-HU" sz="2400" spc="-1" strike="noStrike">
                <a:solidFill>
                  <a:srgbClr val="000099"/>
                </a:solidFill>
                <a:latin typeface="Arial"/>
              </a:rPr>
              <a:t>000 1011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B1K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hu-HU" sz="24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br>
              <a:rPr sz="2400"/>
            </a:b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2400" spc="-1" strike="noStrike">
                <a:solidFill>
                  <a:srgbClr val="03c10c"/>
                </a:solidFill>
                <a:latin typeface="Arial"/>
              </a:rPr>
              <a:t>0000 1100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B1K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hu-HU" sz="2400" spc="-1" strike="noStrike">
                <a:solidFill>
                  <a:srgbClr val="03c10c"/>
                </a:solidFill>
                <a:latin typeface="Arial"/>
              </a:rPr>
              <a:t>12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71600" y="4724280"/>
            <a:ext cx="1905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447920" y="5029200"/>
            <a:ext cx="1371600" cy="228600"/>
            <a:chOff x="1447920" y="5029200"/>
            <a:chExt cx="1371600" cy="228600"/>
          </a:xfrm>
        </p:grpSpPr>
        <p:sp>
          <p:nvSpPr>
            <p:cNvPr id="217" name=""/>
            <p:cNvSpPr/>
            <p:nvPr/>
          </p:nvSpPr>
          <p:spPr>
            <a:xfrm>
              <a:off x="1447920" y="5029200"/>
              <a:ext cx="0" cy="2286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47920" y="5257800"/>
              <a:ext cx="1371600" cy="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1371600" y="5486400"/>
            <a:ext cx="1905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44E9-A366-456E-82D4-8EB87D4B164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Integer mérete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ozitív számok 0-val kezdődn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csi, negatív számok (közel a 0-hoz) több 0-val kezdődn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hu-HU" sz="2800" spc="-1" strike="noStrike">
                <a:solidFill>
                  <a:srgbClr val="000099"/>
                </a:solidFill>
                <a:latin typeface="Arial"/>
              </a:rPr>
              <a:t>111 1110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B2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hu-HU" sz="2800" spc="-1" strike="noStrike">
                <a:solidFill>
                  <a:srgbClr val="03c10c"/>
                </a:solidFill>
                <a:latin typeface="Arial"/>
              </a:rPr>
              <a:t>2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 8 bit-es 2-es komplem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hu-HU" sz="2800" spc="-1" strike="noStrike">
                <a:solidFill>
                  <a:srgbClr val="000099"/>
                </a:solidFill>
                <a:latin typeface="Arial"/>
              </a:rPr>
              <a:t>000 0000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B2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hu-HU" sz="2800" spc="-1" strike="noStrike">
                <a:solidFill>
                  <a:srgbClr val="03c10c"/>
                </a:solidFill>
                <a:latin typeface="Arial"/>
              </a:rPr>
              <a:t>128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, nagyobb negatív szám 2-es komplem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seréljünk fel minden 1-est és 0-ást és határozzuk meg az érté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764B-0277-4B5C-A653-B158A5963A3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32 bit-es adat szó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619760" cy="39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0E81-523C-47AB-B153-04425424B3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Túlcsordulás és Átvitel közötti különbség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80"/>
                </a:solidFill>
                <a:latin typeface="Arial"/>
              </a:rPr>
              <a:t>Átvitel (carry) bit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elzi, ha egy </a:t>
            </a:r>
            <a:r>
              <a:rPr b="1" i="1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adott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helyiértéken elvégzett művelet eredménye meghaladja az ott ábrázolható érték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80"/>
                </a:solidFill>
                <a:latin typeface="Arial"/>
              </a:rPr>
              <a:t>Túlcsordulás (Overflow)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 egy összeadás vagy kivonás művelet eredménye kívül esik az aktuális számábrázolási tartomány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02D9-47FB-4387-980D-E879BD46DB1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Túlcsordulás/Átvitel példák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élda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elyes eredmé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e túlcsordulás, se átvi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élda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Helytele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eredményt kap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an túlcsordulás, és átvitel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943600" y="1752480"/>
          <a:ext cx="2057400" cy="1185840"/>
        </p:xfrm>
        <a:graphic>
          <a:graphicData uri="http://schemas.openxmlformats.org/drawingml/2006/table">
            <a:tbl>
              <a:tblPr/>
              <a:tblGrid>
                <a:gridCol w="749160"/>
                <a:gridCol w="324000"/>
                <a:gridCol w="984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+ (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943600" y="3200400"/>
          <a:ext cx="2133360" cy="1185840"/>
        </p:xfrm>
        <a:graphic>
          <a:graphicData uri="http://schemas.openxmlformats.org/drawingml/2006/table">
            <a:tbl>
              <a:tblPr/>
              <a:tblGrid>
                <a:gridCol w="749160"/>
                <a:gridCol w="331920"/>
                <a:gridCol w="1052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+ (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hu-HU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>
            <a:off x="1526400" y="5410080"/>
            <a:ext cx="68209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 u="sng">
                <a:solidFill>
                  <a:srgbClr val="ff0000"/>
                </a:solidFill>
                <a:uFillTx/>
                <a:latin typeface="Arial"/>
              </a:rPr>
              <a:t>Négy bit-es 2-es komplemens számábrázolá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AAA5-F36E-4CC5-B588-08F5A385AEC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Túlcsordulás/Átvitel példák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élda 3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átvitelt elhagyva az eredmény hel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an átvitel, de nincs túlcsordu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élda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Helytele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eredmé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an túlcsordulás, átvitel mellőz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6019920" y="2133720"/>
          <a:ext cx="2286000" cy="1185840"/>
        </p:xfrm>
        <a:graphic>
          <a:graphicData uri="http://schemas.openxmlformats.org/drawingml/2006/table">
            <a:tbl>
              <a:tblPr/>
              <a:tblGrid>
                <a:gridCol w="890640"/>
                <a:gridCol w="323640"/>
                <a:gridCol w="1071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+ (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5867280" y="3962520"/>
          <a:ext cx="2514600" cy="1185840"/>
        </p:xfrm>
        <a:graphic>
          <a:graphicData uri="http://schemas.openxmlformats.org/drawingml/2006/table">
            <a:tbl>
              <a:tblPr/>
              <a:tblGrid>
                <a:gridCol w="977760"/>
                <a:gridCol w="331920"/>
                <a:gridCol w="1204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+ (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– 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+ </a:t>
                      </a:r>
                      <a:r>
                        <a:rPr b="0" lang="hu-HU" sz="2000" spc="-1" strike="noStrike">
                          <a:solidFill>
                            <a:srgbClr val="ff00ff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"/>
          <p:cNvSpPr/>
          <p:nvPr/>
        </p:nvSpPr>
        <p:spPr>
          <a:xfrm>
            <a:off x="1526400" y="5410080"/>
            <a:ext cx="68209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 u="sng">
                <a:solidFill>
                  <a:srgbClr val="ff0000"/>
                </a:solidFill>
                <a:uFillTx/>
                <a:latin typeface="Arial"/>
              </a:rPr>
              <a:t>Négy bit-es 2-es komplemens számábrázolá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095880" y="29714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6095880" y="297144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6019920" y="48002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6019560" y="48002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E770-AB35-44B4-9F57-CFBF27E9ADB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Előjel nélküli egész számok</a:t>
            </a: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: Integer</a:t>
            </a: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ek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náris ábrázolás: Előjel nélküli egész szám vag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8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CD ábrázolás: Decimális egész közvetl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800" spc="-1" strike="noStrike">
                <a:solidFill>
                  <a:srgbClr val="000080"/>
                </a:solidFill>
                <a:latin typeface="Arial"/>
              </a:rPr>
              <a:t>binár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gfelelőj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Binary Coded Decim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914400" y="2971800"/>
          <a:ext cx="7924680" cy="3252960"/>
        </p:xfrm>
        <a:graphic>
          <a:graphicData uri="http://schemas.openxmlformats.org/drawingml/2006/table">
            <a:tbl>
              <a:tblPr/>
              <a:tblGrid>
                <a:gridCol w="1905120"/>
                <a:gridCol w="3052800"/>
                <a:gridCol w="2966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imális</a:t>
                      </a: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érté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náris</a:t>
                      </a: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ábrázol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CD</a:t>
                      </a: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ábrázol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9f11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100  0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768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11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64 + 4 = </a:t>
                      </a:r>
                      <a:r>
                        <a:rPr b="1" i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</a:t>
                      </a:r>
                      <a:r>
                        <a:rPr b="1" i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</a:t>
                      </a:r>
                      <a:r>
                        <a:rPr b="1" i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nagyobb 8 bit-en ábrázolhat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CD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ódolássa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110  0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768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100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64 + 32 + 2 + 1 = </a:t>
                      </a:r>
                      <a:r>
                        <a:rPr b="1" i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514440"/>
                          <a:tab algn="l" pos="1768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514440"/>
                          <a:tab algn="l" pos="1768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i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9</a:t>
                      </a:r>
                      <a:r>
                        <a:rPr b="1" i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	</a:t>
                      </a:r>
                      <a:r>
                        <a:rPr b="1" i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	</a:t>
                      </a:r>
                      <a:r>
                        <a:rPr b="1" i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  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80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5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18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nagyobb 8 bit-en ábrázolható szám bináris kódolássa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1111  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74880"/>
                          <a:tab algn="l" pos="1768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010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1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 = </a:t>
                      </a:r>
                      <a:r>
                        <a:rPr b="1" i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801720"/>
                          <a:tab algn="l" pos="1768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801720"/>
                          <a:tab algn="l" pos="1768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 </a:t>
                      </a:r>
                      <a:r>
                        <a:rPr b="1" i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057400" y="2286000"/>
          <a:ext cx="4724280" cy="669960"/>
        </p:xfrm>
        <a:graphic>
          <a:graphicData uri="http://schemas.openxmlformats.org/drawingml/2006/table">
            <a:tbl>
              <a:tblPr/>
              <a:tblGrid>
                <a:gridCol w="2057400"/>
                <a:gridCol w="2666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ff9f11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bit: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tó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9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i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ff9f11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bit: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tó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9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i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ff9f11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bit: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tó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99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i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ff9f11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bit: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tó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99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i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AC87-B3E3-40B7-B1EC-1ACE6E638C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80"/>
                </a:solidFill>
                <a:latin typeface="Arial"/>
              </a:rPr>
              <a:t>Ábrázolható értékek összehasonlítása</a:t>
            </a: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: Bináris vs. BCD</a:t>
            </a: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brázolható értékek BCD kódolással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ábrázolható értékek hagyományos bináris ábrázo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ináris: 4 bit 16 különböző értéket képes tárolni (0-tól 15-i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CD: 4 bit csak 10 különböző értéket tud tárolni (0-tól 9-i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66680" y="3352680"/>
          <a:ext cx="7010640" cy="2729160"/>
        </p:xfrm>
        <a:graphic>
          <a:graphicData uri="http://schemas.openxmlformats.org/drawingml/2006/table">
            <a:tbl>
              <a:tblPr/>
              <a:tblGrid>
                <a:gridCol w="1401840"/>
                <a:gridCol w="1569960"/>
                <a:gridCol w="1233720"/>
                <a:gridCol w="1509480"/>
                <a:gridCol w="1295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-ek szá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5760">
                      <a:solidFill>
                        <a:srgbClr val="ff9f11"/>
                      </a:solidFill>
                    </a:lnB>
                    <a:solidFill>
                      <a:srgbClr val="ff9f11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CD hatá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5760">
                      <a:solidFill>
                        <a:srgbClr val="ff9f11"/>
                      </a:solidFill>
                    </a:lnB>
                    <a:solidFill>
                      <a:srgbClr val="ff9f1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náris hatá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9f11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5760">
                      <a:solidFill>
                        <a:srgbClr val="ff9f11"/>
                      </a:solidFill>
                    </a:lnB>
                    <a:solidFill>
                      <a:srgbClr val="ff9f1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>
                      <a:noFill/>
                    </a:lnR>
                    <a:lnT w="5760">
                      <a:solidFill>
                        <a:srgbClr val="ff9f11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számje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>
                      <a:noFill/>
                    </a:lnR>
                    <a:lnT w="5760">
                      <a:solidFill>
                        <a:srgbClr val="ff9f11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+ számje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számje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2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+ számje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számje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4.0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+ számje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9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számje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65.5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+ számje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99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számje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1 mill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+ számje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999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számje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16 mill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+ számje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99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számje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4 bill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+ számje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(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számje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16 quintill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+ számje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746B-F8CE-4A9E-84A1-FAD9D7372A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Hagyományos bináris 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 vs. BCD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inár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ábrázolás kedvelte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agyobb értéket képes tárolni adott számú bit-en (helyiérték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ámolási műveletek elvégzése  egyszerű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D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gyakran használatos vállalati rendszereknél, főként a tizedes kerekítés és a tizedes pontosság mia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7B18-2B3C-4A2F-ACB5-7A30AE648A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Egyszerű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 BCD </a:t>
            </a: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szorzá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696080" cy="325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604E-A621-4F5C-B7F9-06EFE6C965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Előjeles egész számok</a:t>
            </a: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ábrázolása</a:t>
            </a: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incs nyilvánvaló, közvetlen ábrázolása az előjelnek bináris ábrázolás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ehetőség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őjel-és-érték ábrázol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-es komplem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2-es komplemens (gyakorib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FD37-3D47-42FB-AD7E-DD31B4801F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Előjel-és-érték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182880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baloldali legszélső bit használata előjelké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182880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0 = pozitív; 1 = negatí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182880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ábrázolható értékek száma nem változ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182880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ámok fele pozitív, fele negatí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182880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legnagyobb ábrázolt érték feleakkora lesz, mint előjel nélkü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182880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élda 8 bit-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182880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jel nélküli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1111 1111 = (+)2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182880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jeles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0111 1111 = +127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1111 1111 = -1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182880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gjegyzés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ettő érték a 0-ra: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+0 = 0000 0000 és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-0 = 1000 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3E08-6777-475D-9E00-500AA624B3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4T17:44:38Z</dcterms:created>
  <dc:creator>Linda Senne</dc:creator>
  <dc:description/>
  <dc:language>en-US</dc:language>
  <cp:lastModifiedBy>Horváth Zsolt</cp:lastModifiedBy>
  <dcterms:modified xsi:type="dcterms:W3CDTF">2009-03-13T09:37:45Z</dcterms:modified>
  <cp:revision>266</cp:revision>
  <dc:subject/>
  <dc:title>CHAPTER 1: Computer Systems</dc:title>
</cp:coreProperties>
</file>