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219-A524-4C1C-96C9-7AEECFF0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B1B-92DC-4AC5-A773-C4AD5F9B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832-66FD-4470-ABD0-BEC13C47D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4234-16E2-40FF-9E28-44E75512F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A561-8CFD-4FEA-8FED-4DB5008F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5641-C17D-43E1-8EF0-6A9A55CB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0A37-F5E7-448D-85A0-3DBD1039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1DF1-6616-4592-B1B3-41F04616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E581-FFA1-45B6-A93A-0D6BD57C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E591-77FC-4045-B151-A96EC7B9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A1D0-37D1-4FBE-B823-F47C3E10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167-A50F-479A-AA69-0F338123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BC2D-6D29-467A-965D-1FA56D91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EB8F-967A-42C6-9FFF-416D3359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02E4-6FE1-4202-BB75-99E1D7F2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35FE-E41B-4C74-B6FA-ACCD4BF4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2388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8880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B0A2-5A0D-4C1B-B267-EE561290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E00A-75C7-406C-925C-64D5071D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4B5-B370-4956-A08F-92774897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E13C-BE4C-49B7-8FE5-348A29D6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D7A-D3A8-4F53-8BAE-E5B76EA7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470-16AF-4648-BC15-DB393654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8880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23A-B218-4992-9D7B-246BEEC4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2388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8880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334-EFCC-41C4-A1E9-5C810512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144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1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Fejezet: 2 </a:t>
            </a:r>
            <a:r>
              <a:rPr b="0" lang="hu-HU" sz="1400" spc="-1" strike="noStrike">
                <a:solidFill>
                  <a:srgbClr val="00008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számrendszere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f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f11"/>
                </a:solidFill>
                <a:latin typeface="Times New Roman"/>
              </a:rPr>
              <a:t>2-</a:t>
            </a:r>
            <a:fld id="{43B8391A-8D49-472E-8C1F-AD442B554E5C}" type="slidenum">
              <a:rPr b="0" lang="en-US" sz="1400" spc="-1" strike="noStrike">
                <a:solidFill>
                  <a:srgbClr val="ff9f1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762120" y="228600"/>
            <a:ext cx="0" cy="5943600"/>
          </a:xfrm>
          <a:prstGeom prst="line">
            <a:avLst/>
          </a:prstGeom>
          <a:ln w="69840">
            <a:solidFill>
              <a:srgbClr val="ff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304560" y="1371600"/>
            <a:ext cx="8381880" cy="0"/>
          </a:xfrm>
          <a:prstGeom prst="line">
            <a:avLst/>
          </a:prstGeom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52280" y="533520"/>
            <a:ext cx="48744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D8E7-3F70-41A6-A818-30B3DF714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685800" y="152280"/>
            <a:ext cx="0" cy="5943600"/>
          </a:xfrm>
          <a:prstGeom prst="line">
            <a:avLst/>
          </a:prstGeom>
          <a:ln w="69840">
            <a:solidFill>
              <a:srgbClr val="ff9f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28240" y="2133720"/>
            <a:ext cx="8381880" cy="0"/>
          </a:xfrm>
          <a:prstGeom prst="line">
            <a:avLst/>
          </a:prstGeom>
          <a:ln w="69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990720"/>
            <a:ext cx="487440" cy="704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f11"/>
              </a:buClr>
              <a:buSzPct val="5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2</a:t>
            </a:r>
            <a:r>
              <a:rPr b="0" lang="hu-HU" sz="4400" spc="-1" strike="noStrike">
                <a:solidFill>
                  <a:srgbClr val="000080"/>
                </a:solidFill>
                <a:latin typeface="Arial"/>
              </a:rPr>
              <a:t>. Fejezet</a:t>
            </a: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 :</a:t>
            </a:r>
            <a:br>
              <a:rPr sz="4400"/>
            </a:br>
            <a:r>
              <a:rPr b="0" lang="hu-HU" sz="4400" spc="-1" strike="noStrike">
                <a:solidFill>
                  <a:srgbClr val="000080"/>
                </a:solidFill>
                <a:latin typeface="Arial"/>
              </a:rPr>
              <a:t>Számrendszerek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7720" y="23619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80"/>
                </a:solidFill>
                <a:latin typeface="Arial"/>
              </a:rPr>
              <a:t>The Architecture of Computer Hardware and Systems Software: </a:t>
            </a:r>
            <a:br>
              <a:rPr sz="2800"/>
            </a:b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An Information Technology Approach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9f11"/>
                </a:solidFill>
                <a:latin typeface="Arial"/>
              </a:rPr>
              <a:t>3. kiadás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, Irv Englander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John Wiley and Sons </a:t>
            </a:r>
            <a:r>
              <a:rPr b="1" lang="en-US" sz="2400" spc="-1" strike="noStrike">
                <a:solidFill>
                  <a:srgbClr val="ff9f11"/>
                </a:solidFill>
                <a:latin typeface="Symbol"/>
                <a:ea typeface="Symbol"/>
              </a:rPr>
              <a:t>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2003</a:t>
            </a: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ilson Wong, Bentley College</a:t>
            </a: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nda Senne, </a:t>
            </a:r>
            <a:r>
              <a:rPr b="1" lang="hu-HU" sz="2000" spc="-1" strike="noStrike">
                <a:solidFill>
                  <a:srgbClr val="000080"/>
                </a:solidFill>
                <a:latin typeface="Arial"/>
              </a:rPr>
              <a:t>Bentley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College</a:t>
            </a: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Helyiértékes számábrázolás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: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Hexadecimális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6</a:t>
            </a:r>
            <a:r>
              <a:rPr b="1" lang="hu-HU" sz="3200" spc="-1" strike="noStrike">
                <a:solidFill>
                  <a:srgbClr val="00008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704</a:t>
            </a:r>
            <a:r>
              <a:rPr b="1" lang="en-US" sz="3200" spc="-1" strike="noStrike" baseline="-25000">
                <a:solidFill>
                  <a:srgbClr val="000080"/>
                </a:solidFill>
                <a:latin typeface="Arial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9f11"/>
                </a:solidFill>
                <a:latin typeface="Arial"/>
              </a:rPr>
              <a:t>26</a:t>
            </a:r>
            <a:r>
              <a:rPr b="1" lang="hu-HU" sz="3200" spc="-1" strike="noStrike">
                <a:solidFill>
                  <a:srgbClr val="ff9f11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ff9f11"/>
                </a:solidFill>
                <a:latin typeface="Arial"/>
              </a:rPr>
              <a:t>372</a:t>
            </a:r>
            <a:r>
              <a:rPr b="1" lang="en-US" sz="32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f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81080" y="3200400"/>
          <a:ext cx="5791320" cy="2590920"/>
        </p:xfrm>
        <a:graphic>
          <a:graphicData uri="http://schemas.openxmlformats.org/drawingml/2006/table">
            <a:tbl>
              <a:tblPr/>
              <a:tblGrid>
                <a:gridCol w="1371600"/>
                <a:gridCol w="990720"/>
                <a:gridCol w="1170000"/>
                <a:gridCol w="1116000"/>
                <a:gridCol w="114300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elyi 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zámí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 x  4</a:t>
                      </a: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 x 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 x 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 x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Decimális össz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24</a:t>
                      </a:r>
                      <a:r>
                        <a:rPr b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</a:t>
                      </a:r>
                      <a:r>
                        <a:rPr b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7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3" name=""/>
          <p:cNvGrpSpPr/>
          <p:nvPr/>
        </p:nvGrpSpPr>
        <p:grpSpPr>
          <a:xfrm>
            <a:off x="1447920" y="2133720"/>
            <a:ext cx="2286000" cy="1280880"/>
            <a:chOff x="1447920" y="2133720"/>
            <a:chExt cx="2286000" cy="1280880"/>
          </a:xfrm>
        </p:grpSpPr>
        <p:sp>
          <p:nvSpPr>
            <p:cNvPr id="144" name=""/>
            <p:cNvSpPr/>
            <p:nvPr/>
          </p:nvSpPr>
          <p:spPr>
            <a:xfrm>
              <a:off x="2438640" y="2438280"/>
              <a:ext cx="1295280" cy="9763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47920" y="21337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4</a:t>
              </a:r>
              <a:r>
                <a:rPr b="1" lang="hu-HU" sz="1800" spc="-1" strike="noStrike">
                  <a:solidFill>
                    <a:srgbClr val="000080"/>
                  </a:solidFill>
                  <a:latin typeface="Arial"/>
                </a:rPr>
                <a:t>.</a:t>
              </a: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096</a:t>
              </a:r>
              <a:r>
                <a:rPr b="1" lang="hu-HU" sz="1800" spc="-1" strike="noStrike">
                  <a:solidFill>
                    <a:srgbClr val="000080"/>
                  </a:solidFill>
                  <a:latin typeface="Arial"/>
                </a:rPr>
                <a:t>-o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124080" y="2133720"/>
            <a:ext cx="1981080" cy="1280520"/>
            <a:chOff x="3124080" y="2133720"/>
            <a:chExt cx="1981080" cy="1280520"/>
          </a:xfrm>
        </p:grpSpPr>
        <p:sp>
          <p:nvSpPr>
            <p:cNvPr id="147" name=""/>
            <p:cNvSpPr/>
            <p:nvPr/>
          </p:nvSpPr>
          <p:spPr>
            <a:xfrm>
              <a:off x="3809880" y="2438280"/>
              <a:ext cx="1295280" cy="97596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975960"/>
                <a:gd name="textAreaBottom" fmla="*/ 976320 h 9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21337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256</a:t>
              </a:r>
              <a:r>
                <a:rPr b="1" lang="hu-HU" sz="1800" spc="-1" strike="noStrike">
                  <a:solidFill>
                    <a:srgbClr val="000080"/>
                  </a:solidFill>
                  <a:latin typeface="Arial"/>
                </a:rPr>
                <a:t>-o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162920" y="2133720"/>
            <a:ext cx="1675800" cy="1280520"/>
            <a:chOff x="7162920" y="2133720"/>
            <a:chExt cx="1675800" cy="1280520"/>
          </a:xfrm>
        </p:grpSpPr>
        <p:sp>
          <p:nvSpPr>
            <p:cNvPr id="150" name=""/>
            <p:cNvSpPr/>
            <p:nvPr/>
          </p:nvSpPr>
          <p:spPr>
            <a:xfrm flipH="1">
              <a:off x="7162920" y="2438280"/>
              <a:ext cx="1218960" cy="975960"/>
            </a:xfrm>
            <a:custGeom>
              <a:avLst/>
              <a:gdLst>
                <a:gd name="textAreaLeft" fmla="*/ 360 w 1218960"/>
                <a:gd name="textAreaRight" fmla="*/ 1219680 w 1218960"/>
                <a:gd name="textAreaTop" fmla="*/ 0 h 975960"/>
                <a:gd name="textAreaBottom" fmla="*/ 976320 h 9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43440" y="2133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1</a:t>
              </a:r>
              <a:r>
                <a:rPr b="1" lang="hu-HU" sz="1800" spc="-1" strike="noStrike">
                  <a:solidFill>
                    <a:srgbClr val="000080"/>
                  </a:solidFill>
                  <a:latin typeface="Arial"/>
                </a:rPr>
                <a:t>-e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714640" y="2133720"/>
            <a:ext cx="1676880" cy="1280520"/>
            <a:chOff x="5714640" y="2133720"/>
            <a:chExt cx="1676880" cy="1280520"/>
          </a:xfrm>
        </p:grpSpPr>
        <p:sp>
          <p:nvSpPr>
            <p:cNvPr id="153" name=""/>
            <p:cNvSpPr/>
            <p:nvPr/>
          </p:nvSpPr>
          <p:spPr>
            <a:xfrm flipH="1">
              <a:off x="5714280" y="2438280"/>
              <a:ext cx="1219320" cy="9759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75960"/>
                <a:gd name="textAreaBottom" fmla="*/ 976320 h 9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5880" y="21337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16</a:t>
              </a:r>
              <a:r>
                <a:rPr b="1" lang="hu-HU" sz="1800" spc="-1" strike="noStrike">
                  <a:solidFill>
                    <a:srgbClr val="000080"/>
                  </a:solidFill>
                  <a:latin typeface="Arial"/>
                </a:rPr>
                <a:t>-o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38BF-1B4C-4DDD-9781-80807E2A04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Helyiértékes számábrázolás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: 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ináris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14400" y="2590920"/>
          <a:ext cx="7772400" cy="3203280"/>
        </p:xfrm>
        <a:graphic>
          <a:graphicData uri="http://schemas.openxmlformats.org/drawingml/2006/table">
            <a:tbl>
              <a:tblPr/>
              <a:tblGrid>
                <a:gridCol w="1295280"/>
                <a:gridCol w="831960"/>
                <a:gridCol w="822240"/>
                <a:gridCol w="897120"/>
                <a:gridCol w="820800"/>
                <a:gridCol w="822240"/>
                <a:gridCol w="747720"/>
                <a:gridCol w="822240"/>
                <a:gridCol w="712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elyi 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zámí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 x 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 x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 x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Decimális össz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838080" y="1600200"/>
            <a:ext cx="77724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Tahoma"/>
              </a:rPr>
              <a:t>1101 0110</a:t>
            </a:r>
            <a:r>
              <a:rPr b="1" lang="en-US" sz="3200" spc="-1" strike="noStrike" baseline="-25000">
                <a:solidFill>
                  <a:srgbClr val="000080"/>
                </a:solidFill>
                <a:latin typeface="Tahoma"/>
              </a:rPr>
              <a:t>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3200" spc="-1" strike="noStrike">
                <a:solidFill>
                  <a:srgbClr val="ff9f11"/>
                </a:solidFill>
                <a:latin typeface="Tahoma"/>
              </a:rPr>
              <a:t>214</a:t>
            </a:r>
            <a:r>
              <a:rPr b="0" lang="en-US" sz="3200" spc="-1" strike="noStrike" baseline="-25000">
                <a:solidFill>
                  <a:srgbClr val="ff9f11"/>
                </a:solidFill>
                <a:latin typeface="Tahoma"/>
              </a:rPr>
              <a:t>10</a:t>
            </a:r>
            <a:r>
              <a:rPr b="0" lang="en-US" sz="3200" spc="-1" strike="noStrike">
                <a:solidFill>
                  <a:srgbClr val="ff9f11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1230-DEAB-46E7-B3B9-36197383FE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Ábrázolható értékek szám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9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h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ábrázolható értékek száma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rendszer alapja (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ámjegye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. Pél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1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es al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2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j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10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8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öző szá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0…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. Pél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2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es al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16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j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65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6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4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 65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6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öző értéket képes táro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120-81B4-41B7-8165-1A0115006A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tek d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ecimális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erjedelm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676520" y="1600200"/>
          <a:ext cx="6095880" cy="4419720"/>
        </p:xfrm>
        <a:graphic>
          <a:graphicData uri="http://schemas.openxmlformats.org/drawingml/2006/table">
            <a:tbl>
              <a:tblPr/>
              <a:tblGrid>
                <a:gridCol w="907920"/>
                <a:gridCol w="1801800"/>
                <a:gridCol w="338616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</a:t>
                      </a: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zámjegy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rjedel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5760">
                      <a:solidFill>
                        <a:srgbClr val="ff9f11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514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1941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(0 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(0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4 (1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 (64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48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 (1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1768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6 (4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16 x 10</a:t>
                      </a:r>
                      <a:r>
                        <a:rPr b="0" lang="hu-HU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[exa]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dec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339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x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FDE9-0525-43B6-A2F7-AD3075021D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Számrendszer alapja </a:t>
            </a:r>
            <a:br>
              <a:rPr sz="4000"/>
            </a:b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(base, radix)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ámrendszerben számábrázoláshoz szükséges szimbólumo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nagyob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l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töb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jegyet igény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es alap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1,2,3,4,5,6,7,8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es alap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as alap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1,2,3,4,5,6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-os alap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 baseline="-12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1,2,3,4,5,6,7,8,9,A,B,C,D,E,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436-4AAA-4519-85BB-24EC7259E8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imbólumok száma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vs. </a:t>
            </a: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ámjegyek szám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889280"/>
                <a:tab algn="l" pos="302904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adott szám ábrázolásához a </a:t>
            </a:r>
            <a:r>
              <a:rPr b="0" i="1" lang="hu-HU" sz="3200" spc="-1" strike="noStrike">
                <a:solidFill>
                  <a:srgbClr val="000080"/>
                </a:solidFill>
                <a:latin typeface="Arial"/>
              </a:rPr>
              <a:t>nagyobb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alap eset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89280"/>
                <a:tab algn="l" pos="302904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több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imbólum szüksé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89280"/>
                <a:tab algn="l" pos="302904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i="1" lang="hu-HU" sz="2800" spc="-1" strike="noStrike">
                <a:solidFill>
                  <a:srgbClr val="000080"/>
                </a:solidFill>
                <a:latin typeface="Arial"/>
              </a:rPr>
              <a:t>kevesebb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számjegy k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889280"/>
                <a:tab algn="l" pos="302904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1. Példa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89280"/>
                <a:tab algn="l" pos="302904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65</a:t>
            </a:r>
            <a:r>
              <a:rPr b="0" lang="hu-HU" sz="2800" spc="-1" strike="noStrike" baseline="-14000">
                <a:solidFill>
                  <a:srgbClr val="000000"/>
                </a:solidFill>
                <a:latin typeface="Arial"/>
              </a:rPr>
              <a:t>16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hu-HU" sz="2800" spc="-1" strike="noStrike" baseline="-14000">
                <a:solidFill>
                  <a:srgbClr val="000000"/>
                </a:solidFill>
                <a:latin typeface="Arial"/>
              </a:rPr>
              <a:t>1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45</a:t>
            </a:r>
            <a:r>
              <a:rPr b="0" lang="hu-HU" sz="2800" spc="-1" strike="noStrike" baseline="-14000">
                <a:solidFill>
                  <a:srgbClr val="000000"/>
                </a:solidFill>
                <a:latin typeface="Arial"/>
              </a:rPr>
              <a:t>8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10 0101</a:t>
            </a:r>
            <a:r>
              <a:rPr b="0" lang="hu-HU" sz="2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1889280"/>
                <a:tab algn="l" pos="302904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2. Pél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1889280"/>
                <a:tab algn="l" pos="302904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1C</a:t>
            </a:r>
            <a:r>
              <a:rPr b="0" lang="hu-HU" sz="2800" spc="-1" strike="noStrike" baseline="-14000">
                <a:solidFill>
                  <a:srgbClr val="000000"/>
                </a:solidFill>
                <a:latin typeface="Arial"/>
              </a:rPr>
              <a:t>16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284</a:t>
            </a:r>
            <a:r>
              <a:rPr b="0" lang="hu-HU" sz="2800" spc="-1" strike="noStrike" baseline="-14000">
                <a:solidFill>
                  <a:srgbClr val="000000"/>
                </a:solidFill>
                <a:latin typeface="Arial"/>
              </a:rPr>
              <a:t>1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434</a:t>
            </a:r>
            <a:r>
              <a:rPr b="0" lang="hu-HU" sz="2800" spc="-1" strike="noStrike" baseline="-14000">
                <a:solidFill>
                  <a:srgbClr val="000000"/>
                </a:solidFill>
                <a:latin typeface="Arial"/>
              </a:rPr>
              <a:t>8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 0001 1100</a:t>
            </a:r>
            <a:r>
              <a:rPr b="0" lang="hu-HU" sz="2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1889280"/>
                <a:tab algn="l" pos="3029040"/>
                <a:tab algn="l" pos="4232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CD01-72D8-4493-928B-A99757DBE1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ámolás 2-es alappal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14400" y="1447920"/>
          <a:ext cx="7772400" cy="471960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náris sz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gyen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880">
                      <a:solidFill>
                        <a:srgbClr val="80808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mális szá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77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-asok (2</a:t>
                      </a:r>
                      <a:r>
                        <a:rPr b="0" lang="hu-H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esek (2</a:t>
                      </a:r>
                      <a:r>
                        <a:rPr b="0" lang="hu-H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-esek (2</a:t>
                      </a:r>
                      <a:r>
                        <a:rPr b="0" lang="hu-H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esek (2</a:t>
                      </a:r>
                      <a:r>
                        <a:rPr b="0" lang="hu-HU" sz="18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r>
                        <a:rPr b="0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 w="2880">
                      <a:solidFill>
                        <a:srgbClr val="808080"/>
                      </a:solidFill>
                    </a:lnR>
                    <a:lnT w="2880">
                      <a:solidFill>
                        <a:srgbClr val="808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00008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 x 2</a:t>
                      </a:r>
                      <a:r>
                        <a:rPr b="0" lang="hu-HU" sz="16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dec" pos="627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E0B-B766-4159-B7FA-5153163683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0-es alapú összeadó tábl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905120"/>
          <a:ext cx="7010280" cy="4282920"/>
        </p:xfrm>
        <a:graphic>
          <a:graphicData uri="http://schemas.openxmlformats.org/drawingml/2006/table">
            <a:tbl>
              <a:tblPr/>
              <a:tblGrid>
                <a:gridCol w="616680"/>
                <a:gridCol w="600840"/>
                <a:gridCol w="636120"/>
                <a:gridCol w="581760"/>
                <a:gridCol w="684720"/>
                <a:gridCol w="586800"/>
                <a:gridCol w="619920"/>
                <a:gridCol w="619920"/>
                <a:gridCol w="615240"/>
                <a:gridCol w="618480"/>
                <a:gridCol w="616680"/>
                <a:gridCol w="21600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73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</a:t>
                      </a: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990720" y="144792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3</a:t>
            </a:r>
            <a:r>
              <a:rPr b="1" lang="en-US" sz="24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 + 6</a:t>
            </a:r>
            <a:r>
              <a:rPr b="1" lang="en-US" sz="24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 = 9</a:t>
            </a:r>
            <a:r>
              <a:rPr b="1" lang="en-US" sz="24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FEB-8EAF-4EA9-897B-2393EFEDD3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8-as alapú összeadó tábl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3880" y="1981080"/>
          <a:ext cx="5773680" cy="4054680"/>
        </p:xfrm>
        <a:graphic>
          <a:graphicData uri="http://schemas.openxmlformats.org/drawingml/2006/table">
            <a:tbl>
              <a:tblPr/>
              <a:tblGrid>
                <a:gridCol w="616680"/>
                <a:gridCol w="619560"/>
                <a:gridCol w="616320"/>
                <a:gridCol w="581760"/>
                <a:gridCol w="654480"/>
                <a:gridCol w="616320"/>
                <a:gridCol w="619560"/>
                <a:gridCol w="616680"/>
                <a:gridCol w="618120"/>
                <a:gridCol w="216000"/>
              </a:tblGrid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990720" y="15238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3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+ 6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11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31240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in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természetes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D149-1D29-403E-BDBC-5E463043D6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0-es alapú szorzótábl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523880" y="1981080"/>
          <a:ext cx="7012080" cy="4511880"/>
        </p:xfrm>
        <a:graphic>
          <a:graphicData uri="http://schemas.openxmlformats.org/drawingml/2006/table">
            <a:tbl>
              <a:tblPr/>
              <a:tblGrid>
                <a:gridCol w="617040"/>
                <a:gridCol w="619920"/>
                <a:gridCol w="616680"/>
                <a:gridCol w="582120"/>
                <a:gridCol w="654840"/>
                <a:gridCol w="616680"/>
                <a:gridCol w="619920"/>
                <a:gridCol w="617040"/>
                <a:gridCol w="618480"/>
                <a:gridCol w="618120"/>
                <a:gridCol w="618480"/>
                <a:gridCol w="216000"/>
              </a:tblGrid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b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990720" y="15238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3</a:t>
            </a:r>
            <a:r>
              <a:rPr b="1" lang="en-US" sz="24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 x 6</a:t>
            </a:r>
            <a:r>
              <a:rPr b="1" lang="en-US" sz="24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 = 18</a:t>
            </a:r>
            <a:r>
              <a:rPr b="1" lang="en-US" sz="24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04960" y="2590920"/>
            <a:ext cx="685800" cy="0"/>
          </a:xfrm>
          <a:prstGeom prst="line">
            <a:avLst/>
          </a:prstGeom>
          <a:ln w="3492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2590920"/>
            <a:ext cx="685800" cy="0"/>
          </a:xfrm>
          <a:prstGeom prst="line">
            <a:avLst/>
          </a:prstGeom>
          <a:ln w="3492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4648320"/>
            <a:ext cx="0" cy="609480"/>
          </a:xfrm>
          <a:prstGeom prst="line">
            <a:avLst/>
          </a:prstGeom>
          <a:ln w="3492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590920" y="3428640"/>
            <a:ext cx="0" cy="762120"/>
          </a:xfrm>
          <a:prstGeom prst="line">
            <a:avLst/>
          </a:prstGeom>
          <a:ln w="3492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6FB-3E77-4697-8E29-22C2E9DD07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Miért bináris</a:t>
            </a: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?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9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rai számítógépek decimális számábrázolást használta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ark I és ENI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umann János javasolta a bináris számábrázolást (194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szerűbb a számítógépek megvalós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utasítások és adatok tárolásához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t egyaránt használj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mészetes kapcsolat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étállású kapcsolók és Bool logik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értékek, ill. műveletek közö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0" y="3809880"/>
          <a:ext cx="6462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3809880"/>
                    <a:ext cx="6462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7924680" y="3809880"/>
          <a:ext cx="6462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3809880"/>
                    <a:ext cx="6462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705720" y="3733920"/>
          <a:ext cx="2057400" cy="2487600"/>
        </p:xfrm>
        <a:graphic>
          <a:graphicData uri="http://schemas.openxmlformats.org/drawingml/2006/table">
            <a:tbl>
              <a:tblPr/>
              <a:tblGrid>
                <a:gridCol w="1066680"/>
                <a:gridCol w="990720"/>
              </a:tblGrid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D584-23C7-4624-8254-8C7A42A85F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8-as alapú szorzótábl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23880" y="1981080"/>
          <a:ext cx="5773680" cy="4054680"/>
        </p:xfrm>
        <a:graphic>
          <a:graphicData uri="http://schemas.openxmlformats.org/drawingml/2006/table">
            <a:tbl>
              <a:tblPr/>
              <a:tblGrid>
                <a:gridCol w="616680"/>
                <a:gridCol w="619560"/>
                <a:gridCol w="616320"/>
                <a:gridCol w="581760"/>
                <a:gridCol w="654480"/>
                <a:gridCol w="616320"/>
                <a:gridCol w="619560"/>
                <a:gridCol w="616680"/>
                <a:gridCol w="618120"/>
                <a:gridCol w="216000"/>
              </a:tblGrid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beff"/>
                    </a:solidFill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990720" y="1523880"/>
            <a:ext cx="236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3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x 6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22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504960" y="2590920"/>
            <a:ext cx="685800" cy="0"/>
          </a:xfrm>
          <a:prstGeom prst="line">
            <a:avLst/>
          </a:prstGeom>
          <a:ln w="3492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590920"/>
            <a:ext cx="685800" cy="0"/>
          </a:xfrm>
          <a:prstGeom prst="line">
            <a:avLst/>
          </a:prstGeom>
          <a:ln w="3492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590920" y="3123720"/>
            <a:ext cx="0" cy="685800"/>
          </a:xfrm>
          <a:prstGeom prst="line">
            <a:avLst/>
          </a:prstGeom>
          <a:ln w="3492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0920" y="4343400"/>
            <a:ext cx="0" cy="609480"/>
          </a:xfrm>
          <a:prstGeom prst="line">
            <a:avLst/>
          </a:prstGeom>
          <a:ln w="3492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43A9-0BAD-4B48-A773-B4FE60063F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Összead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371600" y="1676520"/>
          <a:ext cx="6553080" cy="3962160"/>
        </p:xfrm>
        <a:graphic>
          <a:graphicData uri="http://schemas.openxmlformats.org/drawingml/2006/table">
            <a:tbl>
              <a:tblPr/>
              <a:tblGrid>
                <a:gridCol w="1905120"/>
                <a:gridCol w="1218960"/>
                <a:gridCol w="3429000"/>
              </a:tblGrid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lad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gnagyobb egyjegyű szá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á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á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decimá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á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618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FC3-CE62-4988-A920-8944D16255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Összead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752480"/>
          <a:ext cx="6629040" cy="3692520"/>
        </p:xfrm>
        <a:graphic>
          <a:graphicData uri="http://schemas.openxmlformats.org/drawingml/2006/table">
            <a:tbl>
              <a:tblPr/>
              <a:tblGrid>
                <a:gridCol w="1932120"/>
                <a:gridCol w="1333800"/>
                <a:gridCol w="1906200"/>
                <a:gridCol w="145692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2500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lad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Átvit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edmé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8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á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tá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52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decimál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ná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406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D5ED-A6B8-4381-9133-B2EA5DBD1B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náris aritmetik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2057400"/>
          <a:ext cx="6476760" cy="2319480"/>
        </p:xfrm>
        <a:graphic>
          <a:graphicData uri="http://schemas.openxmlformats.org/drawingml/2006/table">
            <a:tbl>
              <a:tblPr/>
              <a:tblGrid>
                <a:gridCol w="809640"/>
                <a:gridCol w="809640"/>
                <a:gridCol w="809640"/>
                <a:gridCol w="809280"/>
                <a:gridCol w="809640"/>
                <a:gridCol w="809640"/>
                <a:gridCol w="809640"/>
                <a:gridCol w="809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12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12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12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</a:tr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551-C95B-4B37-B9EC-676B7F4CDB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náris aritmetik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84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sszea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ool XOR-t és AND-et hasz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or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hift (eltolá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Osz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950000" y="1981080"/>
          <a:ext cx="3438360" cy="1812960"/>
        </p:xfrm>
        <a:graphic>
          <a:graphicData uri="http://schemas.openxmlformats.org/drawingml/2006/table">
            <a:tbl>
              <a:tblPr/>
              <a:tblGrid>
                <a:gridCol w="1145880"/>
                <a:gridCol w="1146240"/>
                <a:gridCol w="114624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952880" y="4114800"/>
          <a:ext cx="3429000" cy="17812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9f11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ff9f11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9f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491-C950-488E-B1A1-3FBFD33E47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200" spc="-1" strike="noStrike">
                <a:solidFill>
                  <a:srgbClr val="000080"/>
                </a:solidFill>
                <a:latin typeface="Arial"/>
              </a:rPr>
              <a:t>Bináris aritmetika: Bool logika</a:t>
            </a:r>
            <a:endParaRPr b="1" lang="en-US" sz="4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ool logika véges aritmetika nélk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80"/>
                </a:solidFill>
                <a:latin typeface="Arial"/>
              </a:rPr>
              <a:t>EXCLUSIVE-OR (kizáró va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” az output ha 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nem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indegyik bemenet értéke “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99"/>
                </a:solidFill>
                <a:latin typeface="Arial"/>
              </a:rPr>
              <a:t>AND (carry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” az output ha mindegyik bemenet értéke “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23880" y="3505320"/>
          <a:ext cx="6705720" cy="2224080"/>
        </p:xfrm>
        <a:graphic>
          <a:graphicData uri="http://schemas.openxmlformats.org/drawingml/2006/table">
            <a:tbl>
              <a:tblPr/>
              <a:tblGrid>
                <a:gridCol w="838080"/>
                <a:gridCol w="838440"/>
                <a:gridCol w="837720"/>
                <a:gridCol w="838440"/>
                <a:gridCol w="838440"/>
                <a:gridCol w="838080"/>
                <a:gridCol w="838080"/>
                <a:gridCol w="838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12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12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12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	</a:t>
                      </a:r>
                      <a:r>
                        <a:rPr b="1" lang="hu-H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325-C608-40FD-9949-01862119751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náris szorz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ool logika véges aritmetika nélk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AND (carry 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” az output ha mindegyik bemenet értéke “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Shift (eltolá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szám eltolása bármelyik alapban </a:t>
            </a:r>
            <a:r>
              <a:rPr b="1" i="1" lang="hu-HU" sz="2000" spc="-1" strike="noStrike">
                <a:solidFill>
                  <a:srgbClr val="ff9f11"/>
                </a:solidFill>
                <a:latin typeface="Arial"/>
              </a:rPr>
              <a:t>balr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gy jeggyel, az egyenlő az alappal való </a:t>
            </a:r>
            <a:r>
              <a:rPr b="1" i="1" lang="hu-HU" sz="2000" spc="-1" strike="noStrike">
                <a:solidFill>
                  <a:srgbClr val="ff9f11"/>
                </a:solidFill>
                <a:latin typeface="Arial"/>
              </a:rPr>
              <a:t>szorzás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gy szám eltolása bármelyik alapban </a:t>
            </a:r>
            <a:r>
              <a:rPr b="1" i="1" lang="hu-HU" sz="2000" spc="-1" strike="noStrike">
                <a:solidFill>
                  <a:srgbClr val="ff9f11"/>
                </a:solidFill>
                <a:latin typeface="Arial"/>
              </a:rPr>
              <a:t>jobbr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gy jeggyel, az egyenlő az alappal való </a:t>
            </a:r>
            <a:r>
              <a:rPr b="1" i="1" lang="hu-HU" sz="2000" spc="-1" strike="noStrike">
                <a:solidFill>
                  <a:srgbClr val="ff9f11"/>
                </a:solidFill>
                <a:latin typeface="Arial"/>
              </a:rPr>
              <a:t>osztás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á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371600" y="5029200"/>
          <a:ext cx="6858000" cy="892080"/>
        </p:xfrm>
        <a:graphic>
          <a:graphicData uri="http://schemas.openxmlformats.org/drawingml/2006/table">
            <a:tbl>
              <a:tblPr/>
              <a:tblGrid>
                <a:gridCol w="3525840"/>
                <a:gridCol w="3332160"/>
              </a:tblGrid>
              <a:tr h="45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9f11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olv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balr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00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9f11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olv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jobbr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9f11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olv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balr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00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ff9f11"/>
                        </a:buClr>
                        <a:buSzPct val="50000"/>
                        <a:buFont typeface="Wingdings" charset="2"/>
                        <a:buChar char="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tolv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jobbr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88A8-6665-477D-99F8-19A5B39BB8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náris szorz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914400" y="1905120"/>
          <a:ext cx="8229600" cy="2963880"/>
        </p:xfrm>
        <a:graphic>
          <a:graphicData uri="http://schemas.openxmlformats.org/drawingml/2006/table">
            <a:tbl>
              <a:tblPr/>
              <a:tblGrid>
                <a:gridCol w="374760"/>
                <a:gridCol w="372960"/>
                <a:gridCol w="372960"/>
                <a:gridCol w="373320"/>
                <a:gridCol w="334800"/>
                <a:gridCol w="412920"/>
                <a:gridCol w="374400"/>
                <a:gridCol w="56134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ő h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odik h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adik hel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orzandó bitje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eltolva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gyel feljebb a harmadik hel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edmén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i="1" lang="en-US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 flipH="1">
            <a:off x="2590560" y="2133720"/>
            <a:ext cx="685800" cy="1676160"/>
          </a:xfrm>
          <a:prstGeom prst="line">
            <a:avLst/>
          </a:prstGeom>
          <a:ln w="28440">
            <a:solidFill>
              <a:srgbClr val="ff9f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9BC-0498-4361-A9A5-DEA0C557CB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99"/>
                </a:solidFill>
                <a:latin typeface="Arial"/>
              </a:rPr>
              <a:t>Bináris szorz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914400" y="1523880"/>
          <a:ext cx="7772400" cy="4910400"/>
        </p:xfrm>
        <a:graphic>
          <a:graphicData uri="http://schemas.openxmlformats.org/drawingml/2006/table">
            <a:tbl>
              <a:tblPr/>
              <a:tblGrid>
                <a:gridCol w="369720"/>
                <a:gridCol w="370080"/>
                <a:gridCol w="369720"/>
                <a:gridCol w="401760"/>
                <a:gridCol w="336600"/>
                <a:gridCol w="369720"/>
                <a:gridCol w="370080"/>
                <a:gridCol w="380880"/>
                <a:gridCol w="358920"/>
                <a:gridCol w="368280"/>
                <a:gridCol w="342720"/>
                <a:gridCol w="381240"/>
                <a:gridCol w="385560"/>
                <a:gridCol w="2967120"/>
              </a:tblGrid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odik helyiértékhez tartozik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orzandó bitje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i="1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eltolva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 helyiértékkel balra ~ 2-vel megszoroztu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elyiértékhez tartozik (2</a:t>
                      </a:r>
                      <a:r>
                        <a:rPr b="0" lang="hu-H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4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helyiérték (2</a:t>
                      </a:r>
                      <a:r>
                        <a:rPr b="0" lang="hu-HU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9f11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edmén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1" i="1" lang="en-US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br>
                        <a:rPr sz="1600"/>
                      </a:b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jegyzés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0 a végé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z első helyen nem lett leírv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6840">
                <a:tc gridSpan="1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jegyzé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öbbszörös carry lehetsége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 flipH="1">
            <a:off x="5181120" y="1981080"/>
            <a:ext cx="304920" cy="68580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438280"/>
            <a:ext cx="0" cy="304920"/>
          </a:xfrm>
          <a:prstGeom prst="line">
            <a:avLst/>
          </a:prstGeom>
          <a:ln w="1908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29200" y="2133720"/>
            <a:ext cx="2286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71800" y="1600200"/>
            <a:ext cx="2666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325-305A-4B82-B3BE-50D43A1CAB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Bináris szorz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914400" y="2209680"/>
          <a:ext cx="8077320" cy="2932200"/>
        </p:xfrm>
        <a:graphic>
          <a:graphicData uri="http://schemas.openxmlformats.org/drawingml/2006/table">
            <a:tbl>
              <a:tblPr/>
              <a:tblGrid>
                <a:gridCol w="504000"/>
                <a:gridCol w="504000"/>
                <a:gridCol w="504000"/>
                <a:gridCol w="507240"/>
                <a:gridCol w="504000"/>
                <a:gridCol w="504000"/>
                <a:gridCol w="504000"/>
                <a:gridCol w="507240"/>
                <a:gridCol w="504000"/>
                <a:gridCol w="504000"/>
                <a:gridCol w="507240"/>
                <a:gridCol w="504000"/>
                <a:gridCol w="504000"/>
                <a:gridCol w="504360"/>
                <a:gridCol w="506880"/>
                <a:gridCol w="504360"/>
              </a:tblGrid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9f11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9f1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066680" y="1752480"/>
            <a:ext cx="6705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14400" y="1828800"/>
          <a:ext cx="8001000" cy="272880"/>
        </p:xfrm>
        <a:graphic>
          <a:graphicData uri="http://schemas.openxmlformats.org/drawingml/2006/table">
            <a:tbl>
              <a:tblPr/>
              <a:tblGrid>
                <a:gridCol w="500040"/>
                <a:gridCol w="498600"/>
                <a:gridCol w="500040"/>
                <a:gridCol w="500040"/>
                <a:gridCol w="500040"/>
                <a:gridCol w="501480"/>
                <a:gridCol w="500040"/>
                <a:gridCol w="500400"/>
                <a:gridCol w="500040"/>
                <a:gridCol w="498240"/>
                <a:gridCol w="501840"/>
                <a:gridCol w="498240"/>
                <a:gridCol w="501840"/>
                <a:gridCol w="500040"/>
                <a:gridCol w="500040"/>
                <a:gridCol w="500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914400" y="1447920"/>
          <a:ext cx="8001000" cy="272880"/>
        </p:xfrm>
        <a:graphic>
          <a:graphicData uri="http://schemas.openxmlformats.org/drawingml/2006/table">
            <a:tbl>
              <a:tblPr/>
              <a:tblGrid>
                <a:gridCol w="500040"/>
                <a:gridCol w="498600"/>
                <a:gridCol w="500040"/>
                <a:gridCol w="500040"/>
                <a:gridCol w="500040"/>
                <a:gridCol w="501480"/>
                <a:gridCol w="500040"/>
                <a:gridCol w="500400"/>
                <a:gridCol w="500040"/>
                <a:gridCol w="498240"/>
                <a:gridCol w="501840"/>
                <a:gridCol w="498240"/>
                <a:gridCol w="501840"/>
                <a:gridCol w="500040"/>
                <a:gridCol w="500040"/>
                <a:gridCol w="5000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7543800" y="22860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781320" y="2438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077320" y="22860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534520" y="228600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315200" y="25909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772400" y="259092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B78-89B8-4026-AD66-563275DFE5F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ámolás és aritmetik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cimális vagy tízes alapú számrends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redet: számolás az ujj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Digit” (számjegy)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igitu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latin szóból ered, jelentése “ujj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Alap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 a számrendszerben használt számjegyek száma, a nullát is beleért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a:  10-es alapban 10 számjegy van, 0-tól 9-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Bináris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gy</a:t>
            </a: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 2-es alap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Bi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aritmetikai számjegy):  2 számjegy, 0 és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Oktális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vagy</a:t>
            </a: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 8-as alapú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8 számjegy, 0-tól 7-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Arial"/>
              </a:rPr>
              <a:t>Hexadecimális vagy 16-os alap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6 számjegy, 0-tól F-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ldák:  </a:t>
            </a:r>
            <a:r>
              <a:rPr b="1" lang="hu-HU" sz="2000" spc="-1" strike="noStrike">
                <a:solidFill>
                  <a:srgbClr val="ff9f11"/>
                </a:solidFill>
                <a:latin typeface="Arial"/>
              </a:rPr>
              <a:t>10</a:t>
            </a:r>
            <a:r>
              <a:rPr b="1" lang="hu-HU" sz="2000" spc="-1" strike="noStrike" baseline="-25000">
                <a:solidFill>
                  <a:srgbClr val="ff9f11"/>
                </a:solidFill>
                <a:latin typeface="Arial"/>
              </a:rPr>
              <a:t>1</a:t>
            </a:r>
            <a:r>
              <a:rPr b="0" lang="hu-HU" sz="2000" spc="-1" strike="noStrike" baseline="-25000">
                <a:solidFill>
                  <a:srgbClr val="ff9f11"/>
                </a:solidFill>
                <a:latin typeface="Arial"/>
              </a:rPr>
              <a:t>0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hu-HU" sz="2000" spc="-1" strike="noStrike">
                <a:solidFill>
                  <a:srgbClr val="000080"/>
                </a:solidFill>
                <a:latin typeface="Arial"/>
              </a:rPr>
              <a:t>A</a:t>
            </a:r>
            <a:r>
              <a:rPr b="1" lang="hu-HU" sz="2000" spc="-1" strike="noStrike" baseline="-25000">
                <a:solidFill>
                  <a:srgbClr val="000080"/>
                </a:solidFill>
                <a:latin typeface="Arial"/>
              </a:rPr>
              <a:t>16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hu-HU" sz="2000" spc="-1" strike="noStrike">
                <a:solidFill>
                  <a:srgbClr val="ff9f11"/>
                </a:solidFill>
                <a:latin typeface="Arial"/>
              </a:rPr>
              <a:t>11</a:t>
            </a:r>
            <a:r>
              <a:rPr b="1" lang="hu-HU" sz="20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hu-HU" sz="2000" spc="-1" strike="noStrike">
                <a:solidFill>
                  <a:srgbClr val="000080"/>
                </a:solidFill>
                <a:latin typeface="Arial"/>
              </a:rPr>
              <a:t>B</a:t>
            </a:r>
            <a:r>
              <a:rPr b="1" lang="hu-HU" sz="2000" spc="-1" strike="noStrike" baseline="-25000">
                <a:solidFill>
                  <a:srgbClr val="00008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977-E7FB-4AFF-A60A-C8C199ADDA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 flipH="1" flipV="1">
            <a:off x="1142280" y="2208960"/>
            <a:ext cx="1066680" cy="685800"/>
          </a:xfrm>
          <a:prstGeom prst="rtTriangle">
            <a:avLst/>
          </a:prstGeom>
          <a:solidFill>
            <a:srgbClr val="ff9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onvertálás 10-es alapból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066680" y="2209680"/>
          <a:ext cx="7315200" cy="2667240"/>
        </p:xfrm>
        <a:graphic>
          <a:graphicData uri="http://schemas.openxmlformats.org/drawingml/2006/table">
            <a:tbl>
              <a:tblPr/>
              <a:tblGrid>
                <a:gridCol w="1143000"/>
                <a:gridCol w="636840"/>
                <a:gridCol w="658800"/>
                <a:gridCol w="603000"/>
                <a:gridCol w="804960"/>
                <a:gridCol w="804960"/>
                <a:gridCol w="691920"/>
                <a:gridCol w="676440"/>
                <a:gridCol w="627120"/>
                <a:gridCol w="66816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hu-H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ev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Al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tvány tá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E11-3F69-4B20-B4CC-995346B9B4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 flipH="1" flipV="1">
            <a:off x="1066680" y="2361600"/>
            <a:ext cx="1447920" cy="685800"/>
          </a:xfrm>
          <a:prstGeom prst="rtTriangle">
            <a:avLst/>
          </a:prstGeom>
          <a:solidFill>
            <a:srgbClr val="ff9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0-es alapból 2-esb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138320" y="1676520"/>
          <a:ext cx="6875280" cy="3870360"/>
        </p:xfrm>
        <a:graphic>
          <a:graphicData uri="http://schemas.openxmlformats.org/drawingml/2006/table">
            <a:tbl>
              <a:tblPr/>
              <a:tblGrid>
                <a:gridCol w="1380960"/>
                <a:gridCol w="860400"/>
                <a:gridCol w="822600"/>
                <a:gridCol w="822240"/>
                <a:gridCol w="896760"/>
                <a:gridCol w="673200"/>
                <a:gridCol w="746280"/>
                <a:gridCol w="672840"/>
              </a:tblGrid>
              <a:tr h="68400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2</a:t>
                      </a:r>
                      <a:r>
                        <a:rPr b="0" lang="en-US" sz="2800" spc="-1" strike="noStrike" baseline="-25000">
                          <a:solidFill>
                            <a:srgbClr val="ff9f11"/>
                          </a:solidFill>
                          <a:latin typeface="Arial"/>
                        </a:rPr>
                        <a:t>10 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= </a:t>
                      </a:r>
                      <a:r>
                        <a:rPr b="0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1010</a:t>
                      </a:r>
                      <a:r>
                        <a:rPr b="0" lang="en-US" sz="2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9f1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ev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é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/32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d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2" name=""/>
          <p:cNvGrpSpPr/>
          <p:nvPr/>
        </p:nvGrpSpPr>
        <p:grpSpPr>
          <a:xfrm>
            <a:off x="3886200" y="4343400"/>
            <a:ext cx="1143000" cy="1130400"/>
            <a:chOff x="3886200" y="4343400"/>
            <a:chExt cx="1143000" cy="1130400"/>
          </a:xfrm>
        </p:grpSpPr>
        <p:sp>
          <p:nvSpPr>
            <p:cNvPr id="233" name=""/>
            <p:cNvSpPr/>
            <p:nvPr/>
          </p:nvSpPr>
          <p:spPr>
            <a:xfrm flipV="1">
              <a:off x="3886200" y="4572000"/>
              <a:ext cx="380880" cy="53352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91120" y="43434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/16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6708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4724280" y="4343400"/>
            <a:ext cx="1143000" cy="1130400"/>
            <a:chOff x="4724280" y="4343400"/>
            <a:chExt cx="1143000" cy="1130400"/>
          </a:xfrm>
        </p:grpSpPr>
        <p:sp>
          <p:nvSpPr>
            <p:cNvPr id="237" name=""/>
            <p:cNvSpPr/>
            <p:nvPr/>
          </p:nvSpPr>
          <p:spPr>
            <a:xfrm flipV="1">
              <a:off x="4724280" y="4572000"/>
              <a:ext cx="380880" cy="53352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3434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/8  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0516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638680" y="4343400"/>
            <a:ext cx="1143000" cy="1130400"/>
            <a:chOff x="5638680" y="4343400"/>
            <a:chExt cx="1143000" cy="1130400"/>
          </a:xfrm>
        </p:grpSpPr>
        <p:sp>
          <p:nvSpPr>
            <p:cNvPr id="241" name=""/>
            <p:cNvSpPr/>
            <p:nvPr/>
          </p:nvSpPr>
          <p:spPr>
            <a:xfrm flipV="1">
              <a:off x="5638680" y="4572000"/>
              <a:ext cx="380880" cy="53352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43600" y="43434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/4   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1956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24480" y="4343400"/>
            <a:ext cx="1143000" cy="1130400"/>
            <a:chOff x="6324480" y="4343400"/>
            <a:chExt cx="1143000" cy="1130400"/>
          </a:xfrm>
        </p:grpSpPr>
        <p:sp>
          <p:nvSpPr>
            <p:cNvPr id="245" name=""/>
            <p:cNvSpPr/>
            <p:nvPr/>
          </p:nvSpPr>
          <p:spPr>
            <a:xfrm flipV="1">
              <a:off x="6324480" y="4572000"/>
              <a:ext cx="380880" cy="53352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29400" y="43434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/2    =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0536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010280" y="4343400"/>
            <a:ext cx="1143000" cy="1130400"/>
            <a:chOff x="7010280" y="4343400"/>
            <a:chExt cx="1143000" cy="1130400"/>
          </a:xfrm>
        </p:grpSpPr>
        <p:sp>
          <p:nvSpPr>
            <p:cNvPr id="249" name=""/>
            <p:cNvSpPr/>
            <p:nvPr/>
          </p:nvSpPr>
          <p:spPr>
            <a:xfrm flipV="1">
              <a:off x="7010280" y="4572000"/>
              <a:ext cx="380880" cy="53352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15200" y="434340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/1   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91160" y="510552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4290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E4A-C994-4296-9689-59CB190CD6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0-es alapból 2-esb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914400" y="1523880"/>
          <a:ext cx="8077320" cy="4599000"/>
        </p:xfrm>
        <a:graphic>
          <a:graphicData uri="http://schemas.openxmlformats.org/drawingml/2006/table">
            <a:tbl>
              <a:tblPr/>
              <a:tblGrid>
                <a:gridCol w="2355840"/>
                <a:gridCol w="925560"/>
                <a:gridCol w="479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0-es 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 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kiseb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-érték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   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nagyob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-érték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-es 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01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5" name=""/>
          <p:cNvGrpSpPr/>
          <p:nvPr/>
        </p:nvGrpSpPr>
        <p:grpSpPr>
          <a:xfrm>
            <a:off x="4647960" y="1676520"/>
            <a:ext cx="2209680" cy="761760"/>
            <a:chOff x="4647960" y="1676520"/>
            <a:chExt cx="2209680" cy="761760"/>
          </a:xfrm>
        </p:grpSpPr>
        <p:sp>
          <p:nvSpPr>
            <p:cNvPr id="256" name=""/>
            <p:cNvSpPr/>
            <p:nvPr/>
          </p:nvSpPr>
          <p:spPr>
            <a:xfrm>
              <a:off x="5029200" y="1676520"/>
              <a:ext cx="18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80"/>
                  </a:solidFill>
                  <a:latin typeface="Tahoma"/>
                </a:rPr>
                <a:t>Maradé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647960" y="2057400"/>
              <a:ext cx="456840" cy="38088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838080" y="2438280"/>
            <a:ext cx="2895480" cy="838080"/>
            <a:chOff x="838080" y="2438280"/>
            <a:chExt cx="2895480" cy="838080"/>
          </a:xfrm>
        </p:grpSpPr>
        <p:sp>
          <p:nvSpPr>
            <p:cNvPr id="259" name=""/>
            <p:cNvSpPr/>
            <p:nvPr/>
          </p:nvSpPr>
          <p:spPr>
            <a:xfrm>
              <a:off x="838080" y="2438280"/>
              <a:ext cx="168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80"/>
                  </a:solidFill>
                  <a:latin typeface="Tahoma"/>
                </a:rPr>
                <a:t>Hány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27200" y="2689560"/>
              <a:ext cx="1206360" cy="58680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11BB-02FA-48EA-9EF5-EBF61155FB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 flipH="1" flipV="1">
            <a:off x="914400" y="2208960"/>
            <a:ext cx="1447920" cy="685800"/>
          </a:xfrm>
          <a:prstGeom prst="rtTriangle">
            <a:avLst/>
          </a:prstGeom>
          <a:solidFill>
            <a:srgbClr val="ff9f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0-es alapból 16-osb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914400" y="1523880"/>
          <a:ext cx="7848720" cy="4183200"/>
        </p:xfrm>
        <a:graphic>
          <a:graphicData uri="http://schemas.openxmlformats.org/drawingml/2006/table">
            <a:tbl>
              <a:tblPr/>
              <a:tblGrid>
                <a:gridCol w="1420920"/>
                <a:gridCol w="971280"/>
                <a:gridCol w="1798920"/>
                <a:gridCol w="1600200"/>
                <a:gridCol w="1234800"/>
                <a:gridCol w="822600"/>
              </a:tblGrid>
              <a:tr h="6854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</a:t>
                      </a:r>
                      <a:r>
                        <a:rPr b="1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735</a:t>
                      </a:r>
                      <a:r>
                        <a:rPr b="1" lang="en-US" sz="2800" spc="-1" strike="noStrike" baseline="-25000">
                          <a:solidFill>
                            <a:srgbClr val="ff9f11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667</a:t>
                      </a:r>
                      <a:r>
                        <a:rPr b="1" lang="en-US" sz="2800" spc="-1" strike="noStrike" baseline="-25000">
                          <a:solidFill>
                            <a:srgbClr val="00008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9f1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evő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57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é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5 /4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6 =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 / 256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/16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d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5 – 4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6 = 1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9 –1</a:t>
                      </a: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 = 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 – 96 =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"/>
          <p:cNvSpPr/>
          <p:nvPr/>
        </p:nvSpPr>
        <p:spPr>
          <a:xfrm>
            <a:off x="990720" y="1523880"/>
            <a:ext cx="3504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228-FC19-42EC-B65B-42E98361B3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0-es alapból 16-osb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990720" y="1676520"/>
          <a:ext cx="7924680" cy="4252680"/>
        </p:xfrm>
        <a:graphic>
          <a:graphicData uri="http://schemas.openxmlformats.org/drawingml/2006/table">
            <a:tbl>
              <a:tblPr/>
              <a:tblGrid>
                <a:gridCol w="2136600"/>
                <a:gridCol w="1446120"/>
                <a:gridCol w="4341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0-es 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</a:t>
                      </a: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7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7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kiseb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-érték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nagyob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-érték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-os 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7" name=""/>
          <p:cNvGrpSpPr/>
          <p:nvPr/>
        </p:nvGrpSpPr>
        <p:grpSpPr>
          <a:xfrm>
            <a:off x="838080" y="2590920"/>
            <a:ext cx="2743200" cy="1191240"/>
            <a:chOff x="838080" y="2590920"/>
            <a:chExt cx="2743200" cy="1191240"/>
          </a:xfrm>
        </p:grpSpPr>
        <p:sp>
          <p:nvSpPr>
            <p:cNvPr id="268" name=""/>
            <p:cNvSpPr/>
            <p:nvPr/>
          </p:nvSpPr>
          <p:spPr>
            <a:xfrm>
              <a:off x="838080" y="259092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80"/>
                  </a:solidFill>
                  <a:latin typeface="Tahoma"/>
                </a:rPr>
                <a:t> </a:t>
              </a:r>
              <a:r>
                <a:rPr b="0" lang="hu-HU" sz="2400" spc="-1" strike="noStrike">
                  <a:solidFill>
                    <a:srgbClr val="000080"/>
                  </a:solidFill>
                  <a:latin typeface="Tahoma"/>
                </a:rPr>
                <a:t>Hány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8280" y="2819520"/>
              <a:ext cx="1143000" cy="53316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105160" y="1676520"/>
            <a:ext cx="2209680" cy="761760"/>
            <a:chOff x="5105160" y="1676520"/>
            <a:chExt cx="2209680" cy="761760"/>
          </a:xfrm>
        </p:grpSpPr>
        <p:sp>
          <p:nvSpPr>
            <p:cNvPr id="271" name=""/>
            <p:cNvSpPr/>
            <p:nvPr/>
          </p:nvSpPr>
          <p:spPr>
            <a:xfrm>
              <a:off x="5486400" y="1676520"/>
              <a:ext cx="18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80"/>
                  </a:solidFill>
                  <a:latin typeface="Tahoma"/>
                </a:rPr>
                <a:t>Maradé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05160" y="2057400"/>
              <a:ext cx="456840" cy="38088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42C-C78A-44F5-ACDE-2167ADC7682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0-es alapból 16-osba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914400" y="1676520"/>
          <a:ext cx="7924680" cy="4252680"/>
        </p:xfrm>
        <a:graphic>
          <a:graphicData uri="http://schemas.openxmlformats.org/drawingml/2006/table">
            <a:tbl>
              <a:tblPr/>
              <a:tblGrid>
                <a:gridCol w="2306520"/>
                <a:gridCol w="1276560"/>
                <a:gridCol w="4341600"/>
              </a:tblGrid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0-es 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8</a:t>
                      </a: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7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kiseb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-érték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1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nagyobb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-értékű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6-os 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F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5" name=""/>
          <p:cNvGrpSpPr/>
          <p:nvPr/>
        </p:nvGrpSpPr>
        <p:grpSpPr>
          <a:xfrm>
            <a:off x="762120" y="2514600"/>
            <a:ext cx="2743200" cy="1191240"/>
            <a:chOff x="762120" y="2514600"/>
            <a:chExt cx="2743200" cy="1191240"/>
          </a:xfrm>
        </p:grpSpPr>
        <p:sp>
          <p:nvSpPr>
            <p:cNvPr id="276" name=""/>
            <p:cNvSpPr/>
            <p:nvPr/>
          </p:nvSpPr>
          <p:spPr>
            <a:xfrm>
              <a:off x="762120" y="251460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80"/>
                  </a:solidFill>
                  <a:latin typeface="Tahoma"/>
                </a:rPr>
                <a:t> </a:t>
              </a:r>
              <a:r>
                <a:rPr b="0" lang="hu-HU" sz="2400" spc="-1" strike="noStrike">
                  <a:solidFill>
                    <a:srgbClr val="000080"/>
                  </a:solidFill>
                  <a:latin typeface="Tahoma"/>
                </a:rPr>
                <a:t>Hány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62320" y="2743200"/>
              <a:ext cx="1143000" cy="53316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952880" y="1752480"/>
            <a:ext cx="2210040" cy="761760"/>
            <a:chOff x="4952880" y="1752480"/>
            <a:chExt cx="2210040" cy="761760"/>
          </a:xfrm>
        </p:grpSpPr>
        <p:sp>
          <p:nvSpPr>
            <p:cNvPr id="279" name=""/>
            <p:cNvSpPr/>
            <p:nvPr/>
          </p:nvSpPr>
          <p:spPr>
            <a:xfrm>
              <a:off x="5334120" y="17524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80"/>
                  </a:solidFill>
                  <a:latin typeface="Tahoma"/>
                </a:rPr>
                <a:t>Maradé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952880" y="2133360"/>
              <a:ext cx="457200" cy="380880"/>
            </a:xfrm>
            <a:prstGeom prst="line">
              <a:avLst/>
            </a:prstGeom>
            <a:ln w="4140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1DC-73BF-4930-A23E-858193EF05A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8-as alapból 10-esb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219320" y="1600200"/>
          <a:ext cx="6589440" cy="3313080"/>
        </p:xfrm>
        <a:graphic>
          <a:graphicData uri="http://schemas.openxmlformats.org/drawingml/2006/table">
            <a:tbl>
              <a:tblPr/>
              <a:tblGrid>
                <a:gridCol w="1295280"/>
                <a:gridCol w="1407960"/>
                <a:gridCol w="1295640"/>
                <a:gridCol w="1258920"/>
                <a:gridCol w="13316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263</a:t>
                      </a:r>
                      <a:r>
                        <a:rPr b="0" lang="en-US" sz="28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9f11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=  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3</a:t>
                      </a: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763</a:t>
                      </a:r>
                      <a:r>
                        <a:rPr b="0" lang="en-US" sz="2800" spc="-1" strike="noStrike" baseline="-25000">
                          <a:solidFill>
                            <a:srgbClr val="ff9f11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9f11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9f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ff9f11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tev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9f11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9f11"/>
                      </a:solidFill>
                    </a:lnR>
                    <a:lnT w="9360">
                      <a:solidFill>
                        <a:srgbClr val="ff9f11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solidFill>
                      <a:srgbClr val="ff9f11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687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687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2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ális össze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3</a:t>
                      </a:r>
                      <a:r>
                        <a:rPr b="0" lang="hu-HU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F253-F5A5-4AC3-B8EE-FEA10CD4870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8-as alapból 10-esb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143000" y="1600200"/>
          <a:ext cx="7467480" cy="4437000"/>
        </p:xfrm>
        <a:graphic>
          <a:graphicData uri="http://schemas.openxmlformats.org/drawingml/2006/table">
            <a:tbl>
              <a:tblPr/>
              <a:tblGrid>
                <a:gridCol w="1219320"/>
                <a:gridCol w="1143000"/>
                <a:gridCol w="838080"/>
                <a:gridCol w="1066680"/>
                <a:gridCol w="990720"/>
                <a:gridCol w="1066680"/>
                <a:gridCol w="1143000"/>
              </a:tblGrid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263</a:t>
                      </a:r>
                      <a:r>
                        <a:rPr b="0" lang="en-US" sz="28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=  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3</a:t>
                      </a: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763</a:t>
                      </a:r>
                      <a:r>
                        <a:rPr b="0" lang="en-US" sz="2800" spc="-1" strike="noStrike" baseline="-25000">
                          <a:solidFill>
                            <a:srgbClr val="ff9f11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x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x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x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974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801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1" lang="en-US" sz="2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dec" pos="739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3</a:t>
                      </a:r>
                      <a:r>
                        <a:rPr b="0" lang="hu-HU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.</a:t>
                      </a:r>
                      <a:r>
                        <a:rPr b="0" lang="en-US" sz="2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7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CD27-9D70-4349-BA31-BA505AE7FF7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16-os alapból 2-esbe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2800" spc="-1" strike="noStrike">
                <a:solidFill>
                  <a:srgbClr val="000080"/>
                </a:solidFill>
                <a:latin typeface="Arial"/>
              </a:rPr>
              <a:t>nibble (négy bites szó)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megközelí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xadecimálist könnyebb írni és olvasni, mint biná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iért hexadecimál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5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perációs rendszer, ill. hálózati hibák esetén a rend-szer a hibaeseményhez tartózó adatokat hexadecimális formában jelenít meg. (~ ismeretlen memóriatartal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523880" y="2666880"/>
          <a:ext cx="6477120" cy="1981440"/>
        </p:xfrm>
        <a:graphic>
          <a:graphicData uri="http://schemas.openxmlformats.org/drawingml/2006/table">
            <a:tbl>
              <a:tblPr/>
              <a:tblGrid>
                <a:gridCol w="2286000"/>
                <a:gridCol w="1219320"/>
                <a:gridCol w="990720"/>
                <a:gridCol w="990360"/>
                <a:gridCol w="990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-os 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03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es al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01FC-A5A2-43E8-82E3-E058E729C24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örte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80"/>
                </a:solidFill>
                <a:latin typeface="Arial"/>
              </a:rPr>
              <a:t>Tizedespont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vagy </a:t>
            </a:r>
            <a:r>
              <a:rPr b="0" lang="hu-HU" sz="3200" spc="-1" strike="noStrike">
                <a:solidFill>
                  <a:srgbClr val="000080"/>
                </a:solidFill>
                <a:latin typeface="Arial"/>
              </a:rPr>
              <a:t>alapp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izedespont a 10-es alap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nárispont a 2-es alap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incs tökéletes alakja a törteknek különböző számrendszerek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ontos átalakítás nem mindig lehetsé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5B4F-6CB9-4CC5-93F4-FE2B45343D3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Bitek kezelése a gyakorlatban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it-eket általában csoportokban tárolják és módosítj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bit = 1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</a:rPr>
              <a:t>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yte = 1 word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/sz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legtöbb rendszerb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ámítási műveletek során a számábrázolásra használt bit-ek szá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efolyásolja az eredmé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ontosságá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orlátozza a számítógép által kezelhető számok nagyságát (ill. azok számá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4FB1-CE61-492A-A84D-9098E6CCAC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izedestörte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akjuk eggyel jobbra a tizedespont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elenség:  a szám megszorzódik a számrendszer alapjá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:  </a:t>
            </a:r>
            <a:r>
              <a:rPr b="1" lang="hu-HU" sz="2800" spc="-1" strike="noStrike">
                <a:solidFill>
                  <a:srgbClr val="ff9f11"/>
                </a:solidFill>
                <a:latin typeface="Arial"/>
              </a:rPr>
              <a:t>139.0</a:t>
            </a:r>
            <a:r>
              <a:rPr b="1" lang="hu-HU" sz="28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1" lang="hu-HU" sz="2800" spc="-1" strike="noStrike">
                <a:solidFill>
                  <a:srgbClr val="ff9f11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ff9f11"/>
                </a:solidFill>
                <a:latin typeface="Arial"/>
              </a:rPr>
              <a:t>1390</a:t>
            </a:r>
            <a:r>
              <a:rPr b="1" lang="hu-HU" sz="28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akjuk eggyel balra a tizedespont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elenség:  a szám osztódik a számrendszer alapjá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élda:  </a:t>
            </a:r>
            <a:r>
              <a:rPr b="1" lang="hu-HU" sz="2800" spc="-1" strike="noStrike">
                <a:solidFill>
                  <a:srgbClr val="ff9f11"/>
                </a:solidFill>
                <a:latin typeface="Arial"/>
              </a:rPr>
              <a:t>139.0</a:t>
            </a:r>
            <a:r>
              <a:rPr b="1" lang="hu-HU" sz="28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1" lang="hu-HU" sz="2800" spc="-1" strike="noStrike">
                <a:solidFill>
                  <a:srgbClr val="ff9f11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ff9f11"/>
                </a:solidFill>
                <a:latin typeface="Arial"/>
              </a:rPr>
              <a:t>13.9</a:t>
            </a:r>
            <a:r>
              <a:rPr b="1" lang="hu-HU" sz="28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1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95680" y="32004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525780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rot="10800000">
            <a:off x="3580200" y="3352320"/>
            <a:ext cx="228600" cy="228600"/>
          </a:xfrm>
          <a:custGeom>
            <a:avLst/>
            <a:gdLst>
              <a:gd name="textAreaLeft" fmla="*/ -360 w 228600"/>
              <a:gd name="textAreaRight" fmla="*/ 22860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0800000">
            <a:off x="3352320" y="5409720"/>
            <a:ext cx="228600" cy="228600"/>
          </a:xfrm>
          <a:custGeom>
            <a:avLst/>
            <a:gdLst>
              <a:gd name="textAreaLeft" fmla="*/ 0 w 228600"/>
              <a:gd name="textAreaRight" fmla="*/ 228960 w 2286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F9E-4840-4B56-836D-0A50CA947F8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örtek: 10-es és 2-es alap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990720" y="1905120"/>
          <a:ext cx="7238880" cy="1536480"/>
        </p:xfrm>
        <a:graphic>
          <a:graphicData uri="http://schemas.openxmlformats.org/drawingml/2006/table">
            <a:tbl>
              <a:tblPr/>
              <a:tblGrid>
                <a:gridCol w="1269720"/>
                <a:gridCol w="1254240"/>
                <a:gridCol w="1571760"/>
                <a:gridCol w="1571400"/>
                <a:gridCol w="157176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 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ít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x 1/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1/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x 1/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x1/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,</a:t>
                      </a:r>
                      <a:r>
                        <a:rPr b="1" lang="en-US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,</a:t>
                      </a:r>
                      <a:r>
                        <a:rPr b="1" lang="en-US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,</a:t>
                      </a:r>
                      <a:r>
                        <a:rPr b="1" lang="en-US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,</a:t>
                      </a:r>
                      <a:r>
                        <a:rPr b="1" lang="en-US" sz="16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0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/>
          <p:nvPr/>
        </p:nvSpPr>
        <p:spPr>
          <a:xfrm>
            <a:off x="1066680" y="3505320"/>
            <a:ext cx="29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80"/>
                </a:solidFill>
                <a:latin typeface="Arial"/>
              </a:rPr>
              <a:t>0,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101011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ff9f11"/>
                </a:solidFill>
                <a:latin typeface="Arial"/>
              </a:rPr>
              <a:t>= 0</a:t>
            </a:r>
            <a:r>
              <a:rPr b="1" lang="hu-HU" sz="2000" spc="-1" strike="noStrike">
                <a:solidFill>
                  <a:srgbClr val="ff9f11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9f11"/>
                </a:solidFill>
                <a:latin typeface="Arial"/>
              </a:rPr>
              <a:t>671875</a:t>
            </a:r>
            <a:r>
              <a:rPr b="1" lang="en-US" sz="20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1066680" y="4038480"/>
          <a:ext cx="7467840" cy="1706760"/>
        </p:xfrm>
        <a:graphic>
          <a:graphicData uri="http://schemas.openxmlformats.org/drawingml/2006/table">
            <a:tbl>
              <a:tblPr/>
              <a:tblGrid>
                <a:gridCol w="1295640"/>
                <a:gridCol w="838080"/>
                <a:gridCol w="1014480"/>
                <a:gridCol w="1206360"/>
                <a:gridCol w="979560"/>
                <a:gridCol w="979560"/>
                <a:gridCol w="11541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 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ítá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 1/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x 1/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x 1/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x 1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 1/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x 1/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,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r>
                        <a:rPr b="1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r>
                        <a:rPr b="1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3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r>
                        <a:rPr b="1" lang="hu-HU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6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015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1143000" y="1447920"/>
            <a:ext cx="2438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9f11"/>
                </a:solidFill>
                <a:latin typeface="Arial"/>
              </a:rPr>
              <a:t>0,</a:t>
            </a:r>
            <a:r>
              <a:rPr b="1" lang="en-US" sz="2000" spc="-1" strike="noStrike">
                <a:solidFill>
                  <a:srgbClr val="ff9f11"/>
                </a:solidFill>
                <a:latin typeface="Arial"/>
              </a:rPr>
              <a:t>2589</a:t>
            </a:r>
            <a:r>
              <a:rPr b="1" lang="en-US" sz="20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A303-BE12-407C-90B2-8DE12969BCE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Törtek: 10-es és 2-es alap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incs általános összefüggés az 1/10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és 1/2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típusú törtek közö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nek következtében néhány 10-es alapban ábrázolható szám nem ábrázolható 2-es alap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 minden 1/2</a:t>
            </a:r>
            <a:r>
              <a:rPr b="0" lang="hu-HU" sz="2400" spc="-1" strike="noStrike" baseline="30000">
                <a:solidFill>
                  <a:srgbClr val="000000"/>
                </a:solidFill>
                <a:latin typeface="Arial"/>
              </a:rPr>
              <a:t>k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rmájú törtet tudunk ábrázolni 10-es alap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ört átalakítása két alap között akkor ér vé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van racionális megoldás va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 kívánt pontosságot elértü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C4F-3DCC-41E1-AAAE-ABA12ADBC3D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Kevert számalakítás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ész és tört részeket külön kell konvertál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lappont (tizedes pont): rögzített viszonyítás az átalakításh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al oldalon lévő számjegy egységnyi minden alapb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u-H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mindig 1, alaptól független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648-7DE2-4518-8B68-3AD1C52522F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Számok, ill. azok értékének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fizikai reprezentációja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448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önböző számjegyek, ugyanaz az érté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ovás írás: II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Római: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rab: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önböző alapok, ugyanazok az érték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248440" y="2438280"/>
          <a:ext cx="3438360" cy="22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8440" y="2438280"/>
                    <a:ext cx="343836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5B93-58AE-4551-9772-6A1F41A6F8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80"/>
                </a:solidFill>
                <a:latin typeface="Arial"/>
              </a:rPr>
              <a:t>Számrendszerek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ómai: pozíció vagy helyiérték 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független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helyiérték nélkü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odern: helyiértékes jelölésen alapszi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ecimális számrendszer: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helyiérték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számábrázolás, 10 hatványain alaps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Bináris rendszer: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helyiérték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számábrázolás, 2 hatványain alaps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Oktális rendszer: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helyiérték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számábrázolás, 8 hatványain alaps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9f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exadecimális rendszer: </a:t>
            </a:r>
            <a:r>
              <a:rPr b="1" lang="hu-HU" sz="2400" spc="-1" strike="noStrike">
                <a:solidFill>
                  <a:srgbClr val="000080"/>
                </a:solidFill>
                <a:latin typeface="Arial"/>
              </a:rPr>
              <a:t>helyiértéke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számábrázolás,16 hatványain alaps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406-1737-4AE2-8A4E-590356BB64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Helyiértékes számábrázolás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: 10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-es alap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259000" y="3352680"/>
          <a:ext cx="5045040" cy="2013120"/>
        </p:xfrm>
        <a:graphic>
          <a:graphicData uri="http://schemas.openxmlformats.org/drawingml/2006/table">
            <a:tbl>
              <a:tblPr/>
              <a:tblGrid>
                <a:gridCol w="1474920"/>
                <a:gridCol w="1663560"/>
                <a:gridCol w="19065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 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í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x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6171840" y="2209680"/>
            <a:ext cx="1676880" cy="1281240"/>
            <a:chOff x="6171840" y="2209680"/>
            <a:chExt cx="1676880" cy="1281240"/>
          </a:xfrm>
        </p:grpSpPr>
        <p:sp>
          <p:nvSpPr>
            <p:cNvPr id="110" name=""/>
            <p:cNvSpPr/>
            <p:nvPr/>
          </p:nvSpPr>
          <p:spPr>
            <a:xfrm flipH="1">
              <a:off x="6171480" y="2514600"/>
              <a:ext cx="1219320" cy="97632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22096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f11"/>
                  </a:solidFill>
                  <a:latin typeface="Arial"/>
                </a:rPr>
                <a:t>1</a:t>
              </a:r>
              <a:r>
                <a:rPr b="1" lang="hu-HU" sz="1800" spc="-1" strike="noStrike">
                  <a:solidFill>
                    <a:srgbClr val="ff9f11"/>
                  </a:solidFill>
                  <a:latin typeface="Arial"/>
                </a:rPr>
                <a:t>-e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819520" y="2209680"/>
            <a:ext cx="1752480" cy="1281240"/>
            <a:chOff x="2819520" y="2209680"/>
            <a:chExt cx="1752480" cy="1281240"/>
          </a:xfrm>
        </p:grpSpPr>
        <p:sp>
          <p:nvSpPr>
            <p:cNvPr id="113" name=""/>
            <p:cNvSpPr/>
            <p:nvPr/>
          </p:nvSpPr>
          <p:spPr>
            <a:xfrm>
              <a:off x="3276720" y="2514600"/>
              <a:ext cx="1295280" cy="9763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9520" y="22096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f11"/>
                  </a:solidFill>
                  <a:latin typeface="Arial"/>
                </a:rPr>
                <a:t>10</a:t>
              </a:r>
              <a:r>
                <a:rPr b="1" lang="hu-HU" sz="1800" spc="-1" strike="noStrike">
                  <a:solidFill>
                    <a:srgbClr val="ff9f11"/>
                  </a:solidFill>
                  <a:latin typeface="Arial"/>
                </a:rPr>
                <a:t>-e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066680" y="16002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43 = 4 x 10</a:t>
            </a:r>
            <a:r>
              <a:rPr b="1" lang="en-US" sz="2400" spc="-1" strike="noStrike" baseline="30000">
                <a:solidFill>
                  <a:srgbClr val="ff9f11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 + 3 x 10</a:t>
            </a:r>
            <a:r>
              <a:rPr b="1" lang="en-US" sz="2400" spc="-1" strike="noStrike" baseline="30000">
                <a:solidFill>
                  <a:srgbClr val="ff9f1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376-5598-43D6-A288-366988C865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Helyiértékes számábrázolás 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: 10</a:t>
            </a: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-es alap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12840" y="3276720"/>
          <a:ext cx="6711840" cy="2012760"/>
        </p:xfrm>
        <a:graphic>
          <a:graphicData uri="http://schemas.openxmlformats.org/drawingml/2006/table">
            <a:tbl>
              <a:tblPr/>
              <a:tblGrid>
                <a:gridCol w="1530360"/>
                <a:gridCol w="1676520"/>
                <a:gridCol w="1828800"/>
                <a:gridCol w="167616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yi 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ámí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x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x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Össz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8" name=""/>
          <p:cNvGrpSpPr/>
          <p:nvPr/>
        </p:nvGrpSpPr>
        <p:grpSpPr>
          <a:xfrm>
            <a:off x="6857640" y="2133720"/>
            <a:ext cx="1676880" cy="1280520"/>
            <a:chOff x="6857640" y="2133720"/>
            <a:chExt cx="1676880" cy="1280520"/>
          </a:xfrm>
        </p:grpSpPr>
        <p:sp>
          <p:nvSpPr>
            <p:cNvPr id="119" name=""/>
            <p:cNvSpPr/>
            <p:nvPr/>
          </p:nvSpPr>
          <p:spPr>
            <a:xfrm flipH="1">
              <a:off x="6857280" y="2438280"/>
              <a:ext cx="1219320" cy="97596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75960"/>
                <a:gd name="textAreaBottom" fmla="*/ 976320 h 9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38880" y="21337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f11"/>
                  </a:solidFill>
                  <a:latin typeface="Arial"/>
                </a:rPr>
                <a:t>1</a:t>
              </a:r>
              <a:r>
                <a:rPr b="1" lang="hu-HU" sz="1800" spc="-1" strike="noStrike">
                  <a:solidFill>
                    <a:srgbClr val="ff9f11"/>
                  </a:solidFill>
                  <a:latin typeface="Arial"/>
                </a:rPr>
                <a:t>-e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581280" y="2209680"/>
            <a:ext cx="1752480" cy="1281240"/>
            <a:chOff x="3581280" y="2209680"/>
            <a:chExt cx="1752480" cy="1281240"/>
          </a:xfrm>
        </p:grpSpPr>
        <p:sp>
          <p:nvSpPr>
            <p:cNvPr id="122" name=""/>
            <p:cNvSpPr/>
            <p:nvPr/>
          </p:nvSpPr>
          <p:spPr>
            <a:xfrm>
              <a:off x="4038480" y="2514600"/>
              <a:ext cx="1295280" cy="9763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220968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f11"/>
                  </a:solidFill>
                  <a:latin typeface="Arial"/>
                </a:rPr>
                <a:t>10</a:t>
              </a:r>
              <a:r>
                <a:rPr b="1" lang="hu-HU" sz="1800" spc="-1" strike="noStrike">
                  <a:solidFill>
                    <a:srgbClr val="ff9f11"/>
                  </a:solidFill>
                  <a:latin typeface="Arial"/>
                </a:rPr>
                <a:t>-e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114300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527 = 5 x 10</a:t>
            </a:r>
            <a:r>
              <a:rPr b="1" lang="en-US" sz="2400" spc="-1" strike="noStrike" baseline="30000">
                <a:solidFill>
                  <a:srgbClr val="ff9f11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 + 2 x 10</a:t>
            </a:r>
            <a:r>
              <a:rPr b="1" lang="en-US" sz="2400" spc="-1" strike="noStrike" baseline="30000">
                <a:solidFill>
                  <a:srgbClr val="ff9f11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ff9f11"/>
                </a:solidFill>
                <a:latin typeface="Arial"/>
              </a:rPr>
              <a:t>+ 7 x 10</a:t>
            </a:r>
            <a:r>
              <a:rPr b="1" lang="en-US" sz="2400" spc="-1" strike="noStrike" baseline="30000">
                <a:solidFill>
                  <a:srgbClr val="ff9f11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371600" y="2209680"/>
            <a:ext cx="1981080" cy="1281240"/>
            <a:chOff x="1371600" y="2209680"/>
            <a:chExt cx="1981080" cy="1281240"/>
          </a:xfrm>
        </p:grpSpPr>
        <p:sp>
          <p:nvSpPr>
            <p:cNvPr id="126" name=""/>
            <p:cNvSpPr/>
            <p:nvPr/>
          </p:nvSpPr>
          <p:spPr>
            <a:xfrm>
              <a:off x="2057400" y="2514600"/>
              <a:ext cx="1295280" cy="9763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71600" y="22096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f11"/>
                  </a:solidFill>
                  <a:latin typeface="Arial"/>
                </a:rPr>
                <a:t>100</a:t>
              </a:r>
              <a:r>
                <a:rPr b="1" lang="hu-HU" sz="1800" spc="-1" strike="noStrike">
                  <a:solidFill>
                    <a:srgbClr val="ff9f11"/>
                  </a:solidFill>
                  <a:latin typeface="Arial"/>
                </a:rPr>
                <a:t>-a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5C5-EA11-4918-BD1A-6F8C24DD08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80"/>
                </a:solidFill>
                <a:latin typeface="Arial"/>
              </a:rPr>
              <a:t>Helyiértékes számábrázolás</a:t>
            </a:r>
            <a:r>
              <a:rPr b="1" lang="en-US" sz="4000" spc="-1" strike="noStrike">
                <a:solidFill>
                  <a:srgbClr val="000080"/>
                </a:solidFill>
                <a:latin typeface="Arial"/>
              </a:rPr>
              <a:t>: Oktális</a:t>
            </a:r>
            <a:endParaRPr b="1" lang="en-US" sz="4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624</a:t>
            </a:r>
            <a:r>
              <a:rPr b="1" lang="en-US" sz="3200" spc="-1" strike="noStrike" baseline="-25000">
                <a:solidFill>
                  <a:srgbClr val="000080"/>
                </a:solidFill>
                <a:latin typeface="Arial"/>
              </a:rPr>
              <a:t>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9f11"/>
                </a:solidFill>
                <a:latin typeface="Arial"/>
              </a:rPr>
              <a:t>404</a:t>
            </a:r>
            <a:r>
              <a:rPr b="1" lang="en-US" sz="3200" spc="-1" strike="noStrike" baseline="-25000">
                <a:solidFill>
                  <a:srgbClr val="ff9f11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ff9f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09680" y="3352680"/>
          <a:ext cx="4921200" cy="2149560"/>
        </p:xfrm>
        <a:graphic>
          <a:graphicData uri="http://schemas.openxmlformats.org/drawingml/2006/table">
            <a:tbl>
              <a:tblPr/>
              <a:tblGrid>
                <a:gridCol w="1371600"/>
                <a:gridCol w="1089000"/>
                <a:gridCol w="1230480"/>
                <a:gridCol w="123012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Helyi 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1800" spc="-1" strike="noStrike" baseline="30000">
                          <a:solidFill>
                            <a:srgbClr val="00008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Érté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Számítá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 x 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 x 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 x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Decimális össz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3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f11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80"/>
                      </a:solidFill>
                    </a:lnL>
                    <a:lnR w="9360">
                      <a:solidFill>
                        <a:srgbClr val="000080"/>
                      </a:solidFill>
                    </a:lnR>
                    <a:lnT w="9360">
                      <a:solidFill>
                        <a:srgbClr val="000080"/>
                      </a:solidFill>
                    </a:lnT>
                    <a:lnB w="93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1" name=""/>
          <p:cNvGrpSpPr/>
          <p:nvPr/>
        </p:nvGrpSpPr>
        <p:grpSpPr>
          <a:xfrm>
            <a:off x="2209680" y="2286000"/>
            <a:ext cx="1981080" cy="1281240"/>
            <a:chOff x="2209680" y="2286000"/>
            <a:chExt cx="1981080" cy="1281240"/>
          </a:xfrm>
        </p:grpSpPr>
        <p:sp>
          <p:nvSpPr>
            <p:cNvPr id="132" name=""/>
            <p:cNvSpPr/>
            <p:nvPr/>
          </p:nvSpPr>
          <p:spPr>
            <a:xfrm>
              <a:off x="2895480" y="2590920"/>
              <a:ext cx="1295280" cy="9763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9680" y="2286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64</a:t>
              </a:r>
              <a:r>
                <a:rPr b="1" lang="hu-HU" sz="1800" spc="-1" strike="noStrike">
                  <a:solidFill>
                    <a:srgbClr val="000080"/>
                  </a:solidFill>
                  <a:latin typeface="Arial"/>
                </a:rPr>
                <a:t>-e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581280" y="2286000"/>
            <a:ext cx="1981080" cy="1281240"/>
            <a:chOff x="3581280" y="2286000"/>
            <a:chExt cx="1981080" cy="1281240"/>
          </a:xfrm>
        </p:grpSpPr>
        <p:sp>
          <p:nvSpPr>
            <p:cNvPr id="135" name=""/>
            <p:cNvSpPr/>
            <p:nvPr/>
          </p:nvSpPr>
          <p:spPr>
            <a:xfrm>
              <a:off x="4267080" y="2590920"/>
              <a:ext cx="1295280" cy="9763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81280" y="2286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8</a:t>
              </a:r>
              <a:r>
                <a:rPr b="1" lang="hu-HU" sz="1800" spc="-1" strike="noStrike">
                  <a:solidFill>
                    <a:srgbClr val="000080"/>
                  </a:solidFill>
                  <a:latin typeface="Arial"/>
                </a:rPr>
                <a:t>-as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00440" y="2286000"/>
            <a:ext cx="1676880" cy="1281240"/>
            <a:chOff x="6400440" y="2286000"/>
            <a:chExt cx="1676880" cy="1281240"/>
          </a:xfrm>
        </p:grpSpPr>
        <p:sp>
          <p:nvSpPr>
            <p:cNvPr id="138" name=""/>
            <p:cNvSpPr/>
            <p:nvPr/>
          </p:nvSpPr>
          <p:spPr>
            <a:xfrm flipH="1">
              <a:off x="6400080" y="2590920"/>
              <a:ext cx="1219320" cy="976320"/>
            </a:xfrm>
            <a:custGeom>
              <a:avLst/>
              <a:gdLst>
                <a:gd name="textAreaLeft" fmla="*/ -360 w 1219320"/>
                <a:gd name="textAreaRight" fmla="*/ 1219320 w 121932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8912346"/>
                  <a:lnTo>
                    <a:pt x="1588" y="5163"/>
                  </a:lnTo>
                  <a:arcTo wR="10800" hR="10800" stAng="-8912346" swAng="8912346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81680" y="228600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80"/>
                  </a:solidFill>
                  <a:latin typeface="Arial"/>
                </a:rPr>
                <a:t>1</a:t>
              </a:r>
              <a:r>
                <a:rPr b="1" lang="hu-HU" sz="1800" spc="-1" strike="noStrike">
                  <a:solidFill>
                    <a:srgbClr val="000080"/>
                  </a:solidFill>
                  <a:latin typeface="Arial"/>
                </a:rPr>
                <a:t>-ese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B41-025E-491F-8FCE-3E8F9A30B8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17:44:38Z</dcterms:created>
  <dc:creator>Linda Senne</dc:creator>
  <dc:description/>
  <dc:language>en-US</dc:language>
  <cp:lastModifiedBy>Horváth Zsolt</cp:lastModifiedBy>
  <dcterms:modified xsi:type="dcterms:W3CDTF">2009-03-13T09:18:08Z</dcterms:modified>
  <cp:revision>189</cp:revision>
  <dc:subject/>
  <dc:title>CHAPTER 1: Computer Systems</dc:title>
</cp:coreProperties>
</file>