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BF7D-0DCA-4B8A-A88E-9A54B15D3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B76-D21D-4F49-B26A-2D53C04DB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DD8-4A09-482B-A709-33CAE615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329-802F-4A57-A6DB-BCC614AB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82B7-6C39-4626-A6D8-978D72BB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4CAF-1CB8-44EA-AD32-7C4AFE1B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1186-AECA-4527-AC1A-FF16569F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628E-B959-4ECE-9623-9BE3DA81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6DFC-C379-47EA-8EE0-0E01F507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5C25-1096-434F-B802-573338C6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99F5-2138-47E9-A3CF-CBE8C489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333-FFED-47C7-A415-D04ADA45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15A5-5170-4F8F-B882-BD9A021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6637-FFC2-4855-9B75-6C86AD1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A680-22CF-4888-BB8B-A08A8755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93CC-737A-45D2-B3E0-904123C4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D964-5B73-4BEF-A987-F06A9C2D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8C6-9945-4D49-8AAB-805C19CD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31C-9C83-48B6-BD45-C7A7C165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1A1-52CD-4B74-A5AB-74EF0A05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9B0-F682-43FB-8F0E-F2827479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3BE-22A3-4AA5-9A0B-E1E181E9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2395-D029-4D63-9C48-12B8854E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370B-3C50-4B83-83F0-BEDC1B88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48160"/>
            <a:ext cx="32004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8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Fejezet:</a:t>
            </a:r>
            <a:r>
              <a:rPr b="0" lang="hu-HU" sz="1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Az integer </a:t>
            </a:r>
            <a:r>
              <a:rPr b="0" lang="hu-HU" sz="1400" spc="-1" strike="noStrike">
                <a:solidFill>
                  <a:srgbClr val="000080"/>
                </a:solidFill>
                <a:latin typeface="Times New Roman"/>
              </a:rPr>
              <a:t>ábrázolá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4-</a:t>
            </a:r>
            <a:fld id="{E4564300-75F7-44B2-8459-D857526CD77D}" type="slidenum"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762120" y="22860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304560" y="137160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874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E3D15-70E6-4720-8873-EC6616D95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15228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8240" y="213372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87440" cy="70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4</a:t>
            </a:r>
            <a:r>
              <a:rPr b="0" lang="hu-HU" sz="4000" spc="-1" strike="noStrike">
                <a:solidFill>
                  <a:srgbClr val="000080"/>
                </a:solidFill>
                <a:latin typeface="Arial"/>
              </a:rPr>
              <a:t>. Fejezet</a:t>
            </a: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 :</a:t>
            </a:r>
            <a:br>
              <a:rPr sz="4000"/>
            </a:br>
            <a:r>
              <a:rPr b="0" lang="hu-HU" sz="4000" spc="-1" strike="noStrike">
                <a:solidFill>
                  <a:srgbClr val="000080"/>
                </a:solidFill>
                <a:latin typeface="Arial"/>
              </a:rPr>
              <a:t>Az egész számok (integer) ábrázolása</a:t>
            </a:r>
            <a:endParaRPr b="0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80"/>
                </a:solidFill>
                <a:latin typeface="Arial"/>
              </a:rPr>
              <a:t>The Architecture of Computer Hardware and Systems Software: </a:t>
            </a:r>
            <a:br>
              <a:rPr sz="2800"/>
            </a:b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An Information Technology Approach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f11"/>
                </a:solidFill>
                <a:latin typeface="Arial"/>
              </a:rPr>
              <a:t>3. kiadás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, Irv Englander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John Wiley and Sons </a:t>
            </a:r>
            <a:r>
              <a:rPr b="1" lang="en-US" sz="2400" spc="-1" strike="noStrike">
                <a:solidFill>
                  <a:srgbClr val="ff9f11"/>
                </a:solidFill>
                <a:latin typeface="Symbol"/>
                <a:ea typeface="Symbol"/>
              </a:rPr>
              <a:t>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2003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ilson Wong, Bentley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nda Senne,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Bentley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Bonyolult számítási algoritmusok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92468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jel-és-érték algoritmusok összetettek és bonyolultak ahhoz, hogy hardver hajtsa vé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izsgálni kell a 0 mindkét értéké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CD kódolás esetén használhat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lőjeles szám és a carry/átvitel sorrendje hibát ok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:  Decimális összeadó algorit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3862440"/>
          <a:ext cx="7772400" cy="2355840"/>
        </p:xfrm>
        <a:graphic>
          <a:graphicData uri="http://schemas.openxmlformats.org/drawingml/2006/table">
            <a:tbl>
              <a:tblPr/>
              <a:tblGrid>
                <a:gridCol w="3757680"/>
                <a:gridCol w="1366920"/>
                <a:gridCol w="1366560"/>
                <a:gridCol w="1281240"/>
              </a:tblGrid>
              <a:tr h="98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Összeadás: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</a:t>
                      </a: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zitív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Összeadás: 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</a:t>
                      </a:r>
                      <a:r>
                        <a:rPr b="0" lang="hu-H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őjeles szá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r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2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r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 2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r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 4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r" pos="574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- 4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7B5-823B-40FF-B248-D07AE4E999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Komplemens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ábrázo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szám előjelét nem kell elkülönítve keze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egyezik minden különböző előjelű bemeneti számkombináció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móds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szá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 (abszolút) ért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ökkentett a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 értéke mínus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es komplemens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2-es a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sökkentett alap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F06-B8E9-4B2D-AD4F-A237F50404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Modulus aritmetika (számolás)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űveletek eredménye megadja a (számolás alapjaként használt értékkel) modulus történő osztás maradéká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4 mod 4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5 mod 4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000 mod 999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modulusos aritmetika legfontosabb jellemző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molást nullától újrakezdjük, ha a számolás során túllépnénk a 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modulu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E8EE-81E3-45B8-8868-41B1CCF5B4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Számábrázolás választásának indokai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egyen konzisztens (hasonló logikájú) a megszokott aritmetik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(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 értéknek kétszer kiszámoljuk a  komplemensét, akkor az eredeti értéket kapjuk viss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s =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komplemens értékre még egyszer alkalmazzuk a komplemens számolá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 – komplemens = al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é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érték (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08C-8A6A-45BF-83BF-83D212BD9D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úlcsordu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ögzített szó (word) méretnek rögzített a terjede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úlcsordulás: számok azon kombinációja, amelyek összege a határon kívül es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úlcsordulás átvitellel, ezt a problémát kerüli 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omplemenses aritmetika: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határon kívüli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ámoknak ellentétes előjelük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szt: Ha összeadásnál mindkét bemeneti szám azonos előjelű és az eredmény előjele más, akkor túlcsordulás lépett f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9B7-55F6-4D46-A81C-B49DE04464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-es bináris komplemen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Komplemens számít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: az érték kivonása az alap eredeti értékébő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ináris (2-es alap) csökkentett alapú komplemen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lap mínusz 1 = 2 – 1         1 mint az al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Invertálás: egyesek és nullák felcserélése (1-&gt;0, 0-&gt;1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0-val kezdődő számok pozití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1-el kezdődő számok negatív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ét értéke van a nullának (-0, +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élda 8 bit-es bináris számokk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4038480"/>
          <a:ext cx="8001000" cy="1825920"/>
        </p:xfrm>
        <a:graphic>
          <a:graphicData uri="http://schemas.openxmlformats.org/drawingml/2006/table">
            <a:tbl>
              <a:tblPr/>
              <a:tblGrid>
                <a:gridCol w="2914560"/>
                <a:gridCol w="1219320"/>
                <a:gridCol w="1200240"/>
                <a:gridCol w="1390680"/>
                <a:gridCol w="127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jelenítési mó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eme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önm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ális szám terjedel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127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0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0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7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o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á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brázolási pél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r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r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733920" y="21337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5A07-8188-4A92-923A-8D0673026E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1-es bináris komplemen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Példa:</a:t>
            </a: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 0</a:t>
            </a:r>
            <a:r>
              <a:rPr b="0" lang="hu-HU" sz="3200" spc="-1" strike="noStrike">
                <a:solidFill>
                  <a:srgbClr val="03c10c"/>
                </a:solidFill>
                <a:latin typeface="Arial"/>
              </a:rPr>
              <a:t>101 1111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1kB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3200" spc="-1" strike="noStrike">
                <a:solidFill>
                  <a:srgbClr val="03c10c"/>
                </a:solidFill>
                <a:latin typeface="Arial"/>
              </a:rPr>
              <a:t>95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Példa:</a:t>
            </a:r>
            <a:r>
              <a:rPr b="0" lang="hu-HU" sz="32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0" lang="hu-HU" sz="3200" spc="-1" strike="noStrike">
                <a:solidFill>
                  <a:srgbClr val="0000ff"/>
                </a:solidFill>
                <a:latin typeface="Arial"/>
              </a:rPr>
              <a:t>010 0000</a:t>
            </a:r>
            <a:r>
              <a:rPr b="0" lang="hu-HU" sz="3200" spc="-1" strike="noStrike" baseline="-25000">
                <a:solidFill>
                  <a:srgbClr val="000000"/>
                </a:solidFill>
                <a:latin typeface="Arial"/>
              </a:rPr>
              <a:t>1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negatí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egáltja amely egyben az abszolút értéke is(!!!): 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0101 1111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|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95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hát az eredmény: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95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E93-024A-4CA2-9E8F-10B0AE2FED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flipH="1">
            <a:off x="3276360" y="2514600"/>
            <a:ext cx="1981080" cy="274320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Összeadá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junk össze 2 db 8 bit-es pozitív szám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djunk össze 2db 8 bit-es különböző előjelű szám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együk az 58 egyes komplemens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vertálju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0011 1010</a:t>
            </a:r>
            <a:br>
              <a:rPr sz="2400"/>
            </a:b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1100 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181480" y="3200400"/>
          <a:ext cx="3276720" cy="1552680"/>
        </p:xfrm>
        <a:graphic>
          <a:graphicData uri="http://schemas.openxmlformats.org/drawingml/2006/table">
            <a:tbl>
              <a:tblPr/>
              <a:tblGrid>
                <a:gridCol w="1870200"/>
                <a:gridCol w="56844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 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0 0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0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181480" y="1523880"/>
          <a:ext cx="3505320" cy="1597320"/>
        </p:xfrm>
        <a:graphic>
          <a:graphicData uri="http://schemas.openxmlformats.org/drawingml/2006/table">
            <a:tbl>
              <a:tblPr/>
              <a:tblGrid>
                <a:gridCol w="2000520"/>
                <a:gridCol w="608040"/>
                <a:gridCol w="89676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 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1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0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257800" y="4876920"/>
          <a:ext cx="3276720" cy="912600"/>
        </p:xfrm>
        <a:graphic>
          <a:graphicData uri="http://schemas.openxmlformats.org/drawingml/2006/table">
            <a:tbl>
              <a:tblPr/>
              <a:tblGrid>
                <a:gridCol w="1905120"/>
                <a:gridCol w="533160"/>
                <a:gridCol w="838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0000 1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24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en-US" sz="24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3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 flipV="1">
            <a:off x="3276720" y="4038480"/>
            <a:ext cx="1981080" cy="1524240"/>
          </a:xfrm>
          <a:prstGeom prst="line">
            <a:avLst/>
          </a:prstGeom>
          <a:ln w="633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86200" y="4495680"/>
            <a:ext cx="1676160" cy="1409040"/>
            <a:chOff x="3886200" y="4495680"/>
            <a:chExt cx="1676160" cy="1409040"/>
          </a:xfrm>
        </p:grpSpPr>
        <p:sp>
          <p:nvSpPr>
            <p:cNvPr id="134" name=""/>
            <p:cNvSpPr/>
            <p:nvPr/>
          </p:nvSpPr>
          <p:spPr>
            <a:xfrm>
              <a:off x="4503600" y="4495680"/>
              <a:ext cx="617760" cy="714960"/>
            </a:xfrm>
            <a:custGeom>
              <a:avLst/>
              <a:gdLst>
                <a:gd name="textAreaLeft" fmla="*/ 82800 w 617760"/>
                <a:gd name="textAreaRight" fmla="*/ 534960 w 617760"/>
                <a:gd name="textAreaTop" fmla="*/ 130680 h 714960"/>
                <a:gd name="textAreaBottom" fmla="*/ 489240 h 71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912" stAng="-5400000" swAng="-5400000"/>
                  <a:lnTo>
                    <a:pt x="0" y="10824"/>
                  </a:lnTo>
                  <a:arcTo wR="21600" hR="7912" stAng="10800000" swAng="-3501089"/>
                  <a:lnTo>
                    <a:pt x="16843" y="21406"/>
                  </a:lnTo>
                  <a:lnTo>
                    <a:pt x="21600" y="17280"/>
                  </a:lnTo>
                  <a:lnTo>
                    <a:pt x="16843" y="12766"/>
                  </a:lnTo>
                  <a:lnTo>
                    <a:pt x="16843" y="15630"/>
                  </a:lnTo>
                  <a:arcTo wR="21600" hR="7912" stAng="7298911" swAng="3265702"/>
                  <a:lnTo>
                    <a:pt x="369" y="9368"/>
                  </a:lnTo>
                  <a:arcTo wR="21600" hR="7912" stAng="-10564613" swAng="5164613"/>
                  <a:close/>
                </a:path>
                <a:path fill="darkenLess" w="21600" h="21600">
                  <a:moveTo>
                    <a:pt x="21600" y="0"/>
                  </a:moveTo>
                  <a:arcTo wR="21600" hR="7912" stAng="-5400000" swAng="-5400000"/>
                  <a:lnTo>
                    <a:pt x="0" y="7912"/>
                  </a:lnTo>
                  <a:arcTo wR="21600" hR="7912" stAng="10800000" swAng="-235387"/>
                  <a:lnTo>
                    <a:pt x="369" y="9368"/>
                  </a:lnTo>
                  <a:arcTo wR="21600" hR="7912" stAng="-10564613" swAng="5164613"/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6200" y="5080680"/>
              <a:ext cx="1676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600" spc="-1" strike="noStrike">
                  <a:solidFill>
                    <a:srgbClr val="000000"/>
                  </a:solidFill>
                  <a:latin typeface="Arial"/>
                </a:rPr>
                <a:t>Invertáljuk, hogy megkapjuk az érték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flipV="1">
            <a:off x="8001000" y="4723920"/>
            <a:ext cx="152280" cy="685800"/>
          </a:xfrm>
          <a:prstGeom prst="line">
            <a:avLst/>
          </a:prstGeom>
          <a:ln w="507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25909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037A-5B16-4B15-B3EF-F1C36C5F0C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Összeadás átvitellel (c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arry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-vel)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523880" y="1600200"/>
          <a:ext cx="3276720" cy="1552680"/>
        </p:xfrm>
        <a:graphic>
          <a:graphicData uri="http://schemas.openxmlformats.org/drawingml/2006/table">
            <a:tbl>
              <a:tblPr/>
              <a:tblGrid>
                <a:gridCol w="1870200"/>
                <a:gridCol w="56844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 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0</a:t>
                      </a:r>
                      <a:r>
                        <a:rPr b="0" lang="hu-H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00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410080" y="1600200"/>
          <a:ext cx="3276720" cy="1035000"/>
        </p:xfrm>
        <a:graphic>
          <a:graphicData uri="http://schemas.openxmlformats.org/drawingml/2006/table">
            <a:tbl>
              <a:tblPr/>
              <a:tblGrid>
                <a:gridCol w="1870200"/>
                <a:gridCol w="56808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000</a:t>
                      </a:r>
                      <a:r>
                        <a:rPr b="0" lang="en-US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 </a:t>
                      </a: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1</a:t>
                      </a:r>
                      <a:r>
                        <a:rPr b="0" lang="en-US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9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30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 flipV="1">
            <a:off x="4724280" y="1828800"/>
            <a:ext cx="685800" cy="457200"/>
          </a:xfrm>
          <a:prstGeom prst="line">
            <a:avLst/>
          </a:prstGeom>
          <a:ln w="507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666880"/>
            <a:ext cx="533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ff"/>
                </a:solidFill>
                <a:latin typeface="Arial"/>
              </a:rPr>
              <a:t>1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371600" y="3200400"/>
            <a:ext cx="1523520" cy="228600"/>
            <a:chOff x="1371600" y="3200400"/>
            <a:chExt cx="1523520" cy="228600"/>
          </a:xfrm>
        </p:grpSpPr>
        <p:sp>
          <p:nvSpPr>
            <p:cNvPr id="144" name=""/>
            <p:cNvSpPr/>
            <p:nvPr/>
          </p:nvSpPr>
          <p:spPr>
            <a:xfrm>
              <a:off x="1371600" y="3200400"/>
              <a:ext cx="0" cy="2286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71600" y="3429000"/>
              <a:ext cx="152352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819520" y="320040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29000" y="3124080"/>
          <a:ext cx="1406520" cy="517680"/>
        </p:xfrm>
        <a:graphic>
          <a:graphicData uri="http://schemas.openxmlformats.org/drawingml/2006/table">
            <a:tbl>
              <a:tblPr/>
              <a:tblGrid>
                <a:gridCol w="568440"/>
                <a:gridCol w="838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05320" y="3124080"/>
          <a:ext cx="1406520" cy="1035000"/>
        </p:xfrm>
        <a:graphic>
          <a:graphicData uri="http://schemas.openxmlformats.org/drawingml/2006/table">
            <a:tbl>
              <a:tblPr/>
              <a:tblGrid>
                <a:gridCol w="568080"/>
                <a:gridCol w="83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hu-HU" sz="2800" spc="-1" strike="noStrike">
                          <a:solidFill>
                            <a:srgbClr val="03c10c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5B16-44A3-4197-9845-E2C7343B74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Összeadás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átvitellel (c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arry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-vel)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bit-es szá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gatív érték hozzáadá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vertálás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0000 0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2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9f11"/>
                </a:solidFill>
                <a:latin typeface="Arial"/>
              </a:rPr>
              <a:t>1111 1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9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úlcsordulás átvitell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105520" y="2514600"/>
          <a:ext cx="3573360" cy="2603520"/>
        </p:xfrm>
        <a:graphic>
          <a:graphicData uri="http://schemas.openxmlformats.org/drawingml/2006/table">
            <a:tbl>
              <a:tblPr/>
              <a:tblGrid>
                <a:gridCol w="2068560"/>
                <a:gridCol w="607680"/>
                <a:gridCol w="897120"/>
              </a:tblGrid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11 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0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 flipV="1">
            <a:off x="3276720" y="3352680"/>
            <a:ext cx="1981080" cy="609840"/>
          </a:xfrm>
          <a:prstGeom prst="line">
            <a:avLst/>
          </a:prstGeom>
          <a:ln w="633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181480" y="3657600"/>
            <a:ext cx="1447920" cy="762120"/>
            <a:chOff x="5181480" y="3657600"/>
            <a:chExt cx="1447920" cy="762120"/>
          </a:xfrm>
        </p:grpSpPr>
        <p:sp>
          <p:nvSpPr>
            <p:cNvPr id="154" name=""/>
            <p:cNvSpPr/>
            <p:nvPr/>
          </p:nvSpPr>
          <p:spPr>
            <a:xfrm>
              <a:off x="5181480" y="3657600"/>
              <a:ext cx="228600" cy="457200"/>
            </a:xfrm>
            <a:prstGeom prst="ellipse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5334120" y="4191120"/>
              <a:ext cx="1295280" cy="228600"/>
              <a:chOff x="5334120" y="4191120"/>
              <a:chExt cx="1295280" cy="228600"/>
            </a:xfrm>
          </p:grpSpPr>
          <p:sp>
            <p:nvSpPr>
              <p:cNvPr id="156" name=""/>
              <p:cNvSpPr/>
              <p:nvPr/>
            </p:nvSpPr>
            <p:spPr>
              <a:xfrm>
                <a:off x="5334120" y="4191120"/>
                <a:ext cx="0" cy="22860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34120" y="4419720"/>
                <a:ext cx="129528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320040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96080" y="2514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96080" y="45720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8EC-6369-4764-BC00-8D3D96ACAC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ábrázo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észszámok ábrázolásához a következő információt kell tárolnun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észszám abszolút értéke (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j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lusz vagy mínus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3618-274A-4922-949D-60C2727407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ivoná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átvitellel (c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arry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-vel)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bit-es számábráz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 kivonása = szám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1 szeresének hozzáadás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ff00ff"/>
                </a:solidFill>
                <a:latin typeface="Arial"/>
              </a:rPr>
              <a:t>negatív alak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vertálás</a:t>
            </a:r>
            <a:br>
              <a:rPr sz="2000"/>
            </a:b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0101 10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90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9f11"/>
                </a:solidFill>
                <a:latin typeface="Arial"/>
              </a:rPr>
              <a:t>1010 0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9 b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úlcsordulás átvitell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876920" y="1523880"/>
          <a:ext cx="3809880" cy="4519800"/>
        </p:xfrm>
        <a:graphic>
          <a:graphicData uri="http://schemas.openxmlformats.org/drawingml/2006/table">
            <a:tbl>
              <a:tblPr/>
              <a:tblGrid>
                <a:gridCol w="2205000"/>
                <a:gridCol w="309600"/>
                <a:gridCol w="12952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</a:t>
                      </a: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0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10 0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0 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1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3124080" y="3886200"/>
            <a:ext cx="1752840" cy="0"/>
          </a:xfrm>
          <a:prstGeom prst="line">
            <a:avLst/>
          </a:prstGeom>
          <a:ln w="633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05520" y="4419720"/>
            <a:ext cx="1447200" cy="761400"/>
            <a:chOff x="5105520" y="4419720"/>
            <a:chExt cx="1447200" cy="761400"/>
          </a:xfrm>
        </p:grpSpPr>
        <p:sp>
          <p:nvSpPr>
            <p:cNvPr id="166" name=""/>
            <p:cNvSpPr/>
            <p:nvPr/>
          </p:nvSpPr>
          <p:spPr>
            <a:xfrm>
              <a:off x="5105520" y="4419720"/>
              <a:ext cx="228240" cy="456840"/>
            </a:xfrm>
            <a:prstGeom prst="ellipse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257800" y="4952880"/>
              <a:ext cx="1294920" cy="228240"/>
              <a:chOff x="5257800" y="4952880"/>
              <a:chExt cx="1294920" cy="228240"/>
            </a:xfrm>
          </p:grpSpPr>
          <p:sp>
            <p:nvSpPr>
              <p:cNvPr id="168" name=""/>
              <p:cNvSpPr/>
              <p:nvPr/>
            </p:nvSpPr>
            <p:spPr>
              <a:xfrm>
                <a:off x="5257800" y="4952880"/>
                <a:ext cx="0" cy="22824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257800" y="5181120"/>
                <a:ext cx="1294920" cy="0"/>
              </a:xfrm>
              <a:prstGeom prst="line">
                <a:avLst/>
              </a:prstGeom>
              <a:ln w="4140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31240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733560" y="2514600"/>
            <a:ext cx="1523880" cy="114300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388620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960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960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EF0-977E-43FF-BFCC-440EBC3ABF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ivoná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bit-es számábráz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 kivonása = 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 -1 szeresének hozzáadása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800" spc="-1" strike="noStrike">
                <a:solidFill>
                  <a:srgbClr val="ff00ff"/>
                </a:solidFill>
                <a:latin typeface="Arial"/>
              </a:rPr>
              <a:t>negatív alak!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vertálás</a:t>
            </a:r>
            <a:br>
              <a:rPr sz="2000"/>
            </a:br>
            <a:r>
              <a:rPr b="0" lang="hu-HU" sz="2000" spc="-1" strike="noStrike">
                <a:solidFill>
                  <a:srgbClr val="ff9f11"/>
                </a:solidFill>
                <a:latin typeface="Arial"/>
              </a:rPr>
              <a:t>1111 01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0" lang="hu-HU" sz="2000" spc="-1" strike="noStrike">
                <a:solidFill>
                  <a:srgbClr val="00008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9</a:t>
            </a:r>
            <a:r>
              <a:rPr b="0" lang="en-US" sz="2000" spc="-1" strike="noStrike" baseline="-25000">
                <a:solidFill>
                  <a:srgbClr val="00008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80"/>
                </a:solidFill>
                <a:latin typeface="Arial"/>
              </a:rPr>
              <a:t>0000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876920" y="1523880"/>
          <a:ext cx="3809880" cy="3405240"/>
        </p:xfrm>
        <a:graphic>
          <a:graphicData uri="http://schemas.openxmlformats.org/drawingml/2006/table">
            <a:tbl>
              <a:tblPr/>
              <a:tblGrid>
                <a:gridCol w="2205000"/>
                <a:gridCol w="538200"/>
                <a:gridCol w="106668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1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</a:t>
                      </a: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-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9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1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3352680" y="3962520"/>
            <a:ext cx="1524240" cy="7596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00040" y="2590920"/>
            <a:ext cx="2133720" cy="914400"/>
          </a:xfrm>
          <a:prstGeom prst="line">
            <a:avLst/>
          </a:prstGeom>
          <a:ln w="633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388620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960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960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43434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A0E-F059-439B-8F0A-1F858E5031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ivoná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8 bit-es szá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nvertálás</a:t>
            </a:r>
            <a:br>
              <a:rPr sz="2400"/>
            </a:br>
            <a:r>
              <a:rPr b="0" lang="en-US" sz="2400" spc="-1" strike="noStrike">
                <a:solidFill>
                  <a:srgbClr val="ff9f11"/>
                </a:solidFill>
                <a:latin typeface="Arial"/>
              </a:rPr>
              <a:t>1010 0101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(90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000080"/>
                </a:solidFill>
                <a:latin typeface="Arial"/>
              </a:rPr>
              <a:t>0101 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876920" y="1523880"/>
          <a:ext cx="3809880" cy="3886200"/>
        </p:xfrm>
        <a:graphic>
          <a:graphicData uri="http://schemas.openxmlformats.org/drawingml/2006/table">
            <a:tbl>
              <a:tblPr/>
              <a:tblGrid>
                <a:gridCol w="2205000"/>
                <a:gridCol w="649080"/>
                <a:gridCol w="95580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10 0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 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</a:t>
                      </a: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 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011 1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9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276720" y="3048120"/>
            <a:ext cx="1600200" cy="838080"/>
          </a:xfrm>
          <a:prstGeom prst="line">
            <a:avLst/>
          </a:prstGeom>
          <a:ln w="63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4080" y="3886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14440" y="2362320"/>
            <a:ext cx="762120" cy="152280"/>
          </a:xfrm>
          <a:prstGeom prst="line">
            <a:avLst/>
          </a:prstGeom>
          <a:ln w="6336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3886200"/>
            <a:ext cx="60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32767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54864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Tú</a:t>
            </a:r>
            <a:r>
              <a:rPr b="0" i="1" lang="en-US" sz="1800" spc="-1" strike="noStrike">
                <a:solidFill>
                  <a:srgbClr val="000080"/>
                </a:solidFill>
                <a:latin typeface="Arial"/>
              </a:rPr>
              <a:t>lcsordulás!</a:t>
            </a: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ssz 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eredmény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hu-HU" sz="1800" spc="-1" strike="noStrike">
                <a:solidFill>
                  <a:srgbClr val="ff0000"/>
                </a:solidFill>
                <a:latin typeface="Arial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47C-CA6B-49F1-9D5E-50ED11A64A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úlcsordul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bit-es szá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ülönböző sz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zitív szám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to 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úlcsordulá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esztel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ozitív bemenet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gatív eredményt ad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80"/>
                </a:solidFill>
                <a:latin typeface="Arial"/>
              </a:rPr>
              <a:t>túlcsordulá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ossz </a:t>
            </a: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eredmény!!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ozók óvakodjat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éhány magas-szintű nyelv pl.: a BASIC néhány verziója nem ellenőrzi a túlcsordulást megfelelő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5486400" y="1523880"/>
          <a:ext cx="3252960" cy="2854440"/>
        </p:xfrm>
        <a:graphic>
          <a:graphicData uri="http://schemas.openxmlformats.org/drawingml/2006/table">
            <a:tbl>
              <a:tblPr/>
              <a:tblGrid>
                <a:gridCol w="1870200"/>
                <a:gridCol w="392040"/>
                <a:gridCol w="990720"/>
              </a:tblGrid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 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 0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 0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1 1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25686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6</a:t>
                      </a:r>
                      <a:r>
                        <a:rPr b="0" lang="en-US" sz="2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505320" y="4114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2819520"/>
            <a:ext cx="533160" cy="838080"/>
          </a:xfrm>
          <a:custGeom>
            <a:avLst/>
            <a:gdLst>
              <a:gd name="textAreaLeft" fmla="*/ 71280 w 533160"/>
              <a:gd name="textAreaRight" fmla="*/ 461880 w 533160"/>
              <a:gd name="textAreaTop" fmla="*/ 153360 h 838080"/>
              <a:gd name="textAreaBottom" fmla="*/ 573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12" stAng="-5400000" swAng="-5400000"/>
                <a:lnTo>
                  <a:pt x="0" y="10824"/>
                </a:lnTo>
                <a:arcTo wR="21600" hR="7912" stAng="10800000" swAng="-3501089"/>
                <a:lnTo>
                  <a:pt x="16843" y="21406"/>
                </a:lnTo>
                <a:lnTo>
                  <a:pt x="21600" y="17280"/>
                </a:lnTo>
                <a:lnTo>
                  <a:pt x="16843" y="12766"/>
                </a:lnTo>
                <a:lnTo>
                  <a:pt x="16843" y="15630"/>
                </a:lnTo>
                <a:arcTo wR="21600" hR="7912" stAng="7298911" swAng="3265702"/>
                <a:lnTo>
                  <a:pt x="369" y="9368"/>
                </a:lnTo>
                <a:arcTo wR="21600" hR="7912" stAng="-10564613" swAng="5164613"/>
                <a:close/>
              </a:path>
              <a:path fill="darkenLess" w="21600" h="21600">
                <a:moveTo>
                  <a:pt x="21600" y="0"/>
                </a:moveTo>
                <a:arcTo wR="21600" hR="7912" stAng="-5400000" swAng="-5400000"/>
                <a:lnTo>
                  <a:pt x="0" y="7912"/>
                </a:lnTo>
                <a:arcTo wR="21600" hR="7912" stAng="10800000" swAng="-235387"/>
                <a:lnTo>
                  <a:pt x="369" y="9368"/>
                </a:lnTo>
                <a:arcTo wR="21600" hR="7912" stAng="-10564613" swAng="5164613"/>
                <a:close/>
              </a:path>
            </a:pathLst>
          </a:custGeom>
          <a:solidFill>
            <a:srgbClr val="ff9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3581280"/>
            <a:ext cx="144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Invertáljuk, hogy megkapjuk az érték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086600" y="3123720"/>
            <a:ext cx="838080" cy="76212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4114800"/>
            <a:ext cx="380880" cy="0"/>
          </a:xfrm>
          <a:prstGeom prst="line">
            <a:avLst/>
          </a:prstGeom>
          <a:ln w="666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938-BE51-4736-8EAF-1AE26A344A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2-es k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omplemen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us =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-es alapú „1”-es után null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bit-en a mod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0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módszer van megtalálni a komplemen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ivonjuk a szám értékét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ulu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ó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 invertál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14400" y="3733920"/>
          <a:ext cx="7772400" cy="196992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  <a:gridCol w="1295280"/>
                <a:gridCol w="1351080"/>
                <a:gridCol w="1239840"/>
              </a:tblGrid>
              <a:tr h="41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tí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jelenítési mó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mpleme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önm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ális szám érté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128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-1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0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7</a:t>
                      </a:r>
                      <a:r>
                        <a:rPr b="1" i="1" lang="hu-HU" sz="1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o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á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gjelelenítési pél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r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r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111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5FB-C2D8-4834-95FB-E36EB9A24F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-e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vs. 2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-e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omplemen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választás a számítógép tervezőitől füg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es komp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szerű előjelet vált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adásnak szüksége van e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tra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úlcsordulás átvitel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goritmusnak tesztelnie és konvertálnia kell a ”-0” -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es komplemens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zerű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gálás után egy |1| hozzáadás szüksé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302-F22D-4E8F-B0F3-65E7715AD1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2-es bináris komplemen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Példa: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 0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101 1111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2k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95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Példa: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 1</a:t>
            </a:r>
            <a:r>
              <a:rPr b="0" lang="hu-HU" sz="2800" spc="-1" strike="noStrike">
                <a:solidFill>
                  <a:srgbClr val="0000ff"/>
                </a:solidFill>
                <a:latin typeface="Arial"/>
              </a:rPr>
              <a:t>010 0000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2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nega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negáltja amely </a:t>
            </a:r>
            <a:r>
              <a:rPr b="1" lang="hu-HU" sz="2400" spc="-1" strike="noStrike" u="sng">
                <a:solidFill>
                  <a:srgbClr val="ff00ff"/>
                </a:solidFill>
                <a:uFillTx/>
                <a:latin typeface="Arial"/>
              </a:rPr>
              <a:t>nem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az abszolút értéke(!!!):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0101 111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1| hozzáadása a negált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így: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0101 111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+                </a:t>
            </a: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hu-HU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0110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0000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= |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96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hát az eredmény: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96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5029200"/>
            <a:ext cx="1904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B474-0636-4489-8EBD-680D61289F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Egy összetett példa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tározza meg a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decim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hexadecim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rtékét a következő 8 bit-es bináris számoknak, ha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özönséges binári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vagy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1-es komplemen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lletve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2-es komplemen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rtelmezük őket. A hexadecimális számoknál az előjeleket kezelje a decimális számoknál megszokott mód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111 0100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zönséges:  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116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 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74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br>
              <a:rPr sz="2400"/>
            </a:b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-es: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116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74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br>
              <a:rPr sz="2400"/>
            </a:b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-es: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116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74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101 01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   közönséges: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213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D5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0010 1010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-es: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42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s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 -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2A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0010 101</a:t>
            </a: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-es: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43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2B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937-4B2E-4D34-9CF2-0DBB1B7454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Egy még összetettebb példa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égezze el a következő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ivon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8 bit-es bináris számokkal úgy, hogy a számpár első tagját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1-es komplemen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 második tagját </a:t>
            </a: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2-es komplemen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rtelmezük. Az </a:t>
            </a:r>
            <a:r>
              <a:rPr b="0" lang="hu-HU" sz="2000" spc="-1" strike="noStrike">
                <a:solidFill>
                  <a:srgbClr val="03c10c"/>
                </a:solidFill>
                <a:latin typeface="Arial"/>
              </a:rPr>
              <a:t>eredmény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adja meg bináris </a:t>
            </a:r>
            <a:r>
              <a:rPr b="0" lang="hu-HU" sz="2000" spc="-1" strike="noStrike">
                <a:solidFill>
                  <a:srgbClr val="03c10c"/>
                </a:solidFill>
                <a:latin typeface="Arial"/>
              </a:rPr>
              <a:t>1-es komplemenskén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majd váltsa át azt </a:t>
            </a:r>
            <a:r>
              <a:rPr b="0" lang="hu-HU" sz="2000" spc="-1" strike="noStrike">
                <a:solidFill>
                  <a:srgbClr val="03c10c"/>
                </a:solidFill>
                <a:latin typeface="Arial"/>
              </a:rPr>
              <a:t>decimáli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számrendszer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10 01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01 1010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2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10 01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- </a:t>
            </a: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000099"/>
                </a:solidFill>
                <a:latin typeface="Arial"/>
              </a:rPr>
              <a:t>0110 0101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</a:rPr>
              <a:t>B 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hu-HU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hu-HU" sz="2400" spc="-1" strike="noStrike">
                <a:solidFill>
                  <a:srgbClr val="03c10c"/>
                </a:solidFill>
                <a:latin typeface="Arial"/>
              </a:rPr>
              <a:t>0110 0110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i="1" lang="hu-HU" sz="24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01 10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10 01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hu-HU" sz="2400" spc="-1" strike="noStrike">
                <a:solidFill>
                  <a:srgbClr val="03c10c"/>
                </a:solidFill>
                <a:latin typeface="Arial"/>
              </a:rPr>
              <a:t>0110 0110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hu-HU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000 101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0000 1100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B1K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hu-HU" sz="2400" spc="-1" strike="noStrike">
                <a:solidFill>
                  <a:srgbClr val="03c10c"/>
                </a:solidFill>
                <a:latin typeface="Arial"/>
              </a:rPr>
              <a:t>12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4724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447920" y="5029200"/>
            <a:ext cx="1371600" cy="228600"/>
            <a:chOff x="1447920" y="5029200"/>
            <a:chExt cx="1371600" cy="228600"/>
          </a:xfrm>
        </p:grpSpPr>
        <p:sp>
          <p:nvSpPr>
            <p:cNvPr id="217" name=""/>
            <p:cNvSpPr/>
            <p:nvPr/>
          </p:nvSpPr>
          <p:spPr>
            <a:xfrm>
              <a:off x="1447920" y="5029200"/>
              <a:ext cx="0" cy="2286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47920" y="5257800"/>
              <a:ext cx="1371600" cy="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371600" y="548640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49F-B5D2-4651-AEEA-49D95E84AC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Integer méret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ozitív számok 0-val kezdőd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csi, negatív számok (közel a 0-hoz) több 0-val kezdőd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99"/>
                </a:solidFill>
                <a:latin typeface="Arial"/>
              </a:rPr>
              <a:t>111 1110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B2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 8 bit-es 2-es komp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hu-HU" sz="2800" spc="-1" strike="noStrike">
                <a:solidFill>
                  <a:srgbClr val="000099"/>
                </a:solidFill>
                <a:latin typeface="Arial"/>
              </a:rPr>
              <a:t>000 0000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Arial"/>
              </a:rPr>
              <a:t>B2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hu-HU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hu-HU" sz="2800" spc="-1" strike="noStrike">
                <a:solidFill>
                  <a:srgbClr val="03c10c"/>
                </a:solidFill>
                <a:latin typeface="Arial"/>
              </a:rPr>
              <a:t>128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, nagyobb negatív szám 2-es komplem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seréljünk fel minden 1-est és 0-ást és határozzuk meg az érté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629-C661-4A3D-B2B7-3DF64D8175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32 bit-es adat szó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619760" cy="39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EA7D-AC96-4C83-82E6-EB61F37C77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Túlcsordulás és Átvitel közötti különbség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80"/>
                </a:solidFill>
                <a:latin typeface="Arial"/>
              </a:rPr>
              <a:t>Átvitel (carry) bi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zi, ha egy </a:t>
            </a:r>
            <a:r>
              <a:rPr b="1" i="1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dott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helyiértéken elvégzett művelet eredménye meghaladja az ott ábrázolható érték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80"/>
                </a:solidFill>
                <a:latin typeface="Arial"/>
              </a:rPr>
              <a:t>Túlcsordulás (Overflow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egy összeadás vagy kivonás művelet eredménye kívül esik az aktuális számábrázolási tartomány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160-6EA9-4461-8DD1-AE5AEAB9B07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úlcsordulás/Átvitel példá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lyes eredm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e túlcsordulás, se átv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Helytel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redményt kapu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 túlcsordulás, és átvite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43600" y="1752480"/>
          <a:ext cx="2057400" cy="1185840"/>
        </p:xfrm>
        <a:graphic>
          <a:graphicData uri="http://schemas.openxmlformats.org/drawingml/2006/table">
            <a:tbl>
              <a:tblPr/>
              <a:tblGrid>
                <a:gridCol w="749160"/>
                <a:gridCol w="324000"/>
                <a:gridCol w="984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943600" y="3200400"/>
          <a:ext cx="2133360" cy="1185840"/>
        </p:xfrm>
        <a:graphic>
          <a:graphicData uri="http://schemas.openxmlformats.org/drawingml/2006/table">
            <a:tbl>
              <a:tblPr/>
              <a:tblGrid>
                <a:gridCol w="749160"/>
                <a:gridCol w="331920"/>
                <a:gridCol w="1052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hu-HU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526400" y="5410080"/>
            <a:ext cx="68209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0000"/>
                </a:solidFill>
                <a:uFillTx/>
                <a:latin typeface="Arial"/>
              </a:rPr>
              <a:t>Négy bit-es 2-es komplemens számábrázolá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4DD-4ED7-4CBE-9F5B-E56A837F64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úlcsordulás/Átvitel példá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 3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tvitelt elhagyva az eredmény hel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 átvitel, de nincs túlcsordu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Arial"/>
              </a:rPr>
              <a:t>Helytel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eredm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n túlcsordulás, átvitel mellőz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019920" y="2133720"/>
          <a:ext cx="2286000" cy="1185840"/>
        </p:xfrm>
        <a:graphic>
          <a:graphicData uri="http://schemas.openxmlformats.org/drawingml/2006/table">
            <a:tbl>
              <a:tblPr/>
              <a:tblGrid>
                <a:gridCol w="890640"/>
                <a:gridCol w="323640"/>
                <a:gridCol w="1071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5867280" y="3962520"/>
          <a:ext cx="2514600" cy="1185840"/>
        </p:xfrm>
        <a:graphic>
          <a:graphicData uri="http://schemas.openxmlformats.org/drawingml/2006/table">
            <a:tbl>
              <a:tblPr/>
              <a:tblGrid>
                <a:gridCol w="977760"/>
                <a:gridCol w="331920"/>
                <a:gridCol w="1204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 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+ </a:t>
                      </a:r>
                      <a:r>
                        <a:rPr b="0" lang="hu-HU" sz="2000" spc="-1" strike="noStrike">
                          <a:solidFill>
                            <a:srgbClr val="ff00ff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"/>
          <p:cNvSpPr/>
          <p:nvPr/>
        </p:nvSpPr>
        <p:spPr>
          <a:xfrm>
            <a:off x="1526400" y="5410080"/>
            <a:ext cx="682092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 u="sng">
                <a:solidFill>
                  <a:srgbClr val="ff0000"/>
                </a:solidFill>
                <a:uFillTx/>
                <a:latin typeface="Arial"/>
              </a:rPr>
              <a:t>Négy bit-es 2-es komplemens számábrázolá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095880" y="29714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6095880" y="2971440"/>
            <a:ext cx="1526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019920" y="480024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6019560" y="48002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03F-A42E-45F3-92E4-5EFBA2C2F1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Előjel nélküli egész számok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 Integer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ek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náris ábrázolás: Előjel nélküli egész szám vag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80"/>
                </a:solidFill>
                <a:latin typeface="Arial"/>
              </a:rPr>
              <a:t>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CD ábrázolás: Decimális egész közvet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binár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felelőj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Binary Coded Deci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14400" y="2971800"/>
          <a:ext cx="7924680" cy="3252960"/>
        </p:xfrm>
        <a:graphic>
          <a:graphicData uri="http://schemas.openxmlformats.org/drawingml/2006/table">
            <a:tbl>
              <a:tblPr/>
              <a:tblGrid>
                <a:gridCol w="1905120"/>
                <a:gridCol w="3052800"/>
                <a:gridCol w="2966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ális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áris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ábrázo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CD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ábrázol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100  0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11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64 + 4 =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nagyobb 8 bit-en ábrázolhat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D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ódoláss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110  0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00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64 + 32 + 2 + 1 =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51444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51444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   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80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5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18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nagyobb 8 bit-en ábrázolható szám bináris kódoláss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111  1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7488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0010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 =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0172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 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2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801720"/>
                          <a:tab algn="l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i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>
                      <a:noFill/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057400" y="2286000"/>
          <a:ext cx="4724280" cy="669960"/>
        </p:xfrm>
        <a:graphic>
          <a:graphicData uri="http://schemas.openxmlformats.org/drawingml/2006/table">
            <a:tbl>
              <a:tblPr/>
              <a:tblGrid>
                <a:gridCol w="2057400"/>
                <a:gridCol w="2666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it: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tó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bit: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tó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: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tó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ff9f11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bit: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tó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9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EDF-F6E0-459C-8950-50A6EE625C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80"/>
                </a:solidFill>
                <a:latin typeface="Arial"/>
              </a:rPr>
              <a:t>Ábrázolható értékek összehasonlítása</a:t>
            </a:r>
            <a:r>
              <a:rPr b="1" lang="en-US" sz="3600" spc="-1" strike="noStrike">
                <a:solidFill>
                  <a:srgbClr val="000080"/>
                </a:solidFill>
                <a:latin typeface="Arial"/>
              </a:rPr>
              <a:t>: Bináris vs. BCD</a:t>
            </a:r>
            <a:endParaRPr b="1" lang="en-US" sz="3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brázolható értékek BCD kódolással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ábrázolható értékek hagyományos bináris ábrázol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ináris: 4 bit 16 különböző értéket képes tárolni (0-tól 15-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CD: 4 bit csak 10 különböző értéket tud tárolni (0-tól 9-i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66680" y="3352680"/>
          <a:ext cx="7010640" cy="2729160"/>
        </p:xfrm>
        <a:graphic>
          <a:graphicData uri="http://schemas.openxmlformats.org/drawingml/2006/table">
            <a:tbl>
              <a:tblPr/>
              <a:tblGrid>
                <a:gridCol w="1401840"/>
                <a:gridCol w="1569960"/>
                <a:gridCol w="1233720"/>
                <a:gridCol w="1509480"/>
                <a:gridCol w="12956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-ek szá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CD hat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áris hat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ff9f11"/>
                      </a:solidFill>
                    </a:lnB>
                    <a:solidFill>
                      <a:srgbClr val="ff9f1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2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4.0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65.5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9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 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99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6 m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9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4 b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(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16 quintill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>
                      <a:noFill/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+ számje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1D9-664F-47A1-96D8-EAE0C1D65A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Hagyományos bináris 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vs. BCD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inár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ábrázolás kedvelte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obb értéket képes tárolni adott számú bit-en (helyiérték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olási műveletek elvégzése  egyszerű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D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yakran használatos vállalati rendszereknél, főként a tizedes kerekítés és a tizedes pontosság mi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3AC4-37B2-4E54-A779-9E64BBAB3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Egyszerű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BCD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or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696080" cy="32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EA53-8991-4C9A-8F98-30F5D61802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Előjeles egész számok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ábrázolása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incs nyilvánvaló, közvetlen ábrázolása az előjelnek bináris ábrázolás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hetőség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lőjel-és-érték ábrázo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-es komp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-es komplemens (gyakorib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CD8-F9A6-47C6-BB10-E3105B7EE0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Előjel-és-érté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baloldali legszélső bit használata előjelké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0 = pozitív; 1 = neg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ábrázolható értékek száma nem válto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ámok fele pozitív, fele negatí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legnagyobb ábrázolt érték feleakkora lesz, mint előjel nélkü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élda 8 bit-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jel nélküli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111 1111 = (+)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jele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0111 1111 = +127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111 1111 = -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2880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jegyzés: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ttő érték a 0-ra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+0 = 0000 0000 és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-0 = 1000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4D1-7617-486F-B539-D4F97B6EFB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44:38Z</dcterms:created>
  <dc:creator>Linda Senne</dc:creator>
  <dc:description/>
  <dc:language>en-US</dc:language>
  <cp:lastModifiedBy>Horváth Zsolt</cp:lastModifiedBy>
  <dcterms:modified xsi:type="dcterms:W3CDTF">2009-03-13T09:37:45Z</dcterms:modified>
  <cp:revision>266</cp:revision>
  <dc:subject/>
  <dc:title>CHAPTER 1: Computer Systems</dc:title>
</cp:coreProperties>
</file>