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EF60-6610-4504-9053-C2D2070A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CB7C-0455-43A7-A859-9F7438B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87E1-1B30-4FCB-9585-6133DEBA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193F-498F-44DD-AF8E-0448CDA1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5356-38FD-4CDD-9403-0DA8CEC4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9E74F-4F83-4CE6-95F6-D413E009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F0434-B05D-4F29-AC02-344E9227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4BC95-98BF-4A73-8D03-1BDA5C9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CF91C-EED7-43AA-AFD0-55B76CE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5C4B3-A20B-4E0B-86B5-1E60783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C83D-2DB0-4CEA-967E-B02A699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B563A-4E4F-4646-BB87-3A804A0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29E55-2757-4CA7-AE92-1B28AB8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DD17C-DAFD-4B5C-B4EA-DB64DDC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AF78D-0CAE-4604-9A1B-10FB2B0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2A2B0-54DF-4CFE-87B3-145702C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54169-6042-450A-AFEB-BD47C071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A8AF2-4E3F-4C43-AC8D-4F01BF9E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00AA-BCB9-43A8-8590-03FAA4D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6F7B-5587-4A89-AA21-2F3E3CD9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DCEC-21F3-4059-99B0-89567EB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79B5-C1A0-4C66-8B1E-88D8A07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40FF-56F4-47DA-A2F3-3B2CA4A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6320-30FA-4006-AFA0-3CF4464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8E0C-C69D-4652-BFD8-CF20545C4C3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ftr" idx="6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7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523-4FCE-4790-AF77-F5E691B6637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dt" idx="8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ftr" idx="9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1. Fejezet</a:t>
            </a: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5000"/>
            </a:b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Számítógép rendszerek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The Architecture of Computer Hardware and Systems Software: </a:t>
            </a:r>
            <a:br>
              <a:rPr sz="2000"/>
            </a:b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n Information Technology Approach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f11"/>
                </a:solidFill>
                <a:latin typeface="Verdana"/>
              </a:rPr>
              <a:t>3. kiadás</a:t>
            </a: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, Irv Englan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John Wiley and Sons </a:t>
            </a:r>
            <a:r>
              <a:rPr b="0" lang="en-US" sz="18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f11"/>
                </a:solidFill>
                <a:latin typeface="Verdana"/>
              </a:rPr>
              <a:t>alapjá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U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özponti feldolgozó egysé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U: arithmetic/logic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ritmetikai és Bool logikai számítások végrehajt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: control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végrehajtásának irányít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mozgatásának irányítása a CPU-b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és adatok továbbítása a CPU és más hardver egységek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Bus (Sin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ábelköteg, amely kép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jeleket és tápfeszültséget szállítani a számítógép különböző elemei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1A1C1-D18F-4FC9-814F-3CC2D7E68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emór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lternatív elnevezés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elsődleges tároló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unkatároló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RAM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(random access memory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/véletlen hozzáférésű memória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itekből á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biteket táro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indegyik felvehe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értéke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bit = 1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ja a számítógép által végrehajtott  utasításokat (számítógép program) és az általa feldolgozott adatok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Neumann János: tárolt program elve (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stored program concept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0AA4D-C9AA-4414-B847-230A59656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oftver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lkalmazás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Verdana"/>
              </a:rPr>
              <a:t>Operációs rends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elhasználói felü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PI: application programming interface (programozói interfés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lkalmazások által használható hívás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ájl kezel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I/O vezérlő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ernel (ma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Memória kezel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Erőforrás ütemez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Program kommunikáci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Biztonsá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Hálózati mod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133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81480" y="1600200"/>
          <a:ext cx="3683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00200"/>
                    <a:ext cx="3683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EA9B2-FD43-4CBF-82D6-DA6EA34E6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mmunikációs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d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ommunikáció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csatorn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izikai kapcsolatok számítógépes rendszerek közöt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Példá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ezeté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elefon von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optikai káb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fra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örös fé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r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hullám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é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rd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Közvetlen kommunikáció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számítógép és a kommunikációs csatorna közöt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Verdana"/>
              </a:rPr>
              <a:t>Mod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hu-HU" sz="2200" spc="-1" strike="noStrike">
                <a:solidFill>
                  <a:srgbClr val="000080"/>
                </a:solidFill>
                <a:latin typeface="Verdana"/>
              </a:rPr>
              <a:t>hálózati kártya (n</a:t>
            </a:r>
            <a:r>
              <a:rPr b="0" i="1" lang="en-US" sz="2200" spc="-1" strike="noStrike">
                <a:solidFill>
                  <a:srgbClr val="000080"/>
                </a:solidFill>
                <a:latin typeface="Verdana"/>
              </a:rPr>
              <a:t>etwork interface card (NIC)</a:t>
            </a:r>
            <a:r>
              <a:rPr b="0" i="1" lang="hu-HU" sz="22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Hálózati protokollo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TTP, TCP/IP, AT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E2DBF-F795-4D99-AF1E-0DFF7DE7D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ámítógép rendszer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inden számítógéprendsz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onyolultságától eltekintve tartalmazza a következők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galább egy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mória a programok és adatok tárolásá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/O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ö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Hosszútávú adattárolásra szolgáló tárol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CA34C-AB1E-4C01-A032-2711DDC9C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tokoll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Közös szabályo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ítógép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/O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eszközö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és szoftverek közötti kommunikáció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Példá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Web szerver és Web böngésző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CP/IP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terneten lévő számítógépek és helyi hálózat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API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PU és CD meghajtó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F826C-9BB7-49A9-A7F9-202313F1F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abvány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Univerzális adat formátum- és protokoll kompatibilitást biztosítana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Vagy a szabadalmi hivatal hozta lét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tényleges szabvánnyá vált a nagymértékű használat miat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Példá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 nyelve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Java, SQL, C, Java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egjelenítési 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ostscript, MPEG-2, JPEG, G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rakterkiosztás 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SCII, Unicode, EBCD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VGA, XGA, RG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FC649-8295-479C-A4AA-BAB48D48E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rai történel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42: Blaise Pascal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feltalálta a számológép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01: Joseph Marie Jacquard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galkotot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szövőszéket, ami lyukkártyákat haszná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00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-as éve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Charles Babbage megkísérelt építeni egy analitikus gépet (mechanikai számítógé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a Ada Byron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alkotott sok alapvető  programozási fogal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rge Boole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alkotta a Bool logiká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AA4F1-A7C1-46D1-A0E3-9209FCEF1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rn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Számítógép fejleszté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7: Mark I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készül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iken, Harvard University, IB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elektronikus számítógép reléket használ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9: ABC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készü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teljesen elektromos digitális számítógé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Vákuumcsövet haszná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43-46: ENIAC (Mauchly, Eckert, University of Pennsylvania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általános tervezésű digitális számítógé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1945: Neumann architektúra terv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mai számítógépek működésének alapelve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Tárolt program e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Bináris aritmetika használ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47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ranzisztor feltalálá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rdeen, Shockley, Brattain, Bell Lab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51: UNIVAC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első kereskedelmi számítógé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E1861-1CAD-4897-8F64-E9671F5093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rai számítógép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562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bage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nalitikus gé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293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F3FE5-5614-400E-96CB-53A7EEB63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Tipikus számítógép hirdet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029200"/>
            <a:ext cx="821844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Elég gyors a számítógép a fontos programok futtatásához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Megéri az árát a számítógé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Elavul 6 hónap múl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9240" cy="33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6A69C-7F31-43F4-B07B-279E1D83F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iért tanulunk számítógép architektúráka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Számítógép felhasználó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Megérteni a rendszer képességeit és korláta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ájékozott döntéseket hoz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ejlessze a kommunikációs készségét az informatikusokk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Rendszer analitik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ázlatot készí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megállapítja a megvalósíthatóság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és meghatározza illetve dokumentálja a felhasználói követelmények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Program rendszerkövetelményeinek meghatározá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Programozó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Hatékony programokat készítsen speciális feladatok megoldásáho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7344B-1F48-49F0-9B6C-60E24B4C9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iért tanulunk számítógép architektúráka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Rendszer adminisztrá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es rendszer 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stall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áll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beállít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rbantart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és felújít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rendelkezésre állásának maximalizál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teljesítményének optimalizál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biztonságának biztosít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-alkalmazás tervez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Optimalizálja az ügyfél hozzáférését a Webes alkalmazásokho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Webkiszolgáló rendszerek adminisztrálá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iválassza a megfelelő adatformátum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atékony Weboldal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65E30-5B30-4953-ACC7-305D78E91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put-Process-Output Model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IPO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676520"/>
          <a:ext cx="8105760" cy="42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105760" cy="42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E7981-ABFF-4C5B-86EB-2CC8F6FE2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put-Process-Output Model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IPO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Beolvasás – Feldolgozás – Kiírás” Mode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Feldolgozandó adatok beolvasása (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put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billentyűz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gé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ner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lyukkártya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Feldolgozás (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cessing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végrehajtja a számítógépprogram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redmények kiírása, megjelenítése (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put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nitor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nyomtat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a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x,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Tároló eszközök az adatok átmeneti és hosszútávú tárolásá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erevleme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pti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i leme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ajlékony-lemeze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ágnes kazet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95C406-A24B-4A99-88B4-70100598A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chitektúra része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Hard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végrehajtásával adatok feldolgozása képes gé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hetőséget ad adatok rögzítésére: bevitelre (input) és kiírására (output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Szoft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Rendszer által végrehajtott utasítás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lapvető ábrázolása a tényeknek és a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ommunik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megosztása és feldolgozás két különböző rendszer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7E267-6220-4148-AD09-CA29F5AAA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Hardver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/Output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szközö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ó eszközö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– központi feldolgozó egység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ing unit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észe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U: arithmetic/logic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aritmetikai/logikai 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: control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vezérlő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interfész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CPU által végzett műveletek eredményeinek  átmeneti (rövidtávú) tárol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4BB62-FD1A-4809-9598-28F36539F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Általános P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1447920"/>
          <a:ext cx="811512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11512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A96C2-23AE-41FB-B6E4-5013E6E03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7:03:37Z</dcterms:created>
  <dc:creator>ww</dc:creator>
  <dc:description/>
  <dc:language>en-US</dc:language>
  <cp:lastModifiedBy>dr. Benyó Balázs</cp:lastModifiedBy>
  <dcterms:modified xsi:type="dcterms:W3CDTF">2009-02-09T11:02:43Z</dcterms:modified>
  <cp:revision>82</cp:revision>
  <dc:subject/>
  <dc:title>CHAPTER 1: Computer Systems</dc:title>
</cp:coreProperties>
</file>