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A62CE-0B8E-4EC6-B594-C4E431A926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19D49-131F-47BB-A4C3-808F18F64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B2109-CB92-453D-B900-93C31103FB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C6A9B-81CF-49E7-8FB1-C2D99A152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B72FC-230E-48AC-B287-267F602E4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B6D87-6BE5-43CC-964B-5FA48D68F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13AEA-BE47-4048-89E3-D41A1ABE0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F361DA-045E-4FC0-9F1E-66704894E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A4243-CC3A-43C8-B7F8-059159D19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06495-DE59-41FB-A92A-3D63F4FF3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1CC9D-3BDE-41F3-B131-4E355EF6A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DADE2-7B98-485E-96C1-B70315394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37CB3-04FA-4339-881E-B47BF1CF5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ACC8D-CC3C-4555-BBAD-526C6F7FE5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38A1D-5992-4DEA-BD2C-BE4C0ECC4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6EB17-5E3C-4639-BF38-AA71CC572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645BC-26F7-4415-9FF9-DDCC4E03C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50180B-BADE-476A-B5F7-1CDD625C60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B3A752-EEC0-4487-B1D2-C4BA34AA5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68365-507F-4A26-BC96-2D7EFBA1A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FD08F-D03D-4069-AE0D-E0DCC9244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5D14CA-EB7E-40BE-9E3D-BF43C973E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F93F3-1A49-474A-AC9C-9023B40CB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9526B-AE03-4742-B2DC-A3E24ED3C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E0E06-787D-4820-BA07-93F7C8A7D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57BD4-0670-4721-98AE-1CCD6F7D3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188FD-E62D-4A88-9784-43C66FC12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1792C-F74C-43AD-9E64-1EACC9FE2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405A2-F47B-45FF-AE38-2A8BC3868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F9EC2-8890-4CFA-879A-17ABFFA4E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70FCE5-C903-4728-B201-7C40317FD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7CA22-A5E0-437A-AD4B-B8218B0FD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3A902-B17A-438F-A0D1-8CD193010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B8042E-CE54-4F80-B31D-EEAD009149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4DE68-E7CF-4BB9-8CAA-C221E7878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E46AD-220C-43C5-B685-90BD6FD5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F83F5-D8D4-4972-9A84-5A744FF4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521E-1532-4274-B75A-83EF074E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2B63D-5B20-44C1-AE08-5E13B52A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FB0F5-64F9-45F1-8B55-3746529B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EC4D-3645-4C79-8580-8F253233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55423-C6B7-49FC-9F17-01C791D8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A9A9B-C63C-471A-B957-16256A2B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F02FE-CF69-4971-9730-95091602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4115-B274-445A-9687-0B8CDC9B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1D04-5582-4984-A6F0-24B46E2A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B8C2-3659-49A3-9B60-25EA3733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41928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56720" y="6381360"/>
            <a:ext cx="10540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AA15-4E16-4014-BFF7-9C6E96DCE565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bbc8d7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b5775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b5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610920" y="6381720"/>
            <a:ext cx="13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40728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Times New Roman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8" descr="sze_logo05"/>
          <p:cNvPicPr/>
          <p:nvPr/>
        </p:nvPicPr>
        <p:blipFill>
          <a:blip r:embed="rId2"/>
          <a:stretch/>
        </p:blipFill>
        <p:spPr>
          <a:xfrm>
            <a:off x="108000" y="6308640"/>
            <a:ext cx="39672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6084720" y="5877000"/>
            <a:ext cx="28958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5"/>
          </p:nvPr>
        </p:nvSpPr>
        <p:spPr>
          <a:xfrm>
            <a:off x="1835280" y="6021360"/>
            <a:ext cx="208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hu-HU" sz="4600" spc="-1" strike="noStrike">
                <a:solidFill>
                  <a:srgbClr val="000000"/>
                </a:solidFill>
                <a:latin typeface="Georgia"/>
              </a:rPr>
              <a:t>. Fejezet</a:t>
            </a:r>
            <a:r>
              <a:rPr b="0" lang="en-US" sz="46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4600"/>
            </a:br>
            <a:r>
              <a:rPr b="0" lang="hu-HU" sz="4600" spc="-1" strike="noStrike">
                <a:solidFill>
                  <a:srgbClr val="000000"/>
                </a:solidFill>
                <a:latin typeface="Georgia"/>
              </a:rPr>
              <a:t>Little Man Computer</a:t>
            </a:r>
            <a:br>
              <a:rPr sz="4600"/>
            </a:br>
            <a:r>
              <a:rPr b="0" lang="hu-HU" sz="4200" spc="-1" strike="noStrike">
                <a:solidFill>
                  <a:srgbClr val="000000"/>
                </a:solidFill>
                <a:latin typeface="Georgia"/>
              </a:rPr>
              <a:t>(Kisember számítógép)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971800" y="4549680"/>
            <a:ext cx="6019920" cy="13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ia számának helye 5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B08F-A80B-4274-AB4D-B44F3DFB60B5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Utasítások felépíté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744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i kó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űvelet kód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tetszőleges rövidítés (mnemoni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 operandu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ódosítandó „objektum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dat értéke va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dat címe, ahol az érték tárolód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4772160"/>
          <a:ext cx="7238880" cy="1554120"/>
        </p:xfrm>
        <a:graphic>
          <a:graphicData uri="http://schemas.openxmlformats.org/drawingml/2006/table">
            <a:tbl>
              <a:tblPr/>
              <a:tblGrid>
                <a:gridCol w="1676520"/>
                <a:gridCol w="2666880"/>
                <a:gridCol w="2895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Cí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206E-3533-43FC-8ED5-7EC0BBF1E910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alap utasítása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413000"/>
          <a:ext cx="8218440" cy="4998960"/>
        </p:xfrm>
        <a:graphic>
          <a:graphicData uri="http://schemas.openxmlformats.org/drawingml/2006/table">
            <a:tbl>
              <a:tblPr/>
              <a:tblGrid>
                <a:gridCol w="3122640"/>
                <a:gridCol w="1577880"/>
                <a:gridCol w="351792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típ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Aritmetik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Összead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Kivon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Adat mozgat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3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Táro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5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Betölt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Input/Output </a:t>
                      </a:r>
                      <a:br>
                        <a:rPr sz="2800"/>
                      </a:b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(Be-/Kimenet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Beolvasás (INPU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Kiírás (OUTPU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Vezérlő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Leállás (CO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DE55-436B-40E8-B52C-1E79349DF968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ssembly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nyelv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függő programnyel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gy az egyhez összerendelés az assembly nyelv utasításai és a bináris gépi kódú (CPU által végrehajtható) utasítások közö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Verdana"/>
              </a:rPr>
              <a:t>Mnemonic-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rövid karakter sorozat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utasításokat reprezentáln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kkor használjuk, ha a programozónak a hardver pontos vezérlésére van szüksé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pl.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szközmeghajtók (driver-ek) készíté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4AE4-3D4E-46E5-A89C-FDDDADAC74DD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alap utasításainak assembly kódj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1600200"/>
          <a:ext cx="8447040" cy="4991040"/>
        </p:xfrm>
        <a:graphic>
          <a:graphicData uri="http://schemas.openxmlformats.org/drawingml/2006/table">
            <a:tbl>
              <a:tblPr/>
              <a:tblGrid>
                <a:gridCol w="1963440"/>
                <a:gridCol w="3821400"/>
                <a:gridCol w="2662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assembly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Összead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von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áro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A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öl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olvasás (INPU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írás (OUTPU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ál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ffe brea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F252-DCC2-4C9B-ADFD-A9126F658496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put/Output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 mozgatása a számológép és a be/ki kosarak közö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19320" y="2743200"/>
          <a:ext cx="7162560" cy="2819520"/>
        </p:xfrm>
        <a:graphic>
          <a:graphicData uri="http://schemas.openxmlformats.org/drawingml/2006/table">
            <a:tbl>
              <a:tblPr/>
              <a:tblGrid>
                <a:gridCol w="2077200"/>
                <a:gridCol w="216000"/>
                <a:gridCol w="2510640"/>
                <a:gridCol w="23587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UT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out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B6E9-313F-4AD8-83D8-7FFEEBB50884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5" descr="c06f01"/>
          <p:cNvPicPr/>
          <p:nvPr/>
        </p:nvPicPr>
        <p:blipFill>
          <a:blip r:embed="rId1"/>
          <a:stretch/>
        </p:blipFill>
        <p:spPr>
          <a:xfrm>
            <a:off x="1757520" y="1487520"/>
            <a:ext cx="5962320" cy="42624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Input/Outpu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1447920" y="3429000"/>
            <a:ext cx="1066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d1313"/>
                </a:solidFill>
                <a:latin typeface="Tahoma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d1313"/>
                </a:solidFill>
                <a:latin typeface="Tahoma"/>
              </a:rPr>
              <a:t>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 flipV="1">
            <a:off x="3505320" y="2819520"/>
            <a:ext cx="1218960" cy="83808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4"/>
          <p:cNvSpPr/>
          <p:nvPr/>
        </p:nvSpPr>
        <p:spPr>
          <a:xfrm flipH="1">
            <a:off x="3571920" y="3365280"/>
            <a:ext cx="1237320" cy="81180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7182-C3AD-47AB-864B-E16E5A33B7CA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Belső adatmozgás 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(LMC-n belül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73484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 postaláda és a számológép közö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76520" y="2666880"/>
          <a:ext cx="6629400" cy="3048120"/>
        </p:xfrm>
        <a:graphic>
          <a:graphicData uri="http://schemas.openxmlformats.org/drawingml/2006/table">
            <a:tbl>
              <a:tblPr/>
              <a:tblGrid>
                <a:gridCol w="1657080"/>
                <a:gridCol w="316080"/>
                <a:gridCol w="2525760"/>
                <a:gridCol w="2130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STO 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árolás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LDA 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betöltés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7A31-9CE7-4EA8-B3C3-2E8A4C12AC44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6" descr="c06f01"/>
          <p:cNvPicPr/>
          <p:nvPr/>
        </p:nvPicPr>
        <p:blipFill>
          <a:blip r:embed="rId1"/>
          <a:stretch/>
        </p:blipFill>
        <p:spPr>
          <a:xfrm>
            <a:off x="1676520" y="1676520"/>
            <a:ext cx="6248160" cy="47988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belső adatmozgatá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6934320" y="33526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4952880" y="3124080"/>
            <a:ext cx="1295640" cy="1143000"/>
          </a:xfrm>
          <a:prstGeom prst="line">
            <a:avLst/>
          </a:prstGeom>
          <a:ln w="2844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 flipH="1">
            <a:off x="5105160" y="2743200"/>
            <a:ext cx="1066680" cy="152280"/>
          </a:xfrm>
          <a:prstGeom prst="line">
            <a:avLst/>
          </a:prstGeom>
          <a:ln w="2844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8"/>
          <p:cNvSpPr/>
          <p:nvPr/>
        </p:nvSpPr>
        <p:spPr>
          <a:xfrm>
            <a:off x="7315200" y="281952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Tahoma"/>
              </a:rPr>
              <a:t>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Tahoma"/>
              </a:rPr>
              <a:t>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6955-F229-42BA-9D8B-5624ED537739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datok tárolás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Utasításokat és az adatokat tároló   postaláda fiókok fizikailag azonosak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 (általában) nincsenek beleágyazva az utasítások köz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Verdana"/>
              </a:rPr>
              <a:t>D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nemonic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 azonosítja őket az assembly kódb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ia számának helye 5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DC6D-BA3D-4D15-8C31-F22A12481064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ritmetikai utasítás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104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ostaládában tárolt érték beolvasá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 elvégzése a számológép segítségé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68360" y="3197160"/>
          <a:ext cx="8218440" cy="2289240"/>
        </p:xfrm>
        <a:graphic>
          <a:graphicData uri="http://schemas.openxmlformats.org/drawingml/2006/table">
            <a:tbl>
              <a:tblPr/>
              <a:tblGrid>
                <a:gridCol w="2152440"/>
                <a:gridCol w="628920"/>
                <a:gridCol w="2719440"/>
                <a:gridCol w="271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Összead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Kivon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3BFF-7CEA-4371-823D-24C99C991FFC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ittle Man Computer (LMC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c06f01"/>
          <p:cNvPicPr/>
          <p:nvPr/>
        </p:nvPicPr>
        <p:blipFill>
          <a:blip r:embed="rId1"/>
          <a:stretch/>
        </p:blipFill>
        <p:spPr>
          <a:xfrm>
            <a:off x="1066680" y="1523880"/>
            <a:ext cx="708660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050A-3713-44BD-94BA-072FC4CB03E7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7" descr="c06f01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6818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ritmetikai utasítás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6934320" y="33526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4876560" y="2590920"/>
            <a:ext cx="1066680" cy="152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934320" y="228600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ahoma"/>
              </a:rPr>
              <a:t>Össze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ahoma"/>
              </a:rPr>
              <a:t>Kivon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299A-92B0-4C00-B66B-5BAE5F887FBD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Egyszerű program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  </a:t>
            </a: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2 szám összeadá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1717560"/>
            <a:ext cx="572148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Feltételezzük, hogy az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at 90&lt; címekkel címzett postaládákba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tárolju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Írjuk meg a programot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019920" y="1752480"/>
            <a:ext cx="2819160" cy="72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Beolvassuk </a:t>
            </a:r>
            <a:br>
              <a:rPr sz="1800"/>
            </a:b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az első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6019920" y="2843280"/>
            <a:ext cx="2819160" cy="72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Eltároljuk a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019920" y="3935520"/>
            <a:ext cx="2819160" cy="72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Beolvassuk </a:t>
            </a:r>
            <a:br>
              <a:rPr sz="1800"/>
            </a:b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az második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6019920" y="4879800"/>
            <a:ext cx="2819160" cy="72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Összeadjuk a két számot</a:t>
            </a:r>
            <a:r>
              <a:rPr b="1" lang="en-US" sz="1800" spc="-1" strike="noStrike">
                <a:solidFill>
                  <a:srgbClr val="00008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6019920" y="5826240"/>
            <a:ext cx="2819160" cy="72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Kiírjuk az összeget</a:t>
            </a:r>
            <a:r>
              <a:rPr b="1" lang="en-US" sz="1800" spc="-1" strike="noStrike">
                <a:solidFill>
                  <a:srgbClr val="00008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7346880" y="2479680"/>
            <a:ext cx="0" cy="36360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>
            <a:off x="7346880" y="3570120"/>
            <a:ext cx="0" cy="36540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>
            <a:off x="7346880" y="4662360"/>
            <a:ext cx="0" cy="21456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7346880" y="5607000"/>
            <a:ext cx="0" cy="2192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6B52-6371-4A2D-BC49-A388D286AA11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Két szám összeadását végző assembly progra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57200" y="1752480"/>
          <a:ext cx="8218440" cy="4815000"/>
        </p:xfrm>
        <a:graphic>
          <a:graphicData uri="http://schemas.openxmlformats.org/drawingml/2006/table">
            <a:tbl>
              <a:tblPr/>
              <a:tblGrid>
                <a:gridCol w="1424160"/>
                <a:gridCol w="2130120"/>
                <a:gridCol w="46641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esláda címké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mbly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lső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 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Szám tárol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Második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Két szám összead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Adat rekesz a szám tárolásá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9264-DBD4-4F46-AA42-BCECB995335B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Két szám összeadását végző gépi kódú pro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752480"/>
          <a:ext cx="8218440" cy="4815000"/>
        </p:xfrm>
        <a:graphic>
          <a:graphicData uri="http://schemas.openxmlformats.org/drawingml/2006/table">
            <a:tbl>
              <a:tblPr/>
              <a:tblGrid>
                <a:gridCol w="1424160"/>
                <a:gridCol w="2131920"/>
                <a:gridCol w="46623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esláda címké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épi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lső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Szám tárol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Második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Két szám összead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Adat rekesz a szám tárolásá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49D4-AD3A-43C9-BB62-070606234106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2 szám összeadásár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Mnemonic-okat használ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1716120"/>
          <a:ext cx="8076960" cy="4991040"/>
        </p:xfrm>
        <a:graphic>
          <a:graphicData uri="http://schemas.openxmlformats.org/drawingml/2006/table">
            <a:tbl>
              <a:tblPr/>
              <a:tblGrid>
                <a:gridCol w="1981080"/>
                <a:gridCol w="2209680"/>
                <a:gridCol w="3886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talá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nem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tasítás le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 tárol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ét szám összead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4ED1-8C00-4618-9E02-53DFFECAB635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2 szám összeadásá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8360" y="1671480"/>
          <a:ext cx="8056440" cy="4424400"/>
        </p:xfrm>
        <a:graphic>
          <a:graphicData uri="http://schemas.openxmlformats.org/drawingml/2006/table">
            <a:tbl>
              <a:tblPr/>
              <a:tblGrid>
                <a:gridCol w="2014560"/>
                <a:gridCol w="966600"/>
                <a:gridCol w="5075280"/>
              </a:tblGrid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talá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tasítás le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 tárol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ét szám összead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269C-9D86-4914-90C1-3DDC13D9F51D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Program vezérlé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lágazá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o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szekvenciális utasítás-végrehajtás eltéríté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Cím megváltoztatása az utasítás-számlálób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Leáll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520" y="3048120"/>
          <a:ext cx="7924680" cy="3108240"/>
        </p:xfrm>
        <a:graphic>
          <a:graphicData uri="http://schemas.openxmlformats.org/drawingml/2006/table">
            <a:tbl>
              <a:tblPr/>
              <a:tblGrid>
                <a:gridCol w="2727360"/>
                <a:gridCol w="406080"/>
                <a:gridCol w="2395800"/>
                <a:gridCol w="2395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Műveleti</a:t>
                      </a: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perand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Z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0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-nál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P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 + -nál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COB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Leáll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igno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99B9-E836-4EFB-B02E-F67CBF413FD8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vezérlő utasításo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68360" y="1413000"/>
          <a:ext cx="8218440" cy="5259240"/>
        </p:xfrm>
        <a:graphic>
          <a:graphicData uri="http://schemas.openxmlformats.org/drawingml/2006/table">
            <a:tbl>
              <a:tblPr/>
              <a:tblGrid>
                <a:gridCol w="1574640"/>
                <a:gridCol w="2144880"/>
                <a:gridCol w="4498920"/>
              </a:tblGrid>
              <a:tr h="130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</a:t>
                      </a:r>
                      <a:br>
                        <a:rPr sz="2400"/>
                      </a:b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mbly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a számológép tartalma nulla, 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a számológép tartalma nagyobb nullánál, 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állás (Coffee brea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6DAF-B54A-4855-8D04-8D15ED1FDC68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utasításkészle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193760" y="1487520"/>
          <a:ext cx="5945400" cy="4406760"/>
        </p:xfrm>
        <a:graphic>
          <a:graphicData uri="http://schemas.openxmlformats.org/drawingml/2006/table">
            <a:tbl>
              <a:tblPr/>
              <a:tblGrid>
                <a:gridCol w="2938680"/>
                <a:gridCol w="966600"/>
                <a:gridCol w="204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Aritmetik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1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Összead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2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Kivon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Adatmozgat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3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áro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5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Betölt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6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7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 0-ná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8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 +-ná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/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Vezérlő utasítá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kávészünet</a:t>
                      </a: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BBF4-1000-480B-AF77-695A88ADAB34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oljuk ki két szám különbségének abszolút értékét (kimenet pozitív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914400" y="1657440"/>
          <a:ext cx="7772400" cy="5059440"/>
        </p:xfrm>
        <a:graphic>
          <a:graphicData uri="http://schemas.openxmlformats.org/drawingml/2006/table">
            <a:tbl>
              <a:tblPr/>
              <a:tblGrid>
                <a:gridCol w="685800"/>
                <a:gridCol w="1219320"/>
                <a:gridCol w="990360"/>
                <a:gridCol w="4876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P 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tes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6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DA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 negatí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dított sorrendben kell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tárol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tárol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AE26-814F-49FF-BA3A-AEA89E796A94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ittle Man Computer (LMC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0" y="1339920"/>
          <a:ext cx="9144000" cy="59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9920"/>
                    <a:ext cx="914400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B2D8-F396-43AA-B471-D47806483367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Utasítás-végrehajtási cikl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utasítások végrehajtása két lépésre oszthat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Fetch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 (~kikeresés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sember kideríti, hogy milyen utasítást hajtson vég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Végrehajtá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sember elvégzi az utasítás által definiált művelet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Számítógép által egy-egy utasítás végrehajtásakor elvégzett tevékenységek sorozatát </a:t>
            </a:r>
            <a:r>
              <a:rPr b="0" i="1" lang="hu-HU" sz="2800" spc="-1" strike="noStrike">
                <a:solidFill>
                  <a:srgbClr val="000000"/>
                </a:solidFill>
                <a:latin typeface="Verdana"/>
              </a:rPr>
              <a:t>utasítás végrehajtási ciklusnak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nevezzü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végrehajtott lépések ciklikusan ismétlődn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5C21-2C73-493D-9D01-C14534259AB0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tch </a:t>
            </a: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része az utasítás-végrehajtási ciklusna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4800600" y="2133720"/>
            <a:ext cx="3276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sember beolvassa a címet az utasítás helyét tároló számlálóból (utasításszámlál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4876920" y="4191120"/>
            <a:ext cx="3276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lmegy a postaládához, ami az utasítás-számlálóban tárolt értékhez tart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c06f05a"/>
          <p:cNvPicPr/>
          <p:nvPr/>
        </p:nvPicPr>
        <p:blipFill>
          <a:blip r:embed="rId1"/>
          <a:srcRect l="0" t="0" r="44547" b="32657"/>
          <a:stretch/>
        </p:blipFill>
        <p:spPr>
          <a:xfrm>
            <a:off x="1295280" y="1752480"/>
            <a:ext cx="32767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309A-8F51-4BC9-9989-0B1DBC7505B4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etch,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(foly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029200" y="1981080"/>
            <a:ext cx="327672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cetliről leolvassa postaládában tárolt a számot (visszarakja a cetlit, hátha szüksége lesz még rá későb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1066680" y="1795320"/>
            <a:ext cx="3886200" cy="26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Dia számának helye 5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FF9D-8490-49A9-A0BC-76321646D642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c06f05b"/>
          <p:cNvPicPr/>
          <p:nvPr/>
        </p:nvPicPr>
        <p:blipFill>
          <a:blip r:embed="rId1"/>
          <a:srcRect l="54090" t="22326" r="0" b="43785"/>
          <a:stretch/>
        </p:blipFill>
        <p:spPr>
          <a:xfrm>
            <a:off x="4952880" y="3747960"/>
            <a:ext cx="3657600" cy="26528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Végrehajtás része az utasítás-végrehajtási ciklusnak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7" descr="c06f05b"/>
          <p:cNvPicPr/>
          <p:nvPr/>
        </p:nvPicPr>
        <p:blipFill>
          <a:blip r:embed="rId2"/>
          <a:srcRect l="0" t="0" r="53890" b="68019"/>
          <a:stretch/>
        </p:blipFill>
        <p:spPr>
          <a:xfrm>
            <a:off x="468360" y="1754280"/>
            <a:ext cx="3867120" cy="23605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4191120" y="2438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4495680" y="1828800"/>
            <a:ext cx="3581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sember odamegy ahhoz a postaládához, ami az imént fetch-elt utasítás kódjában volt definiál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4343400"/>
            <a:ext cx="37335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olvassa a számot a postaládából (emlékezik a cserére, hátha szüksége lesz rá későb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5029200" y="42670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2"/>
          <p:cNvSpPr/>
          <p:nvPr/>
        </p:nvSpPr>
        <p:spPr>
          <a:xfrm>
            <a:off x="4876920" y="4191120"/>
            <a:ext cx="3045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ia számának helye 5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567E-494F-48BE-89B0-71E50C17146C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Végrehajtás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(foly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10" descr="c06f05b"/>
          <p:cNvPicPr/>
          <p:nvPr/>
        </p:nvPicPr>
        <p:blipFill>
          <a:blip r:embed="rId1"/>
          <a:srcRect l="0" t="43779" r="54685" b="19187"/>
          <a:stretch/>
        </p:blipFill>
        <p:spPr>
          <a:xfrm>
            <a:off x="468360" y="1413000"/>
            <a:ext cx="4110120" cy="2754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4952880" y="2133720"/>
            <a:ext cx="358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damegy a számológéphez és begépeli a szám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762120" y="4267080"/>
            <a:ext cx="43434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damegy a az utasítás helyét tároló számlálóhoz (utasításszámlálóhoz) és megnyomja (inkrementá-lja), ami után készen áll fetch-elni a következő utasítá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4724280" y="4952880"/>
            <a:ext cx="38124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2" descr="c06f05b"/>
          <p:cNvPicPr/>
          <p:nvPr/>
        </p:nvPicPr>
        <p:blipFill>
          <a:blip r:embed="rId2"/>
          <a:srcRect l="54000" t="65922" r="0" b="0"/>
          <a:stretch/>
        </p:blipFill>
        <p:spPr>
          <a:xfrm>
            <a:off x="4952880" y="3630600"/>
            <a:ext cx="3962520" cy="2577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4"/>
          <p:cNvSpPr/>
          <p:nvPr/>
        </p:nvSpPr>
        <p:spPr>
          <a:xfrm>
            <a:off x="4952880" y="51814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ia számának helye 5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B4D3-811E-4CE7-806B-0EA4D98B4C41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ostalád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cí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é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tartalo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56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ostaláda adatok tárolására szolgá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ok elérése a postaláda cím alapjá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postaláda címek egymást követ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00…99 (100 db rekesz v. leveleslád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postaláda tartalma (3 számjegy) leh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 va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743200" y="4648320"/>
          <a:ext cx="4027320" cy="1554120"/>
        </p:xfrm>
        <a:graphic>
          <a:graphicData uri="http://schemas.openxmlformats.org/drawingml/2006/table">
            <a:tbl>
              <a:tblPr/>
              <a:tblGrid>
                <a:gridCol w="2014560"/>
                <a:gridCol w="2012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Cí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2064-2923-458C-AE01-6D3A3064F290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elemei I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Bemeneti és kimeneti kosá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LM bele tehet vagy kivehet egy 3 jegyű számot tartalmazó cetl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láló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0 és 99 között tud számol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edá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egnyomására a számlálóban tárolt szám értéke eggyel megnöveksz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Értéket nullára állíthatjuk egy külső ún. „reset” (beállító) gombbal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851F-D9A4-464D-8EAF-1CBCAD47B364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elemei II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ológé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három számjegyű decimális számokat tud kezeln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Kép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vonni é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összeadni, valami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begépelt vagy a számítás eredményeként kapott értéket eltárol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2431-DEC4-4285-8A9E-06D8754066C1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modell határa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Nem foglalkozunk vele, hogy hogyan történik, feltételezzük, hogy rendelkezésre ál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rogram betöltése a memóriáb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atok belehelyezése a bemeneti kosárba („In Basket”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DEB3-C7B1-4AE6-9E4D-B9929F50CE2E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Utasításo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LM képes utasításokat végrehajtan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Utasítások sorozatát működés előtt elkészítjük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z utasításokat különböző csoportokba oszthatjuk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ritmetikai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at mozgató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input/output (be-/kimeneti) 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vezérlő utasításo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ia számának helye 4"/>
          <p:cNvSpPr/>
          <p:nvPr/>
        </p:nvSpPr>
        <p:spPr>
          <a:xfrm>
            <a:off x="7956720" y="6381720"/>
            <a:ext cx="1054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0F1B-5E72-472B-A1ED-858CB617443D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Utasítások tárolás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Verdana"/>
              </a:rPr>
              <a:t>Gépi kód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utasításokhoz rendelt kó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zeket az utasításkódokat valós számítógépekben a processzor közvetlenül tudja értelmezni és végrehajt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 gépi kódú utasítások az LMC esetén háromjegyű decimális számo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3:43:27Z</dcterms:created>
  <dc:creator>Linda Senne</dc:creator>
  <dc:description/>
  <dc:language>en-US</dc:language>
  <cp:lastModifiedBy>Dave</cp:lastModifiedBy>
  <dcterms:modified xsi:type="dcterms:W3CDTF">2014-05-10T04:58:30Z</dcterms:modified>
  <cp:revision>77</cp:revision>
  <dc:subject/>
  <dc:title>CHAPTER 1: Computer Systems</dc:title>
</cp:coreProperties>
</file>