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jpeg" ContentType="image/jpeg"/>
  <Override PartName="/ppt/media/image5.wmf" ContentType="image/x-wmf"/>
  <Override PartName="/ppt/media/image7.jpeg" ContentType="image/jpeg"/>
  <Override PartName="/ppt/media/image6.wmf" ContentType="image/x-wmf"/>
  <Override PartName="/ppt/media/image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015E38-F875-443C-9E88-4E2C170E0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68360" y="5904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821844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8000" y="3739320"/>
            <a:ext cx="821844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F00E58-8875-4ABE-85B1-8C8D5E197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5904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4010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9280" y="1412640"/>
            <a:ext cx="4010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68000" y="3739320"/>
            <a:ext cx="4010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9280" y="3739320"/>
            <a:ext cx="4010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8FFCE1-D987-4F14-A3D5-B29AB8B65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5904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26460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46840" y="1412640"/>
            <a:ext cx="26460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5320" y="1412640"/>
            <a:ext cx="26460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68000" y="3739320"/>
            <a:ext cx="26460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46840" y="3739320"/>
            <a:ext cx="26460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5320" y="3739320"/>
            <a:ext cx="26460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6C7E59-280E-4EB3-BFCF-67A207D28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5904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68000" y="1412640"/>
            <a:ext cx="821844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5904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821844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5904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4010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9280" y="1412640"/>
            <a:ext cx="4010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5904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68360" y="620640"/>
            <a:ext cx="822960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5904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4010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9280" y="1412640"/>
            <a:ext cx="4010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8000" y="3739320"/>
            <a:ext cx="4010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8360" y="5904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68000" y="1412640"/>
            <a:ext cx="821844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18FBC8-9CD3-407F-935B-513727C26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5904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4010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9280" y="1412640"/>
            <a:ext cx="4010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9280" y="3739320"/>
            <a:ext cx="4010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5904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4010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9280" y="1412640"/>
            <a:ext cx="4010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8000" y="3739320"/>
            <a:ext cx="821844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5904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821844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000" y="3739320"/>
            <a:ext cx="821844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5904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4010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9280" y="1412640"/>
            <a:ext cx="4010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8000" y="3739320"/>
            <a:ext cx="4010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9280" y="3739320"/>
            <a:ext cx="4010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5904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26460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46840" y="1412640"/>
            <a:ext cx="26460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5320" y="1412640"/>
            <a:ext cx="26460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8000" y="3739320"/>
            <a:ext cx="26460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46840" y="3739320"/>
            <a:ext cx="26460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5320" y="3739320"/>
            <a:ext cx="26460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E791F3B-4BED-46D1-BC46-D2DA0592B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5904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68000" y="1412640"/>
            <a:ext cx="821844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C22D484-DFFF-420E-B443-9300E88D3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5904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821844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6FED301-D312-423D-8C39-305167E06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5904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4010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9280" y="1412640"/>
            <a:ext cx="4010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310F096-7CA1-494D-8F4A-2CBE7DEC2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5904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14B6EF3-9089-474D-B88D-217BDE454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5904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821844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86A5FC-9227-45BD-8BBD-B7F719C41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68360" y="620640"/>
            <a:ext cx="822960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CBE2BBD-5ADF-4443-AC0B-7C0C5A92B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5904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4010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9280" y="1412640"/>
            <a:ext cx="4010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8000" y="3739320"/>
            <a:ext cx="4010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EBCE15B-BCB8-4B20-8896-A3A15B7E5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5904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4010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9280" y="1412640"/>
            <a:ext cx="4010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9280" y="3739320"/>
            <a:ext cx="4010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BCB81BF-018D-46D8-ADC5-D21DEB83B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5904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4010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9280" y="1412640"/>
            <a:ext cx="4010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8000" y="3739320"/>
            <a:ext cx="821844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1DB07FB-AF1C-4C61-B098-42812114C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5904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821844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8000" y="3739320"/>
            <a:ext cx="821844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648A330-9142-4F8B-98FE-FE0F71D17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5904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4010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9280" y="1412640"/>
            <a:ext cx="4010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8000" y="3739320"/>
            <a:ext cx="4010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9280" y="3739320"/>
            <a:ext cx="4010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028153B-C9F5-4F21-93A3-15ECF6E93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5904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26460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46840" y="1412640"/>
            <a:ext cx="26460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5320" y="1412640"/>
            <a:ext cx="26460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8000" y="3739320"/>
            <a:ext cx="26460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46840" y="3739320"/>
            <a:ext cx="26460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5320" y="3739320"/>
            <a:ext cx="26460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BAF7699-51B2-408C-BCA8-BF30E7374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360" y="5904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468000" y="1412640"/>
            <a:ext cx="821844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5904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821844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68360" y="5904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4010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9280" y="1412640"/>
            <a:ext cx="4010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67515B-06F1-4879-B56A-579621D59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360" y="5904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4010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9280" y="1412640"/>
            <a:ext cx="4010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8360" y="5904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468360" y="620640"/>
            <a:ext cx="822960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360" y="5904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4010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9280" y="1412640"/>
            <a:ext cx="4010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8000" y="3739320"/>
            <a:ext cx="4010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68360" y="5904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4010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9280" y="1412640"/>
            <a:ext cx="4010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679280" y="3739320"/>
            <a:ext cx="4010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5904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4010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9280" y="1412640"/>
            <a:ext cx="4010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8000" y="3739320"/>
            <a:ext cx="821844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8360" y="5904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821844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8000" y="3739320"/>
            <a:ext cx="821844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5904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4010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9280" y="1412640"/>
            <a:ext cx="4010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8000" y="3739320"/>
            <a:ext cx="4010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679280" y="3739320"/>
            <a:ext cx="4010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5904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26460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246840" y="1412640"/>
            <a:ext cx="26460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025320" y="1412640"/>
            <a:ext cx="26460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8000" y="3739320"/>
            <a:ext cx="26460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246840" y="3739320"/>
            <a:ext cx="26460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6025320" y="3739320"/>
            <a:ext cx="26460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68360" y="5904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67A07A-D882-4B1B-B2BE-110E1EB5C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68360" y="620640"/>
            <a:ext cx="822960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703F91-3201-45B7-B235-5F28DD462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5904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4010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9280" y="1412640"/>
            <a:ext cx="4010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8000" y="3739320"/>
            <a:ext cx="4010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55579E-A974-45BC-98C7-DE7B55528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5904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4010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9280" y="1412640"/>
            <a:ext cx="4010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9280" y="3739320"/>
            <a:ext cx="4010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DDE665-0BC2-40D5-8DC3-7CBEC9375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5904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4010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9280" y="1412640"/>
            <a:ext cx="4010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8000" y="3739320"/>
            <a:ext cx="821844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A56072-7CCE-414A-9CEE-BA6F2513C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419280" y="6237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56720" y="6381360"/>
            <a:ext cx="1054080" cy="3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B8ADE-B9A6-4D88-88D3-5B57AFA1CF1E}" type="slidenum">
              <a:rPr b="0" lang="hu-HU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bc8d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b57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bbc8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bbc8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bbc8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b57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68000" y="1412640"/>
            <a:ext cx="821844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b577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b577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b577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610920" y="6381720"/>
            <a:ext cx="136836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6407280" y="11592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3366"/>
                </a:solidFill>
                <a:latin typeface="Times New Roman"/>
              </a:rPr>
              <a:t>Széchenyi István Egye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" name="" descr=""/>
          <p:cNvPicPr/>
          <p:nvPr/>
        </p:nvPicPr>
        <p:blipFill>
          <a:blip r:embed="rId2"/>
          <a:stretch/>
        </p:blipFill>
        <p:spPr>
          <a:xfrm>
            <a:off x="108000" y="6308640"/>
            <a:ext cx="396720" cy="478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ftr" idx="4"/>
          </p:nvPr>
        </p:nvSpPr>
        <p:spPr>
          <a:xfrm>
            <a:off x="6084720" y="5877000"/>
            <a:ext cx="289584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3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5"/>
          </p:nvPr>
        </p:nvSpPr>
        <p:spPr>
          <a:xfrm>
            <a:off x="1835280" y="6021360"/>
            <a:ext cx="208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ftr" idx="6"/>
          </p:nvPr>
        </p:nvSpPr>
        <p:spPr>
          <a:xfrm>
            <a:off x="3419280" y="6237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ldNum" idx="7"/>
          </p:nvPr>
        </p:nvSpPr>
        <p:spPr>
          <a:xfrm>
            <a:off x="7956720" y="6381360"/>
            <a:ext cx="1054080" cy="3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A1DC6-0162-4569-B7E5-70D0AB6DD451}" type="slidenum">
              <a:rPr b="0" lang="hu-HU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95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bc8d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b57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bbc8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bbc8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bbc8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b57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PlaceHolder 3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body"/>
          </p:nvPr>
        </p:nvSpPr>
        <p:spPr>
          <a:xfrm>
            <a:off x="468000" y="1412640"/>
            <a:ext cx="821844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b577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b577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b577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dt" idx="8"/>
          </p:nvPr>
        </p:nvSpPr>
        <p:spPr>
          <a:xfrm>
            <a:off x="610920" y="6381720"/>
            <a:ext cx="136836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407280" y="11592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3366"/>
                </a:solidFill>
                <a:latin typeface="Times New Roman"/>
              </a:rPr>
              <a:t>Széchenyi István Egye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08000" y="6308640"/>
            <a:ext cx="396720" cy="478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ftr" idx="9"/>
          </p:nvPr>
        </p:nvSpPr>
        <p:spPr>
          <a:xfrm>
            <a:off x="6084720" y="5877000"/>
            <a:ext cx="289584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3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1835280" y="6021360"/>
            <a:ext cx="208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b5775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0000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b5775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5000" spc="-1" strike="noStrike">
                <a:solidFill>
                  <a:srgbClr val="000000"/>
                </a:solidFill>
                <a:latin typeface="Georgia"/>
              </a:rPr>
              <a:t>1. Fejezet</a:t>
            </a:r>
            <a:r>
              <a:rPr b="0" lang="en-US" sz="5000" spc="-1" strike="noStrike">
                <a:solidFill>
                  <a:srgbClr val="000000"/>
                </a:solidFill>
                <a:latin typeface="Georgia"/>
              </a:rPr>
              <a:t>:</a:t>
            </a:r>
            <a:br>
              <a:rPr sz="5000"/>
            </a:br>
            <a:r>
              <a:rPr b="0" lang="hu-HU" sz="5000" spc="-1" strike="noStrike">
                <a:solidFill>
                  <a:srgbClr val="000000"/>
                </a:solidFill>
                <a:latin typeface="Georgia"/>
              </a:rPr>
              <a:t>Számítógép rendszerek</a:t>
            </a:r>
            <a:endParaRPr b="0" lang="en-US" sz="5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2971800" y="4267080"/>
            <a:ext cx="6019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Verdana"/>
              </a:rPr>
              <a:t>The Architecture of Computer Hardware and Systems Software: </a:t>
            </a:r>
            <a:br>
              <a:rPr sz="2000"/>
            </a:br>
            <a:r>
              <a:rPr b="0" lang="hu-HU" sz="1800" spc="-1" strike="noStrike">
                <a:solidFill>
                  <a:srgbClr val="000000"/>
                </a:solidFill>
                <a:latin typeface="Verdana"/>
              </a:rPr>
              <a:t>An Information Technology Approach</a:t>
            </a:r>
            <a:r>
              <a:rPr b="0" lang="hu-HU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9f11"/>
                </a:solidFill>
                <a:latin typeface="Verdana"/>
              </a:rPr>
              <a:t>3. kiadás</a:t>
            </a:r>
            <a:r>
              <a:rPr b="0" lang="en-US" sz="1800" spc="-1" strike="noStrike">
                <a:solidFill>
                  <a:srgbClr val="ff9f11"/>
                </a:solidFill>
                <a:latin typeface="Verdana"/>
              </a:rPr>
              <a:t>, Irv England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f11"/>
                </a:solidFill>
                <a:latin typeface="Verdana"/>
              </a:rPr>
              <a:t>John Wiley and Sons </a:t>
            </a:r>
            <a:r>
              <a:rPr b="0" lang="en-US" sz="1800" spc="-1" strike="noStrike">
                <a:solidFill>
                  <a:srgbClr val="ff9f11"/>
                </a:solidFill>
                <a:latin typeface="Symbol"/>
                <a:ea typeface="Symbol"/>
              </a:rPr>
              <a:t></a:t>
            </a:r>
            <a:r>
              <a:rPr b="0" lang="en-US" sz="1800" spc="-1" strike="noStrike">
                <a:solidFill>
                  <a:srgbClr val="ff9f11"/>
                </a:solidFill>
                <a:latin typeface="Verdana"/>
              </a:rPr>
              <a:t>200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9f11"/>
                </a:solidFill>
                <a:latin typeface="Verdana"/>
              </a:rPr>
              <a:t>alapjá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PU: </a:t>
            </a:r>
            <a:r>
              <a:rPr b="0" lang="hu-HU" sz="4000" spc="-1" strike="noStrike">
                <a:solidFill>
                  <a:srgbClr val="000000"/>
                </a:solidFill>
                <a:latin typeface="Verdana"/>
              </a:rPr>
              <a:t>Központi feldolgozó egység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821844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b577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U: arithmetic/logic uni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Verdana"/>
              </a:rPr>
              <a:t>Aritmetikai és Bool logikai számítások végrehajtás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b577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U: control uni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Verdana"/>
              </a:rPr>
              <a:t>Utasítások végrehajtásának irányítás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Verdana"/>
              </a:rPr>
              <a:t>Adatok mozgatásának irányítása a CPU-ba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b577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terface uni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Verdana"/>
              </a:rPr>
              <a:t>Utasítások és adatok továbbítása a CPU és más hardver egységek közöt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Verdana"/>
              </a:rPr>
              <a:t>Bus (Sin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hu-HU" sz="2400" spc="-1" strike="noStrike">
                <a:solidFill>
                  <a:srgbClr val="000000"/>
                </a:solidFill>
                <a:latin typeface="Verdana"/>
              </a:rPr>
              <a:t>kábelköteg, amely képe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Verdana"/>
              </a:rPr>
              <a:t>jeleket és tápfeszültséget szállítani a számítógép különböző elemei közöt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9A7504D-B79C-4023-96E9-B3719A403F3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Verdana"/>
              </a:rPr>
              <a:t>Memória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821844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b577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Verdana"/>
              </a:rPr>
              <a:t>Alternatív elnevezések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000080"/>
                </a:solidFill>
                <a:latin typeface="Verdana"/>
              </a:rPr>
              <a:t>elsődleges tároló-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hu-HU" sz="2400" spc="-1" strike="noStrike">
                <a:solidFill>
                  <a:srgbClr val="000000"/>
                </a:solidFill>
                <a:latin typeface="Verdana"/>
              </a:rPr>
              <a:t>munkatároló-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en-US" sz="2400" spc="-1" strike="noStrike">
                <a:solidFill>
                  <a:srgbClr val="000080"/>
                </a:solidFill>
                <a:latin typeface="Verdana"/>
              </a:rPr>
              <a:t>RAM</a:t>
            </a:r>
            <a:r>
              <a:rPr b="0" i="1" lang="hu-HU" sz="2400" spc="-1" strike="noStrike">
                <a:solidFill>
                  <a:srgbClr val="000080"/>
                </a:solidFill>
                <a:latin typeface="Verdana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400" spc="-1" strike="noStrike">
                <a:solidFill>
                  <a:srgbClr val="000080"/>
                </a:solidFill>
                <a:latin typeface="Verdana"/>
              </a:rPr>
              <a:t>(random access memory</a:t>
            </a:r>
            <a:r>
              <a:rPr b="0" i="1" lang="hu-HU" sz="2400" spc="-1" strike="noStrike">
                <a:solidFill>
                  <a:srgbClr val="000080"/>
                </a:solidFill>
                <a:latin typeface="Verdana"/>
              </a:rPr>
              <a:t>/véletlen hozzáférésű memória</a:t>
            </a:r>
            <a:r>
              <a:rPr b="0" i="1" lang="en-US" sz="2400" spc="-1" strike="noStrike">
                <a:solidFill>
                  <a:srgbClr val="00008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b577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Verdana"/>
              </a:rPr>
              <a:t>Bitekből áll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hu-HU" sz="2800" spc="-1" strike="noStrike">
                <a:solidFill>
                  <a:srgbClr val="000000"/>
                </a:solidFill>
                <a:latin typeface="Verdana"/>
              </a:rPr>
              <a:t> biteket tárol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Verdana"/>
              </a:rPr>
              <a:t>mindegyik felveheti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0 </a:t>
            </a:r>
            <a:r>
              <a:rPr b="0" lang="hu-HU" sz="2400" spc="-1" strike="noStrike">
                <a:solidFill>
                  <a:srgbClr val="000000"/>
                </a:solidFill>
                <a:latin typeface="Verdana"/>
              </a:rPr>
              <a:t>vag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1 </a:t>
            </a:r>
            <a:r>
              <a:rPr b="0" lang="hu-HU" sz="2400" spc="-1" strike="noStrike">
                <a:solidFill>
                  <a:srgbClr val="000000"/>
                </a:solidFill>
                <a:latin typeface="Verdana"/>
              </a:rPr>
              <a:t>értéket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8 bit = 1 by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b577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Verdana"/>
              </a:rPr>
              <a:t>Tárolja a számítógép által végrehajtott  utasításokat (számítógép program) és az általa feldolgozott adatokat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000080"/>
                </a:solidFill>
                <a:latin typeface="Verdana"/>
              </a:rPr>
              <a:t>Neumann János: tárolt program elve (</a:t>
            </a:r>
            <a:r>
              <a:rPr b="0" i="1" lang="en-US" sz="2400" spc="-1" strike="noStrike">
                <a:solidFill>
                  <a:srgbClr val="000080"/>
                </a:solidFill>
                <a:latin typeface="Verdana"/>
              </a:rPr>
              <a:t>stored program concept</a:t>
            </a:r>
            <a:r>
              <a:rPr b="0" i="1" lang="hu-HU" sz="2400" spc="-1" strike="noStrike">
                <a:solidFill>
                  <a:srgbClr val="00008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E34D735-4B0F-42E4-9E41-B62DC2EA154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Verdana"/>
              </a:rPr>
              <a:t>Szoftver elemek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14040" y="1523520"/>
            <a:ext cx="38098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b577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Verdana"/>
              </a:rPr>
              <a:t>Alkalmazáso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b577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000080"/>
                </a:solidFill>
                <a:latin typeface="Verdana"/>
              </a:rPr>
              <a:t>Operációs rendsz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Verdana"/>
              </a:rPr>
              <a:t>Felhasználói felüle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Verdana"/>
              </a:rPr>
              <a:t>API: application programming interface (programozói interfész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b5775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Verdana"/>
              </a:rPr>
              <a:t>Alkalmazások által használható hívások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Verdana"/>
              </a:rPr>
              <a:t>Fájl kezelé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Verdana"/>
              </a:rPr>
              <a:t>I/O vezérlő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Verdana"/>
              </a:rPr>
              <a:t>Kernel (mag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b5775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Verdana"/>
              </a:rPr>
              <a:t>Memória kezelé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b5775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Verdana"/>
              </a:rPr>
              <a:t>Erőforrás ütemezé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b5775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Verdana"/>
              </a:rPr>
              <a:t>Program kommunikáció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b5775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Verdana"/>
              </a:rPr>
              <a:t>Biztonsá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Verdana"/>
              </a:rPr>
              <a:t>Hálózati modu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4114800" y="2133720"/>
            <a:ext cx="11430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5181480" y="1600200"/>
          <a:ext cx="3683160" cy="480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1480" y="1600200"/>
                    <a:ext cx="368316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851FFF1-24EB-4D75-8BCB-9709AA0F138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Verdana"/>
              </a:rPr>
              <a:t>Kommunikációs elemek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821844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b577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ard</a:t>
            </a:r>
            <a:r>
              <a:rPr b="0" lang="hu-HU" sz="2800" spc="-1" strike="noStrike">
                <a:solidFill>
                  <a:srgbClr val="000000"/>
                </a:solidFill>
                <a:latin typeface="Verdana"/>
              </a:rPr>
              <a:t>v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Verdana"/>
              </a:rPr>
              <a:t>Kommunikáció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hu-HU" sz="2400" spc="-1" strike="noStrike">
                <a:solidFill>
                  <a:srgbClr val="000080"/>
                </a:solidFill>
                <a:latin typeface="Verdana"/>
              </a:rPr>
              <a:t>csatorná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b5775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Verdana"/>
              </a:rPr>
              <a:t>Fizikai kapcsolatok számítógépes rendszerek közöt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b5775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Verdana"/>
              </a:rPr>
              <a:t>Például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hu-HU" sz="2200" spc="-1" strike="noStrike">
                <a:solidFill>
                  <a:srgbClr val="000000"/>
                </a:solidFill>
                <a:latin typeface="Verdana"/>
              </a:rPr>
              <a:t>vezeték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hu-HU" sz="2200" spc="-1" strike="noStrike">
                <a:solidFill>
                  <a:srgbClr val="000000"/>
                </a:solidFill>
                <a:latin typeface="Verdana"/>
              </a:rPr>
              <a:t>telefon vonal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hu-HU" sz="2200" spc="-1" strike="noStrike">
                <a:solidFill>
                  <a:srgbClr val="000000"/>
                </a:solidFill>
                <a:latin typeface="Verdana"/>
              </a:rPr>
              <a:t>optikai kábel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, infra</a:t>
            </a:r>
            <a:r>
              <a:rPr b="0" lang="hu-HU" sz="2200" spc="-1" strike="noStrike">
                <a:solidFill>
                  <a:srgbClr val="000000"/>
                </a:solidFill>
                <a:latin typeface="Verdana"/>
              </a:rPr>
              <a:t>vörös fény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, r</a:t>
            </a:r>
            <a:r>
              <a:rPr b="0" lang="hu-HU" sz="2200" spc="-1" strike="noStrike">
                <a:solidFill>
                  <a:srgbClr val="000000"/>
                </a:solidFill>
                <a:latin typeface="Verdana"/>
              </a:rPr>
              <a:t>á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i</a:t>
            </a:r>
            <a:r>
              <a:rPr b="0" lang="hu-HU" sz="2200" spc="-1" strike="noStrike">
                <a:solidFill>
                  <a:srgbClr val="000000"/>
                </a:solidFill>
                <a:latin typeface="Verdana"/>
              </a:rPr>
              <a:t>ó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Verdana"/>
              </a:rPr>
              <a:t>hullámok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terf</a:t>
            </a:r>
            <a:r>
              <a:rPr b="0" lang="hu-HU" sz="2400" spc="-1" strike="noStrike">
                <a:solidFill>
                  <a:srgbClr val="000000"/>
                </a:solidFill>
                <a:latin typeface="Verdana"/>
              </a:rPr>
              <a:t>ész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hard</a:t>
            </a:r>
            <a:r>
              <a:rPr b="0" lang="hu-HU" sz="2400" spc="-1" strike="noStrike">
                <a:solidFill>
                  <a:srgbClr val="000000"/>
                </a:solidFill>
                <a:latin typeface="Verdana"/>
              </a:rPr>
              <a:t>v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b5775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Verdana"/>
              </a:rPr>
              <a:t>Közvetlen kommunikáció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Verdana"/>
              </a:rPr>
              <a:t>a számítógép és a kommunikációs csatorna közöt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b5775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80"/>
                </a:solidFill>
                <a:latin typeface="Verdana"/>
              </a:rPr>
              <a:t>Modem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Verdana"/>
              </a:rPr>
              <a:t>vagy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hu-HU" sz="2200" spc="-1" strike="noStrike">
                <a:solidFill>
                  <a:srgbClr val="000080"/>
                </a:solidFill>
                <a:latin typeface="Verdana"/>
              </a:rPr>
              <a:t>hálózati kártya (n</a:t>
            </a:r>
            <a:r>
              <a:rPr b="0" i="1" lang="en-US" sz="2200" spc="-1" strike="noStrike">
                <a:solidFill>
                  <a:srgbClr val="000080"/>
                </a:solidFill>
                <a:latin typeface="Verdana"/>
              </a:rPr>
              <a:t>etwork interface card (NIC)</a:t>
            </a:r>
            <a:r>
              <a:rPr b="0" i="1" lang="hu-HU" sz="2200" spc="-1" strike="noStrike">
                <a:solidFill>
                  <a:srgbClr val="000080"/>
                </a:solidFill>
                <a:latin typeface="Verdan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b577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hu-HU" sz="2800" spc="-1" strike="noStrike">
                <a:solidFill>
                  <a:srgbClr val="000000"/>
                </a:solidFill>
                <a:latin typeface="Verdana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ft</a:t>
            </a:r>
            <a:r>
              <a:rPr b="0" lang="hu-HU" sz="2800" spc="-1" strike="noStrike">
                <a:solidFill>
                  <a:srgbClr val="000000"/>
                </a:solidFill>
                <a:latin typeface="Verdana"/>
              </a:rPr>
              <a:t>v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Verdana"/>
              </a:rPr>
              <a:t>Hálózati protokollok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HTTP, TCP/IP, ATAP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0AB2FA1-5B47-4638-8B85-7542520C0CC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Verdana"/>
              </a:rPr>
              <a:t>Számítógép rendszerek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821844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b577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Verdana"/>
              </a:rPr>
              <a:t>Minden számítógéprendszer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hu-HU" sz="2800" spc="-1" strike="noStrike">
                <a:solidFill>
                  <a:srgbClr val="000000"/>
                </a:solidFill>
                <a:latin typeface="Verdana"/>
              </a:rPr>
              <a:t>bonyolultságától eltekintve tartalmazza a következőke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Verdana"/>
              </a:rPr>
              <a:t>Legalább egy CP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Verdana"/>
              </a:rPr>
              <a:t>Memória a programok és adatok tárolásár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/O </a:t>
            </a:r>
            <a:r>
              <a:rPr b="0" lang="hu-HU" sz="2400" spc="-1" strike="noStrike">
                <a:solidFill>
                  <a:srgbClr val="000000"/>
                </a:solidFill>
                <a:latin typeface="Verdana"/>
              </a:rPr>
              <a:t>eszközö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Verdana"/>
              </a:rPr>
              <a:t>Hosszútávú adattárolásra szolgáló tároló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DC11580-13C2-48AC-94F4-E40D03B5FF6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Verdana"/>
              </a:rPr>
              <a:t>Protokollok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821844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b577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Verdana"/>
              </a:rPr>
              <a:t>Közös szabályok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hu-HU" sz="3200" spc="-1" strike="noStrike">
                <a:solidFill>
                  <a:srgbClr val="000000"/>
                </a:solidFill>
                <a:latin typeface="Verdana"/>
              </a:rPr>
              <a:t>számítógépek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, I/O </a:t>
            </a:r>
            <a:r>
              <a:rPr b="0" lang="hu-HU" sz="3200" spc="-1" strike="noStrike">
                <a:solidFill>
                  <a:srgbClr val="000000"/>
                </a:solidFill>
                <a:latin typeface="Verdana"/>
              </a:rPr>
              <a:t>eszközök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hu-HU" sz="3200" spc="-1" strike="noStrike">
                <a:solidFill>
                  <a:srgbClr val="000000"/>
                </a:solidFill>
                <a:latin typeface="Verdana"/>
              </a:rPr>
              <a:t>és szoftverek közötti kommunikációr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b577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Verdana"/>
              </a:rPr>
              <a:t>Példá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TTP: </a:t>
            </a:r>
            <a:r>
              <a:rPr b="0" lang="hu-HU" sz="2800" spc="-1" strike="noStrike">
                <a:solidFill>
                  <a:srgbClr val="000000"/>
                </a:solidFill>
                <a:latin typeface="Verdana"/>
              </a:rPr>
              <a:t>Web szerver és Web böngésző közöt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CP/IP: </a:t>
            </a:r>
            <a:r>
              <a:rPr b="0" lang="hu-HU" sz="2800" spc="-1" strike="noStrike">
                <a:solidFill>
                  <a:srgbClr val="000000"/>
                </a:solidFill>
                <a:latin typeface="Verdana"/>
              </a:rPr>
              <a:t>interneten lévő számítógépek és helyi hálózatok közöt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API: </a:t>
            </a:r>
            <a:r>
              <a:rPr b="0" lang="hu-HU" sz="2800" spc="-1" strike="noStrike">
                <a:solidFill>
                  <a:srgbClr val="000000"/>
                </a:solidFill>
                <a:latin typeface="Verdana"/>
              </a:rPr>
              <a:t>CPU és CD meghajtó közöt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6D907D5-F24B-4333-A6A7-A769A4DEB52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Verdana"/>
              </a:rPr>
              <a:t>Szabványok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821844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b577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900" spc="-1" strike="noStrike">
                <a:solidFill>
                  <a:srgbClr val="000000"/>
                </a:solidFill>
                <a:latin typeface="Verdana"/>
              </a:rPr>
              <a:t>Univerzális adat formátum- és protokoll kompatibilitást biztosítanak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b577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900" spc="-1" strike="noStrike">
                <a:solidFill>
                  <a:srgbClr val="000000"/>
                </a:solidFill>
                <a:latin typeface="Verdana"/>
              </a:rPr>
              <a:t>Vagy a szabadalmi hivatal hozta létre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hu-HU" sz="2900" spc="-1" strike="noStrike">
                <a:solidFill>
                  <a:srgbClr val="000000"/>
                </a:solidFill>
                <a:latin typeface="Verdana"/>
              </a:rPr>
              <a:t>vagy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hu-HU" sz="2900" spc="-1" strike="noStrike">
                <a:solidFill>
                  <a:srgbClr val="000000"/>
                </a:solidFill>
                <a:latin typeface="Verdana"/>
              </a:rPr>
              <a:t>tényleges szabvánnyá vált a nagymértékű használat miat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b577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900" spc="-1" strike="noStrike">
                <a:solidFill>
                  <a:srgbClr val="000000"/>
                </a:solidFill>
                <a:latin typeface="Verdana"/>
              </a:rPr>
              <a:t>Példák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Verdana"/>
              </a:rPr>
              <a:t>Számítógép nyelvek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Java, SQL, C, JavaScrip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Verdana"/>
              </a:rPr>
              <a:t>Megjelenítési szabványok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Postscript, MPEG-2, JPEG, GIF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Verdana"/>
              </a:rPr>
              <a:t>Karakterkiosztás szabványok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ASCII, Unicode, EBCDI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ideo </a:t>
            </a:r>
            <a:r>
              <a:rPr b="0" lang="hu-HU" sz="2000" spc="-1" strike="noStrike">
                <a:solidFill>
                  <a:srgbClr val="000000"/>
                </a:solidFill>
                <a:latin typeface="Verdana"/>
              </a:rPr>
              <a:t>szabványok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VGA, XGA, RGB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AA472AD-D156-4289-B693-9BF9D1C8895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Verdana"/>
              </a:rPr>
              <a:t>Korai történelem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821844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b577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642: Blaise Pascal </a:t>
            </a:r>
            <a:r>
              <a:rPr b="0" lang="hu-HU" sz="2800" spc="-1" strike="noStrike">
                <a:solidFill>
                  <a:srgbClr val="000000"/>
                </a:solidFill>
                <a:latin typeface="Verdana"/>
              </a:rPr>
              <a:t>feltalálta a számológépe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b577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801: Joseph Marie Jacquard </a:t>
            </a:r>
            <a:r>
              <a:rPr b="0" lang="hu-HU" sz="2800" spc="-1" strike="noStrike">
                <a:solidFill>
                  <a:srgbClr val="000000"/>
                </a:solidFill>
                <a:latin typeface="Verdana"/>
              </a:rPr>
              <a:t>megalkotot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hu-HU" sz="2800" spc="-1" strike="noStrike">
                <a:solidFill>
                  <a:srgbClr val="000000"/>
                </a:solidFill>
                <a:latin typeface="Verdana"/>
              </a:rPr>
              <a:t>egy szövőszéket, ami lyukkártyákat használ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b577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800</a:t>
            </a:r>
            <a:r>
              <a:rPr b="0" lang="hu-HU" sz="2800" spc="-1" strike="noStrike">
                <a:solidFill>
                  <a:srgbClr val="000000"/>
                </a:solidFill>
                <a:latin typeface="Verdana"/>
              </a:rPr>
              <a:t> -as évek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Verdana"/>
              </a:rPr>
              <a:t>Charles Babbage megkísérelt építeni egy analitikus gépet (mechanikai számítógép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ugusta Ada Byron </a:t>
            </a:r>
            <a:r>
              <a:rPr b="0" lang="hu-HU" sz="2400" spc="-1" strike="noStrike">
                <a:solidFill>
                  <a:srgbClr val="000000"/>
                </a:solidFill>
                <a:latin typeface="Verdana"/>
              </a:rPr>
              <a:t>megalkotott sok alapvető  programozási fogal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eorge Boole </a:t>
            </a:r>
            <a:r>
              <a:rPr b="0" lang="hu-HU" sz="2400" spc="-1" strike="noStrike">
                <a:solidFill>
                  <a:srgbClr val="000000"/>
                </a:solidFill>
                <a:latin typeface="Verdana"/>
              </a:rPr>
              <a:t>megalkotta a Bool logiká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AC141F5-1A89-4520-9100-95D70543549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Modern </a:t>
            </a:r>
            <a:r>
              <a:rPr b="0" lang="hu-HU" sz="4000" spc="-1" strike="noStrike">
                <a:solidFill>
                  <a:srgbClr val="000000"/>
                </a:solidFill>
                <a:latin typeface="Verdana"/>
              </a:rPr>
              <a:t>Számítógép fejleszté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821844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0b577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937: Mark I </a:t>
            </a:r>
            <a:r>
              <a:rPr b="0" lang="hu-HU" sz="2400" spc="-1" strike="noStrike">
                <a:solidFill>
                  <a:srgbClr val="000000"/>
                </a:solidFill>
                <a:latin typeface="Verdana"/>
              </a:rPr>
              <a:t>elkészül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(Aiken, Harvard University, IBM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53760" indent="-251280">
              <a:lnSpc>
                <a:spcPct val="80000"/>
              </a:lnSpc>
              <a:spcBef>
                <a:spcPts val="499"/>
              </a:spcBef>
              <a:buClr>
                <a:srgbClr val="99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Verdana"/>
              </a:rPr>
              <a:t>Első elektronikus számítógép reléket használv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0b577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939: ABC </a:t>
            </a:r>
            <a:r>
              <a:rPr b="0" lang="hu-HU" sz="2400" spc="-1" strike="noStrike">
                <a:solidFill>
                  <a:srgbClr val="000000"/>
                </a:solidFill>
                <a:latin typeface="Verdana"/>
              </a:rPr>
              <a:t>elkészül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53760" indent="-251280">
              <a:lnSpc>
                <a:spcPct val="80000"/>
              </a:lnSpc>
              <a:spcBef>
                <a:spcPts val="499"/>
              </a:spcBef>
              <a:buClr>
                <a:srgbClr val="99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Verdana"/>
              </a:rPr>
              <a:t>Első teljesen elektromos digitális számítógép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hu-HU" sz="2000" spc="-1" strike="noStrike">
                <a:solidFill>
                  <a:srgbClr val="000000"/>
                </a:solidFill>
                <a:latin typeface="Verdana"/>
              </a:rPr>
              <a:t>Vákuumcsövet használ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0b577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943-46: ENIAC (Mauchly, Eckert, University of Pennsylvania).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53760" indent="-251280">
              <a:lnSpc>
                <a:spcPct val="80000"/>
              </a:lnSpc>
              <a:spcBef>
                <a:spcPts val="499"/>
              </a:spcBef>
              <a:buClr>
                <a:srgbClr val="99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Verdana"/>
              </a:rPr>
              <a:t>Első általános tervezésű digitális számítógé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0b577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Verdana"/>
              </a:rPr>
              <a:t>1945: Neumann architektúra terv.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53760" indent="-251280">
              <a:lnSpc>
                <a:spcPct val="80000"/>
              </a:lnSpc>
              <a:spcBef>
                <a:spcPts val="499"/>
              </a:spcBef>
              <a:buClr>
                <a:srgbClr val="99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Verdana"/>
              </a:rPr>
              <a:t>A mai számítógépek működésének alapelvei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005840" indent="-200880">
              <a:lnSpc>
                <a:spcPct val="80000"/>
              </a:lnSpc>
              <a:spcBef>
                <a:spcPts val="451"/>
              </a:spcBef>
              <a:buClr>
                <a:srgbClr val="0b5775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Verdana"/>
              </a:rPr>
              <a:t>Tárolt program elv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005840" indent="-200880">
              <a:lnSpc>
                <a:spcPct val="80000"/>
              </a:lnSpc>
              <a:spcBef>
                <a:spcPts val="451"/>
              </a:spcBef>
              <a:buClr>
                <a:srgbClr val="0b5775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Verdana"/>
              </a:rPr>
              <a:t>Bináris aritmetika használat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0b577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947: </a:t>
            </a:r>
            <a:r>
              <a:rPr b="0" lang="hu-HU" sz="2400" spc="-1" strike="noStrike">
                <a:solidFill>
                  <a:srgbClr val="000000"/>
                </a:solidFill>
                <a:latin typeface="Verdana"/>
              </a:rPr>
              <a:t>Tranzisztor feltalálás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53760" indent="-251280">
              <a:lnSpc>
                <a:spcPct val="80000"/>
              </a:lnSpc>
              <a:spcBef>
                <a:spcPts val="499"/>
              </a:spcBef>
              <a:buClr>
                <a:srgbClr val="99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Bardeen, Shockley, Brattain, Bell Labs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0b577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951: UNIVAC.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53760" indent="-251280">
              <a:lnSpc>
                <a:spcPct val="80000"/>
              </a:lnSpc>
              <a:spcBef>
                <a:spcPts val="499"/>
              </a:spcBef>
              <a:buClr>
                <a:srgbClr val="99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Verdana"/>
              </a:rPr>
              <a:t>Az első kereskedelmi számítógé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0C9BB5F-B420-41C8-A904-6C7F80F943E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Verdana"/>
              </a:rPr>
              <a:t>Korai számítógépek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1295280" y="5562720"/>
            <a:ext cx="312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bbage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 analitikus gé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943600" y="55627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IAC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3657600" cy="320040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4724280" y="2209680"/>
            <a:ext cx="3829320" cy="289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321140C-7F26-4D99-9408-0760B04A4FE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Verdana"/>
              </a:rPr>
              <a:t>Tipikus számítógép hirdeté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6840" y="5029200"/>
            <a:ext cx="8218440" cy="10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b577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Verdana"/>
              </a:rPr>
              <a:t>Elég gyors a számítógép a fontos programok futtatásához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b577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Verdana"/>
              </a:rPr>
              <a:t>Megéri az árát a számítógép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b577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Verdana"/>
              </a:rPr>
              <a:t>Elavul 6 hónap múlva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468360" y="1413000"/>
            <a:ext cx="8139240" cy="3376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58213E3-FD0E-418E-8B75-082EB41A1C8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Verdana"/>
              </a:rPr>
              <a:t>Miért tanulunk számítógép architektúrákat</a:t>
            </a: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218440" cy="445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b577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300" spc="-1" strike="noStrike">
                <a:solidFill>
                  <a:srgbClr val="000000"/>
                </a:solidFill>
                <a:latin typeface="Verdana"/>
              </a:rPr>
              <a:t>Számítógép felhasználó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99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Verdana"/>
              </a:rPr>
              <a:t>Megérteni a rendszer képességeit és korlátai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99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Verdana"/>
              </a:rPr>
              <a:t>Tájékozott döntéseket hozni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99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Verdana"/>
              </a:rPr>
              <a:t>Fejlessze a kommunikációs készségét az informatikusokka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b577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300" spc="-1" strike="noStrike">
                <a:solidFill>
                  <a:srgbClr val="000000"/>
                </a:solidFill>
                <a:latin typeface="Verdana"/>
              </a:rPr>
              <a:t>Rendszer analitiku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99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Verdana"/>
              </a:rPr>
              <a:t>Vázlatot készí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hu-HU" sz="2200" spc="-1" strike="noStrike">
                <a:solidFill>
                  <a:srgbClr val="000000"/>
                </a:solidFill>
                <a:latin typeface="Verdana"/>
              </a:rPr>
              <a:t>megállapítja a megvalósíthatóságo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Verdana"/>
              </a:rPr>
              <a:t>és meghatározza illetve dokumentálja a felhasználói követelményeke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99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Verdana"/>
              </a:rPr>
              <a:t>Program rendszerkövetelményeinek meghatározás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b577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300" spc="-1" strike="noStrike">
                <a:solidFill>
                  <a:srgbClr val="000000"/>
                </a:solidFill>
                <a:latin typeface="Verdana"/>
              </a:rPr>
              <a:t>Programozó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99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Verdana"/>
              </a:rPr>
              <a:t>Hatékony programokat készítsen speciális feladatok megoldásához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817E0F8-41D9-479D-A340-C6350165A90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Verdana"/>
              </a:rPr>
              <a:t>Miért tanulunk számítógép architektúrákat</a:t>
            </a: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82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b577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Verdana"/>
              </a:rPr>
              <a:t>Rendszer adminisztrát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Verdana"/>
              </a:rPr>
              <a:t>Számítógépes rendszer i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stall</a:t>
            </a:r>
            <a:r>
              <a:rPr b="0" lang="hu-HU" sz="2000" spc="-1" strike="noStrike">
                <a:solidFill>
                  <a:srgbClr val="000000"/>
                </a:solidFill>
                <a:latin typeface="Verdana"/>
              </a:rPr>
              <a:t>állás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hu-HU" sz="2000" spc="-1" strike="noStrike">
                <a:solidFill>
                  <a:srgbClr val="000000"/>
                </a:solidFill>
                <a:latin typeface="Verdana"/>
              </a:rPr>
              <a:t>beállítás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hu-HU" sz="2000" spc="-1" strike="noStrike">
                <a:solidFill>
                  <a:srgbClr val="000000"/>
                </a:solidFill>
                <a:latin typeface="Verdana"/>
              </a:rPr>
              <a:t>karbantartás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hu-HU" sz="2000" spc="-1" strike="noStrike">
                <a:solidFill>
                  <a:srgbClr val="000000"/>
                </a:solidFill>
                <a:latin typeface="Verdana"/>
              </a:rPr>
              <a:t>és felújítás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Verdana"/>
              </a:rPr>
              <a:t>Rendszer rendelkezésre állásának maximalizálás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Verdana"/>
              </a:rPr>
              <a:t>Rendszer teljesítményének optimalizálás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Verdana"/>
              </a:rPr>
              <a:t>Rendszer biztonságának biztosítás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b577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eb</a:t>
            </a:r>
            <a:r>
              <a:rPr b="0" lang="hu-HU" sz="2400" spc="-1" strike="noStrike">
                <a:solidFill>
                  <a:srgbClr val="000000"/>
                </a:solidFill>
                <a:latin typeface="Verdana"/>
              </a:rPr>
              <a:t>-alkalmazás tervező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Verdana"/>
              </a:rPr>
              <a:t>Optimalizálja az ügyfél hozzáférését a Webes alkalmazásokhoz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Verdana"/>
              </a:rPr>
              <a:t>Webkiszolgáló rendszerek adminisztrálása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Verdana"/>
              </a:rPr>
              <a:t>Kiválassza a megfelelő adatformátumo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Verdana"/>
              </a:rPr>
              <a:t>Hatékony Weboldala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C168DA5-1CBF-4D09-A0C2-10E2BBB6BE0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put-Process-Output Model</a:t>
            </a:r>
            <a:r>
              <a:rPr b="0" lang="hu-HU" sz="36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(IPO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23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228600" y="1676520"/>
          <a:ext cx="8105760" cy="4241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76520"/>
                    <a:ext cx="8105760" cy="424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05CC98C-7FDA-4CCF-84B2-C6F361C9038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put-Process-Output Model</a:t>
            </a:r>
            <a:r>
              <a:rPr b="0" lang="hu-HU" sz="36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(IPO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7720" y="1981080"/>
            <a:ext cx="80010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0b577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0" lang="hu-HU" sz="2400" spc="-1" strike="noStrike">
                <a:solidFill>
                  <a:srgbClr val="000000"/>
                </a:solidFill>
                <a:latin typeface="Verdana"/>
              </a:rPr>
              <a:t>Beolvasás – Feldolgozás – Kiírás” Modell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Verdana"/>
              </a:rPr>
              <a:t>Feldolgozandó adatok beolvasása (i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put</a:t>
            </a:r>
            <a:r>
              <a:rPr b="0" lang="hu-HU" sz="20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hu-HU" sz="2000" spc="-1" strike="noStrike">
                <a:solidFill>
                  <a:srgbClr val="000000"/>
                </a:solidFill>
                <a:latin typeface="Verdana"/>
              </a:rPr>
              <a:t>billentyűze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hu-HU" sz="2000" spc="-1" strike="noStrike">
                <a:solidFill>
                  <a:srgbClr val="000000"/>
                </a:solidFill>
                <a:latin typeface="Verdana"/>
              </a:rPr>
              <a:t>egé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s</a:t>
            </a:r>
            <a:r>
              <a:rPr b="0" lang="hu-HU" sz="2000" spc="-1" strike="noStrike">
                <a:solidFill>
                  <a:srgbClr val="000000"/>
                </a:solidFill>
                <a:latin typeface="Verdana"/>
              </a:rPr>
              <a:t>c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ner, </a:t>
            </a:r>
            <a:r>
              <a:rPr b="0" lang="hu-HU" sz="2000" spc="-1" strike="noStrike">
                <a:solidFill>
                  <a:srgbClr val="000000"/>
                </a:solidFill>
                <a:latin typeface="Verdana"/>
              </a:rPr>
              <a:t>lyukkártya stb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Verdana"/>
              </a:rPr>
              <a:t>Feldolgozás (p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ocessing</a:t>
            </a:r>
            <a:r>
              <a:rPr b="0" lang="hu-HU" sz="20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hu-HU" sz="2000" spc="-1" strike="noStrike">
                <a:solidFill>
                  <a:srgbClr val="000000"/>
                </a:solidFill>
                <a:latin typeface="Verdana"/>
              </a:rPr>
              <a:t>számítógép (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PU</a:t>
            </a:r>
            <a:r>
              <a:rPr b="0" lang="hu-HU" sz="20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Verdana"/>
              </a:rPr>
              <a:t>végrehajtja a számítógépprogramo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Verdana"/>
              </a:rPr>
              <a:t>Eredmények kiírása, megjelenítése (o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tput</a:t>
            </a:r>
            <a:r>
              <a:rPr b="0" lang="hu-HU" sz="20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monitor, </a:t>
            </a:r>
            <a:r>
              <a:rPr b="0" lang="hu-HU" sz="2000" spc="-1" strike="noStrike">
                <a:solidFill>
                  <a:srgbClr val="000000"/>
                </a:solidFill>
                <a:latin typeface="Verdana"/>
              </a:rPr>
              <a:t>nyomtató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fa</a:t>
            </a:r>
            <a:r>
              <a:rPr b="0" lang="hu-HU" sz="2000" spc="-1" strike="noStrike">
                <a:solidFill>
                  <a:srgbClr val="000000"/>
                </a:solidFill>
                <a:latin typeface="Verdana"/>
              </a:rPr>
              <a:t>x, stb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Verdana"/>
              </a:rPr>
              <a:t>Tároló eszközök az adatok átmeneti és hosszútávú tárolásár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hu-HU" sz="2000" spc="-1" strike="noStrike">
                <a:solidFill>
                  <a:srgbClr val="000000"/>
                </a:solidFill>
                <a:latin typeface="Verdana"/>
              </a:rPr>
              <a:t>merevlemez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opti</a:t>
            </a:r>
            <a:r>
              <a:rPr b="0" lang="hu-HU" sz="2000" spc="-1" strike="noStrike">
                <a:solidFill>
                  <a:srgbClr val="000000"/>
                </a:solidFill>
                <a:latin typeface="Verdana"/>
              </a:rPr>
              <a:t>kai lemez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hu-HU" sz="2000" spc="-1" strike="noStrike">
                <a:solidFill>
                  <a:srgbClr val="000000"/>
                </a:solidFill>
                <a:latin typeface="Verdana"/>
              </a:rPr>
              <a:t>hajlékony-lemezek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m</a:t>
            </a:r>
            <a:r>
              <a:rPr b="0" lang="hu-HU" sz="2000" spc="-1" strike="noStrike">
                <a:solidFill>
                  <a:srgbClr val="000000"/>
                </a:solidFill>
                <a:latin typeface="Verdana"/>
              </a:rPr>
              <a:t>ágnes kazett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EA99671-D536-4432-A48D-93F26F28108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Verdana"/>
              </a:rPr>
              <a:t>Architektúra részei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821844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b577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000080"/>
                </a:solidFill>
                <a:latin typeface="Verdana"/>
              </a:rPr>
              <a:t>Hardv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Verdana"/>
              </a:rPr>
              <a:t>Utasítások végrehajtásával adatok feldolgozása képes gé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Verdana"/>
              </a:rPr>
              <a:t>Lehetőséget ad adatok rögzítésére: bevitelre (input) és kiírására (output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b577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000080"/>
                </a:solidFill>
                <a:latin typeface="Verdana"/>
              </a:rPr>
              <a:t>Szoftv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Verdana"/>
              </a:rPr>
              <a:t>Rendszer által végrehajtott utasításo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b577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Verdana"/>
              </a:rPr>
              <a:t>A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hu-HU" sz="2800" spc="-1" strike="noStrike">
                <a:solidFill>
                  <a:srgbClr val="000000"/>
                </a:solidFill>
                <a:latin typeface="Verdana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Verdana"/>
              </a:rPr>
              <a:t>Alapvető ábrázolása a tényeknek és az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b577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Verdana"/>
              </a:rPr>
              <a:t>Kommunikáció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Verdana"/>
              </a:rPr>
              <a:t>Adatok megosztása és feldolgozás két különböző rendszer közöt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8B65547-2F9D-45A6-83F3-80243673FE4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Verdana"/>
              </a:rPr>
              <a:t>Hardver elemek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821844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b577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put/Output </a:t>
            </a:r>
            <a:r>
              <a:rPr b="0" lang="hu-HU" sz="2800" spc="-1" strike="noStrike">
                <a:solidFill>
                  <a:srgbClr val="000000"/>
                </a:solidFill>
                <a:latin typeface="Verdana"/>
              </a:rPr>
              <a:t>eszközö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b577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Verdana"/>
              </a:rPr>
              <a:t>Tároló eszközö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b577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PU</a:t>
            </a:r>
            <a:r>
              <a:rPr b="0" lang="hu-HU" sz="2800" spc="-1" strike="noStrike">
                <a:solidFill>
                  <a:srgbClr val="000000"/>
                </a:solidFill>
                <a:latin typeface="Verdana"/>
              </a:rPr>
              <a:t> – központi feldolgozó egység (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entral</a:t>
            </a:r>
            <a:r>
              <a:rPr b="0" lang="hu-H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cessing unit</a:t>
            </a:r>
            <a:r>
              <a:rPr b="0" lang="hu-HU" sz="2800" spc="-1" strike="noStrike">
                <a:solidFill>
                  <a:srgbClr val="000000"/>
                </a:solidFill>
                <a:latin typeface="Verdana"/>
              </a:rPr>
              <a:t>) </a:t>
            </a:r>
            <a:br>
              <a:rPr sz="2800"/>
            </a:br>
            <a:r>
              <a:rPr b="0" lang="hu-HU" sz="2800" spc="-1" strike="noStrike">
                <a:solidFill>
                  <a:srgbClr val="000000"/>
                </a:solidFill>
                <a:latin typeface="Verdana"/>
              </a:rPr>
              <a:t>Részei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U: arithmetic/logic unit</a:t>
            </a:r>
            <a:r>
              <a:rPr b="0" lang="hu-HU" sz="2400" spc="-1" strike="noStrike">
                <a:solidFill>
                  <a:srgbClr val="000000"/>
                </a:solidFill>
                <a:latin typeface="Verdana"/>
              </a:rPr>
              <a:t> (aritmetikai/logikai egység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U: control unit</a:t>
            </a:r>
            <a:r>
              <a:rPr b="0" lang="hu-HU" sz="2400" spc="-1" strike="noStrike">
                <a:solidFill>
                  <a:srgbClr val="000000"/>
                </a:solidFill>
                <a:latin typeface="Verdana"/>
              </a:rPr>
              <a:t> (vezérlőegység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terface unit</a:t>
            </a:r>
            <a:r>
              <a:rPr b="0" lang="hu-HU" sz="2400" spc="-1" strike="noStrike">
                <a:solidFill>
                  <a:srgbClr val="000000"/>
                </a:solidFill>
                <a:latin typeface="Verdana"/>
              </a:rPr>
              <a:t> (interfészegység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b577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Verdana"/>
              </a:rPr>
              <a:t>Memóri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Verdana"/>
              </a:rPr>
              <a:t>CPU által végzett műveletek eredményeinek  átmeneti (rövidtávú) tárolás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129C88E-2E5A-45C2-9FAB-CA6CF677246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Verdana"/>
              </a:rPr>
              <a:t>Általános PC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20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533520" y="1447920"/>
          <a:ext cx="8115120" cy="511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47920"/>
                    <a:ext cx="8115120" cy="511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618C0C9-B0CF-49DA-8197-91D19ACB51D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17:03:37Z</dcterms:created>
  <dc:creator>ww</dc:creator>
  <dc:description/>
  <dc:language>en-US</dc:language>
  <cp:lastModifiedBy>dr. Benyó Balázs</cp:lastModifiedBy>
  <dcterms:modified xsi:type="dcterms:W3CDTF">2009-02-09T11:02:43Z</dcterms:modified>
  <cp:revision>82</cp:revision>
  <dc:subject/>
  <dc:title>CHAPTER 1: Computer Systems</dc:title>
</cp:coreProperties>
</file>