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6650-05AD-42E2-A60A-4383662AB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A51B-E5E6-4B8C-BA6F-56F029F1E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29BF-F089-49B9-80BD-9068127C0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9670-45A2-4EAA-B1B4-936F07A8D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3488-733C-4C65-88E1-25043212F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097A-D011-4AB6-8AAF-4C85AC05D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13EF-841F-42C4-9F2E-3768A6634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A9AF-1662-4B3A-8C20-9568F2E7D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1198-9B0A-48D1-9FF9-A4602D48B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5D9-7CF3-43BD-9DBC-23B969D2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252-92C0-4BC2-9CD5-774E5D57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4E0-B8EF-415B-8531-44CB5720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FB2B-7250-4B5D-8B4F-948C31B9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7367-242B-47AD-8A47-542940C1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EF90-8BA2-4A02-917A-213BB30F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01AC-998B-4F7E-B3D7-9EDBD2CB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FD10-6712-40D6-AE2D-56F0D96D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7368-23FE-4F6B-87F6-CB3562E4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1885-BF69-4BB6-A969-4BEF41EF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7CE9-EC38-47AE-83A0-800C33FC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76DD-756D-48F4-8997-62600BC8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54BC-B969-4E73-8583-328843C8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876D-5C5D-44E9-AFB7-9A57A63A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BD0E-7D89-4899-A36B-3F5A5DC7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80B1-D54D-4FB3-B738-A7173076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C1E0-21CB-41A6-B1C3-6555A2D4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C086-59C7-4D1A-ACE2-6EFB32DF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F3EB-B5CF-486A-83F5-DD2900E6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1AA-D59E-4EBC-AFAF-2A3CCE59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BE6-78DE-4822-B4ED-FF3215B8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6E7-7DFE-4411-8112-476D1443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FEE-B6B5-4A5A-B0D2-D37F42EB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05F-4C78-4745-BB65-76C68BC2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144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1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Fejezet: 3 - Adattípus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f11"/>
                </a:solidFill>
                <a:latin typeface="Times New Roman"/>
              </a:rPr>
              <a:t>3-</a:t>
            </a:r>
            <a:fld id="{0E70F773-97B7-4C4C-A2F6-0D1E070E3C35}" type="slidenum">
              <a:rPr b="0" lang="en-US" sz="1400" spc="-1" strike="noStrike">
                <a:solidFill>
                  <a:srgbClr val="ff9f1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762120" y="228600"/>
            <a:ext cx="0" cy="5943600"/>
          </a:xfrm>
          <a:prstGeom prst="line">
            <a:avLst/>
          </a:prstGeom>
          <a:ln w="69840">
            <a:solidFill>
              <a:srgbClr val="ff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304560" y="1371600"/>
            <a:ext cx="8381880" cy="0"/>
          </a:xfrm>
          <a:prstGeom prst="line">
            <a:avLst/>
          </a:prstGeom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8744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9601-11FD-4FAF-B14B-20EF0A123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5800" y="152280"/>
            <a:ext cx="0" cy="5943600"/>
          </a:xfrm>
          <a:prstGeom prst="line">
            <a:avLst/>
          </a:prstGeom>
          <a:ln w="69840">
            <a:solidFill>
              <a:srgbClr val="ff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8240" y="2133720"/>
            <a:ext cx="8381880" cy="0"/>
          </a:xfrm>
          <a:prstGeom prst="line">
            <a:avLst/>
          </a:prstGeom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87440" cy="704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3</a:t>
            </a:r>
            <a:r>
              <a:rPr b="0" lang="hu-HU" sz="4400" spc="-1" strike="noStrike">
                <a:solidFill>
                  <a:srgbClr val="000080"/>
                </a:solidFill>
                <a:latin typeface="Arial"/>
              </a:rPr>
              <a:t>. Fejezet</a:t>
            </a: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:</a:t>
            </a:r>
            <a:br>
              <a:rPr sz="4400"/>
            </a:br>
            <a:r>
              <a:rPr b="0" lang="hu-HU" sz="4400" spc="-1" strike="noStrike">
                <a:solidFill>
                  <a:srgbClr val="000080"/>
                </a:solidFill>
                <a:latin typeface="Arial"/>
              </a:rPr>
              <a:t>Adat formátumok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80"/>
                </a:solidFill>
                <a:latin typeface="Arial"/>
              </a:rPr>
              <a:t>The Architecture of Computer Hardware and Systems Software: </a:t>
            </a:r>
            <a:br>
              <a:rPr sz="2800"/>
            </a:b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An Information Technology Approach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f11"/>
                </a:solidFill>
                <a:latin typeface="Arial"/>
              </a:rPr>
              <a:t>3. kiadás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, Irv Englander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John Wiley and Sons </a:t>
            </a:r>
            <a:r>
              <a:rPr b="1" lang="en-US" sz="2400" spc="-1" strike="noStrike">
                <a:solidFill>
                  <a:srgbClr val="ff9f11"/>
                </a:solidFill>
                <a:latin typeface="Symbol"/>
                <a:ea typeface="Symbol"/>
              </a:rPr>
              <a:t>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2003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ilson Wong, Bentley College</a:t>
            </a: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nda Senne, </a:t>
            </a:r>
            <a:r>
              <a:rPr b="1" lang="hu-HU" sz="2000" spc="-1" strike="noStrike">
                <a:solidFill>
                  <a:srgbClr val="000080"/>
                </a:solidFill>
                <a:latin typeface="Arial"/>
              </a:rPr>
              <a:t>Bentley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College</a:t>
            </a: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arakterek ábrázolás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II –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gszélesebb körben haszná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CDIC:  IBM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agyszámítógé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gyomány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ode: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ilágméretű használatra kifejlesz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9F8-71E5-4346-88B2-C544FF786D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ASCII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I (American National Standards Institute)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által kifejleszt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brázolá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tű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rab szám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talános írásjel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ékeze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s más európai speciális karak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tes kó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128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rak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EA0-599B-453B-A7DF-305722FDC9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ASCII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referencia tábla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38080" y="1523880"/>
          <a:ext cx="7086600" cy="468000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  <a:gridCol w="787320"/>
                <a:gridCol w="787320"/>
                <a:gridCol w="787680"/>
                <a:gridCol w="787320"/>
                <a:gridCol w="787320"/>
                <a:gridCol w="78732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9f11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838080" y="1523880"/>
            <a:ext cx="83844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3352680"/>
            <a:ext cx="1143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74</a:t>
            </a:r>
            <a:r>
              <a:rPr b="1" lang="en-US" sz="1400" spc="-1" strike="noStrike" baseline="-25000">
                <a:solidFill>
                  <a:srgbClr val="000099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11 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413600">
            <a:off x="868320" y="-1031760"/>
            <a:ext cx="12746880" cy="532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38" y="74"/>
                </a:moveTo>
                <a:arcTo wR="10800" hR="10800" stAng="-5802618" swAng="4687986"/>
                <a:lnTo>
                  <a:pt x="10800" y="10800"/>
                </a:lnTo>
                <a:close/>
              </a:path>
              <a:path fill="none" w="21600" h="21600">
                <a:moveTo>
                  <a:pt x="9538" y="74"/>
                </a:moveTo>
                <a:arcTo wR="10800" hR="10800" stAng="-5802618" swAng="4687986"/>
              </a:path>
            </a:pathLst>
          </a:custGeom>
          <a:noFill/>
          <a:ln w="158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2133720"/>
            <a:ext cx="304920" cy="1218960"/>
          </a:xfrm>
          <a:prstGeom prst="line">
            <a:avLst/>
          </a:prstGeom>
          <a:ln w="158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C74-139D-49AB-B415-994A0379BB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EBCDIC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xtended Binary Coded Decimal Interchange Code az IBM által kifejleszt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őként IBM vagy IBM kompatibilis nagyszámítógépek körében használ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SCII-ba/ból konvertáló szoftver hozzáférhet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akori az archív adatokn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arakterkódok eltérnek az ASCII-t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362320" y="4572000"/>
          <a:ext cx="3657600" cy="158112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C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BCD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588-765F-4829-ADD6-E5964C6A90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Unicod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ggyakoribb, 16-bites forma, 65.536 karakter ábrázolására alkal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SCII Latin-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nicode rés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0-tól 255-ig a Unicode táblá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oknyelvű: kódokat határoz me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jdnem az összes betű alapú karakterh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gy része a kínai, japán és koreai „szóképekne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gyesen magánhangzók és szótag csoportok néhány nyelv igénye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ámogatja a szoftvermódosítást helyi nyelvek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F28-A141-4712-BB9D-E1A7BB1CFE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Összehasonlító soroz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fabetikus rendezés ha a szoftver kezeli a vegyes kis- és nagybet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ódo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b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mokat helyezi elő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EBCDIC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ben utolj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II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ndezési sorr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rakterláncok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371600" y="4343400"/>
          <a:ext cx="7378560" cy="1581120"/>
        </p:xfrm>
        <a:graphic>
          <a:graphicData uri="http://schemas.openxmlformats.org/drawingml/2006/table">
            <a:tbl>
              <a:tblPr/>
              <a:tblGrid>
                <a:gridCol w="1371600"/>
                <a:gridCol w="380880"/>
                <a:gridCol w="381240"/>
                <a:gridCol w="380880"/>
                <a:gridCol w="395280"/>
                <a:gridCol w="311040"/>
                <a:gridCol w="325440"/>
                <a:gridCol w="325440"/>
                <a:gridCol w="325440"/>
                <a:gridCol w="466920"/>
                <a:gridCol w="608040"/>
                <a:gridCol w="749160"/>
                <a:gridCol w="608040"/>
                <a:gridCol w="749160"/>
              </a:tblGrid>
              <a:tr h="3988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ű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ff9f11"/>
                      </a:solidFill>
                    </a:lnB>
                    <a:solidFill>
                      <a:srgbClr val="ff9f1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 karakter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ff9f11"/>
                      </a:solidFill>
                    </a:lnB>
                    <a:solidFill>
                      <a:srgbClr val="ff9f1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m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F84-DDAA-4851-B2D9-A817FF2587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 kódok kettő osztály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Nyomtathat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rak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jelenik a képernyőn vagy a nyomta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Vezérl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rak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zícionálja a kimenetet a képernyőn vagy a nyomta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vékenységet vált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lapotot közö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ámítógép és a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/O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szköz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00200" y="3643200"/>
          <a:ext cx="7086600" cy="395280"/>
        </p:xfrm>
        <a:graphic>
          <a:graphicData uri="http://schemas.openxmlformats.org/drawingml/2006/table">
            <a:tbl>
              <a:tblPr/>
              <a:tblGrid>
                <a:gridCol w="3386160"/>
                <a:gridCol w="370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80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T: vertical tab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tabulá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80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: Line feed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újs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600200" y="5410080"/>
          <a:ext cx="6934320" cy="70020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80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: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oron következő karakter értelmezésének megváltoztat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600200" y="4495680"/>
          <a:ext cx="7086600" cy="533520"/>
        </p:xfrm>
        <a:graphic>
          <a:graphicData uri="http://schemas.openxmlformats.org/drawingml/2006/table">
            <a:tbl>
              <a:tblPr/>
              <a:tblGrid>
                <a:gridCol w="3352680"/>
                <a:gridCol w="37339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80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: bell rings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sipogá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80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: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uális karakter törlé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D9C-6762-4B1B-9A15-353DA6B2BA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Vezérlőkódok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meghatározása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62940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AD5-CBCE-40C2-B30D-83BEFBD986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llentyűzet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emene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Scan 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különböző scan kód van a billentyűz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ik akkor keletkezik ha egy gombot lenyomunk, a másik, ha felengedünk egy gomb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oftver által terminálon vagy PC-n Unicode -dá, ASCII –vé vagy EBCDIC –ké konvertá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ő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nnyen alkalmazható különböző nyelveknél vagy billentyűzetkiosztásokn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öző scan kód a gombok megnyomásához/ felengedéséhez és a billentyűzetkombinációk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ák:  shift és control gomb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C3F-A3C2-40D3-BF01-3266C863DE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Más alfanumerikus bemene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OC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optical character reader/optikai jelolvas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ott szöveget olvas be és szöveges adattá konvertá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ülönlegesen kódolt karakterek olvasására használj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talános használat korlátozott a nagymértékű hibaarány mi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ágneses felületek „optikai” felismerése (pl. csekkeken vízjel helye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Vonalkód olvasó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lyan alkalmazásokban használják, ami gyors, pontos, ismétlődő inputot igényel minimálisan képzett alkalmazotta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ák: bevásárlóközpont pénztár- és leltár keze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fanumerikus adat a vonalkód olvasóban optikailag vonalakat haszn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Mágneskártya olvasók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fanumerikus adat bankkártyák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gitalizált audió rögzítése egyszerű, de alfanumerikus adattá konvertálása nehé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smerni kell a hangmintákat egy nyelvben (</a:t>
            </a:r>
            <a:r>
              <a:rPr b="0" i="1" lang="hu-HU" sz="1600" spc="-1" strike="noStrike">
                <a:solidFill>
                  <a:srgbClr val="000080"/>
                </a:solidFill>
                <a:latin typeface="Arial"/>
              </a:rPr>
              <a:t>fonéma/beszédhang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) plusz  a kiejtés-, nyelvtan- és mondattan szabály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F65-A739-469F-A088-858C9F6EAA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dat formátumo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ítógép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adatformátumot bináris formában kezel és tá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mberi kommuniká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leértve a nyelveket, képeket és hango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 formátum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írások az adatok számítógép által kezelhető formába konvertálásá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öző módok emberi adat ábrázolására a számítógép által feldolgozva és táro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72A-4726-4C0F-8A26-2B215F8565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ép ad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énykép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brá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kon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ajz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áblázat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 grafikon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féle megközelíté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Bit-térképes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gy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raszteres (rácsos) kép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pek és festmények összefüggő váltako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Objektumos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gy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vektorgrafikus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grafikai objektumokbó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l össze, mint a vonalak és görbé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t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ag meghatároz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ség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p minő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rhely igé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ovábbadás időtar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ódosítás könnyed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C0C-0461-4C10-B201-654B49E2B6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t-térképes képe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lósághű, folytonosan változó árnyékú, színű, élességű és szerkezetű képeknél használj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á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canner-elt kép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ptár egy </a:t>
            </a: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rajz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rogram által létrehoz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őként nagymértékben részletezett és meglehetősen egyszerű feldolgozás igényű képeknél használj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put eszközö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canner-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igitális kamerák és videó felvevő eszközö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rafikus input eszközök, mint az egér és a t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ff"/>
                </a:solidFill>
                <a:latin typeface="Arial"/>
              </a:rPr>
              <a:t>Képszerkesztő-</a:t>
            </a:r>
            <a:r>
              <a:rPr b="0" lang="hu-HU" sz="2400" spc="-1" strike="noStrike">
                <a:solidFill>
                  <a:srgbClr val="da0027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gy </a:t>
            </a:r>
            <a:r>
              <a:rPr b="0" i="1" lang="hu-HU" sz="2400" spc="-1" strike="noStrike">
                <a:solidFill>
                  <a:srgbClr val="0000ff"/>
                </a:solidFill>
                <a:latin typeface="Arial"/>
              </a:rPr>
              <a:t>rajz program</a:t>
            </a:r>
            <a:r>
              <a:rPr b="0" lang="hu-HU" sz="2400" spc="-1" strike="noStrike">
                <a:solidFill>
                  <a:srgbClr val="da0027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z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rkesztő eszközök, amelyek könnyebbé teszik a fárasztó bit-ről bit-re való feldolgozá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A38-5027-4BD1-9065-CF5147650F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t-térképes képe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ábrában minden egyes 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pixe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pi(x</a:t>
            </a:r>
            <a:r>
              <a:rPr b="0" lang="hu-HU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ture 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e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ment / képpont) bináris számként van táro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ixel: kis terület koordinátákkal meghatároz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a: minden 4 bites kódon ábrázolt pontnak képes megfeleltetni a 16 szürke árnyalat egyik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81080" y="4038480"/>
            <a:ext cx="5486400" cy="206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26E-B78B-4E1D-BA60-75B53AA716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t-térkép megjelenítés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chrome: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kete vagy fehé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it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ixelenké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ür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k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hé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llet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54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rnyalata a szürké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yte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ixelenké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ínes kép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16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256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4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ue color (16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llió sz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8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4 bi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3 x 8 bit-es) kép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52E-DA6C-4469-8BB2-6726FB1268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t-térképes képek tárolás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ran nagy fájl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lda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00×6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három szín (RGB) 1 byte-on tárolv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.5MB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–os file-t ad (1.37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ile méret függ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Felbontástó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ixelek száma inch-enké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hatással van a kép élességére és részletességé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Mélységtő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ürke vagy összetett színek megjelenítéséhez használt bit-e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Paletta (színválaszté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ínfordító tábla, ami minden pixelhez kódot használ az aktuális szín értéke helye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tömörítést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2362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A36-A4B2-49D7-AFE6-977AE707C4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GIF 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(Graphics Interchange Format)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987-ben fejlesztette ki a CompuS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89a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nimált képek lehető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hetővé teszi a képek egymást követő megjelenítését rögzített időközönké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ínkorlá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2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ZW (Lempel-Zif-Welch)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goritmussal tömörít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őként vonalrajzoláshoz, művészi és nagyméretű azonos színű területeket tartalmazó képekh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Veszteségmentes tömör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7DC-C69C-4ABD-BAA9-D1894DAADE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GIF 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(Graphics Interchange Format)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284800" cy="2441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6095880" cy="138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3A6A-F387-4F74-847E-A5604399CD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JPEG </a:t>
            </a:r>
            <a:br>
              <a:rPr sz="4000"/>
            </a:br>
            <a:r>
              <a:rPr b="1" lang="en-US" sz="3400" spc="-1" strike="noStrike">
                <a:solidFill>
                  <a:srgbClr val="000080"/>
                </a:solidFill>
                <a:latin typeface="Arial"/>
              </a:rPr>
              <a:t>(Joint Photographers Expert Group)</a:t>
            </a:r>
            <a:endParaRPr b="1" lang="en-US" sz="3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bb mint 16 millió színre ké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felelő nagy részletességű fényképekhez és festményekh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Veszteséges tömöríté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goritmust alkalmaz, am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okat eldob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ökkenti a file méretét és az átviteli sebessé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ökkentheti a kép felbontásá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lmoshatja az éles vonala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egyes mentés ”rontja” a kép minőség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57F-FE5B-4161-962A-992AEFF30F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Más bit-térképes formátumok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FF (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ed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e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e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ma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címkézett kép file formát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váló minőségű képek feldolgozá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ülönösképp kiadás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MP (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Bittérké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szköz-független formát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indows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rnyezethe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ixel színek a kimeneti eszközöktől függetlenül táro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X: 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c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Paintbrush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formát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G: (Portable Network Graphics): 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rnetes alkalmazásoknál a GIF és JPEG lecserélésére tervezt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abadalom m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ovábbfejlesztett </a:t>
            </a:r>
            <a:r>
              <a:rPr b="0" i="1" lang="hu-HU" sz="2000" spc="-1" strike="noStrike">
                <a:solidFill>
                  <a:srgbClr val="000099"/>
                </a:solidFill>
                <a:latin typeface="Arial"/>
              </a:rPr>
              <a:t>veszteségmente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ömör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ncs animáció támoga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CEF-C71B-481C-A9CD-BAF204DBD2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Vektorgrafikus képe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omagok 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rajzolásáva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vagy ábratáblázattal készí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önböző színű vonalakból és alakzatokból áll öss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mítógép lefordítja a geometriai formulákat a kép megalkotásáh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árhely mérete függ a kép összetettségét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Utasítások száma egy vonal rajzolásáho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kzat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ták mennyi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ilmek, így a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r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y S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alkotásához is vektorgrafikát használt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962-A315-4D3A-A7FF-3408DC8F56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datok forrás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náris beme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edi inputként ind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a: billentyűzeti bemenet </a:t>
            </a:r>
            <a:r>
              <a:rPr b="1" i="1" lang="hu-HU" sz="2000" spc="-1" strike="noStrike">
                <a:solidFill>
                  <a:srgbClr val="000080"/>
                </a:solidFill>
                <a:latin typeface="Arial"/>
              </a:rPr>
              <a:t>1+2=3 számo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llentyűzet generál egy bináris számot minden gombh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naló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sszefüggő adatok mint a hang vagy a kép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ükséges egy hardver az adatok bináris számokká konvertálásáh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4495680"/>
            <a:ext cx="7391160" cy="1202760"/>
            <a:chOff x="1143000" y="4495680"/>
            <a:chExt cx="7391160" cy="1202760"/>
          </a:xfrm>
        </p:grpSpPr>
        <p:sp>
          <p:nvSpPr>
            <p:cNvPr id="102" name=""/>
            <p:cNvSpPr/>
            <p:nvPr/>
          </p:nvSpPr>
          <p:spPr>
            <a:xfrm>
              <a:off x="5832000" y="4495680"/>
              <a:ext cx="2702160" cy="1202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Számítógé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f11"/>
                  </a:solidFill>
                  <a:latin typeface="Arial"/>
                </a:rPr>
                <a:t>1101000101010101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06840" y="4818600"/>
              <a:ext cx="953640" cy="642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put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eszkö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43000" y="4899600"/>
              <a:ext cx="182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f11"/>
                  </a:solidFill>
                  <a:latin typeface="Arial"/>
                </a:rPr>
                <a:t>1+2=3 </a:t>
              </a:r>
              <a:r>
                <a:rPr b="1" lang="hu-HU" sz="1800" spc="-1" strike="noStrike">
                  <a:solidFill>
                    <a:srgbClr val="ff9f11"/>
                  </a:solidFill>
                  <a:latin typeface="Arial"/>
                </a:rPr>
                <a:t>számol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70720" y="5142240"/>
              <a:ext cx="397440" cy="0"/>
            </a:xfrm>
            <a:prstGeom prst="line">
              <a:avLst/>
            </a:prstGeom>
            <a:ln w="3492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57920" y="5142240"/>
              <a:ext cx="397080" cy="0"/>
            </a:xfrm>
            <a:prstGeom prst="line">
              <a:avLst/>
            </a:prstGeom>
            <a:ln w="3492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1DC-197C-408B-A897-212D8DEC4E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Vektorgrafikus képe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tematikai képleteken alap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nnyű mozgatni, méretezni és elforgatni az élesség elvesztése nélkül, a bit-térképesek képekkel szem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vesebb helyre van szüksége, mint a  bit-térképes képekn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tud képeket vagy festményeket ábrázol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közvetlenül megjeleníteni vagy nyomtat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t-térképessé kell konvertálni, mivel a rajzgép bit-térké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5C3-ED35-4EF9-840D-2C7E43E7E8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80"/>
                </a:solidFill>
                <a:latin typeface="Arial"/>
              </a:rPr>
              <a:t>Ismertebb vektorgrafikus programok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legtöbb vektorgrafikus formátum szabadalmaz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le kiterjesztéseket is beleért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wmf, .dxf, .mgx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c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media Flash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csony sávszélességű anim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graphx Designer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vrajzkészítés, 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mékek illusztrálásá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lDraw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ktoros illusztrál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rendez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t-térkép készít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pszerkeszt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stő és animáló 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desk AutoCAD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pítészek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érnökök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vezők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 tervfüggő szakemberek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3C SVG (Scalable Vector Graphics) XML Web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író nyelven alap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szabadalmaz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797-1E28-4DE2-9D4B-64F06D9A5F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PostScrip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80"/>
                </a:solidFill>
                <a:latin typeface="Arial"/>
              </a:rPr>
              <a:t>Oldalleíró nyel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űveletek és tulajdonságok listája, amely jellemzi az összes objektumot a nyomtatandó olda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SCII-ben vagy Unicode-ban táro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értelmező program a számítógépen vagy a kimeneti eszközön olvassa a PostScript-et a kép konvertálásáh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éretezhető betű támoga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bbi objektumhoz hasonló meghatáro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262-4D4B-4E05-AE88-4763E96908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PostScript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program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32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134-18B1-4E54-9C09-5314582CF6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arakterek ábrázolás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rakterek tárolása Unicode-hoz vagy ASCII-hez hasonló formátumok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öveg elsősorban tartalom szerint kerül feldolgozásra és tárolás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jelenítési feltételek, mint a betűkészlet tárolása karakter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övegmegjelenés az elsődleges tényez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élda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tűkészlet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Glyph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-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cintosh kódolási minta, amely tartalmazza a karakterek azonosítási és megjelenési feltétel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61B-D616-4451-87ED-A01A3FCE31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80"/>
                </a:solidFill>
                <a:latin typeface="Arial"/>
              </a:rPr>
              <a:t>Bit-térképes és vektorgrafikus képek összehasonlítása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43000" y="1523880"/>
          <a:ext cx="7543800" cy="4179960"/>
        </p:xfrm>
        <a:graphic>
          <a:graphicData uri="http://schemas.openxmlformats.org/drawingml/2006/table">
            <a:tbl>
              <a:tblPr/>
              <a:tblGrid>
                <a:gridCol w="3733920"/>
                <a:gridCol w="3809880"/>
              </a:tblGrid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-térké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ktorgrafik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xel 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rké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etriailag meghatározott formá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énykép minősé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tett rajz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stő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jz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gyobb tárhely igé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gyobb számítási igé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ép méretének növelése életlenséget oko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umok méretezése egyenl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imenet felbontását a kép felbontása korlátoz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imenet felbontását a kimeneti eszköz korlátoz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060-01DA-494B-AF8C-C0D97565BC4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Vide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ó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épe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agymennyiségű adatra van szük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deokamera 720x576/704x480 (PAL/NTSC) felbontású 24 bit-es képet rögzít 25/30 kép/másodperc sebességg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 248 Mbit/sec a CCD-n, a szalagon átlagosan 28.8 Mbit/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 perces film 1.7 Gbit és egy 1 órás film közel 13 Gbyt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hetőségek a file méret csökkentésére: csökkenti a kép méretét, korlátozza a színek számát, csökkenti a képkocka-arány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videohoz való hozzájutási módtól függő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Videó folya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a videó úgy jelenik meg, ahogy letöltöttük a Web szerver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a: videó kon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elyi adat (file a DVD-re vagy a rendszerre letöltve) a jobb minőségé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PEG-2: kódolási példa: IBBPBBPB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tra, Bidirectional, Predictive, film minőségű képek, magas tömörítéssel, tekintélyes feldolgozási képességet igény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10 Mbit/sec tömörítési arányra optimalizálva, ez a DVD szabványa is. A file méret = 95% videó-adat + 5% tömörítetlen audió-ad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131-A816-4123-AE99-E97D342438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Audi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ó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d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tviteli és feldolgozási igényei kisebbek, mint a video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Waveform aud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ang digitális ábrázo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MI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usical Instrument Digital Interface)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tasítások a hangok előállításáh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A-D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 (analóg-digitális)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konverte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nalóg hangot konvertál a digitális értékek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3FB-FBA7-4AEC-A8EE-56119F1D59D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Waveform Audio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3049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30481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tavételezési ará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ndszeri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5410080" cy="397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D23-87C2-4CA5-A382-F4B8EB44048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Mintavételezési arány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ngból vett mintavételek száma másodpercenként a rögzítési folyamat al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000 mintavétel másodpercenként = 1 kHz (kilohertz), azaz ezred másodpercenkén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a:  Audió CD mintavételezési aránya = 44.1 kHz, azaz 226 tízmilliomod másodpercenkén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öző minőségű rögzítés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8 bit-es kvantáltság a rádió minőségű rögzítéshe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6 bit-esnél 44.1 kHz CD, 48 kHz a Hi-Fi minőségű rögzítéshez, 2 sztereó csatorná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2 bit-es kvantáltság 32 kHz-en 2 x 2 sztereó csatornán rögzíti a hango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4 bit-es kvantáltság 192 kHz-en 5.1 hangkép audió DVD-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932-B4DF-4E90-ACE1-8AF72534B7A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Általános adatábrázol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517760"/>
          <a:ext cx="8077320" cy="4821120"/>
        </p:xfrm>
        <a:graphic>
          <a:graphicData uri="http://schemas.openxmlformats.org/drawingml/2006/table">
            <a:tbl>
              <a:tblPr/>
              <a:tblGrid>
                <a:gridCol w="3325680"/>
                <a:gridCol w="4751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at típ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abvány(o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anumerik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code, ASCII, EDCD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ép (bit térkép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(graphical image form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F (tagged image file form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G (portable network grap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ép (vektorgrafiku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Script, SWF (Macromedia Flash), SV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kai megjelenés, ill. betűkészlet leír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Script, True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AVI, MP3, MIDI, W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átumozott dokumentum leír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F (Adobe Portable Document Format), HTML, X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time, MPEG-2, RealVideo, WM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4C0-33E1-4573-99A2-54E964FA4B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MIDI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ene jelölési rendszer, amely lehetővé teszi a számítógépek kommunikációját a szintetizátorokk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tasítások, melyeket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I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űszer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s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DI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ngkártyák használnak a hang visszajátszásáho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alkalmas beszéd- vagy énekhang tárolására vagy visszajátsz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okkal tömörebb, min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r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FF3-7394-4B04-9692-E242464AAC2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Audi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ó</a:t>
            </a:r>
            <a:r>
              <a:rPr b="1" i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formátumo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MP3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MPEG-2 leszármazottja (ISO </a:t>
            </a: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ving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cture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xperts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G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sychoacoustic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–kus tömörítési technikát alkalmaz a tárhelyigény csökkentéséh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dobja az ember számára hallhatatlan hangokat: veszteséges tömör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W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crosoft fejlesztette ki a multimédiás környezetének a részeké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talános felhasználású veszteségmentes tömör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2B2-8A20-4165-A012-C77A7405FEB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WAV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hang formátum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121440" cy="18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5F8-1447-4282-B820-0151E3E3C1F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dattömöríté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Tömöríté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adatrögzítés, amelynek kevesebb tárhelyre van szük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Tömörítési arány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méretes file kicsiny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Veszteség ment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a fordított algoritmus visszaállítja az adatot eredeti formájá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ák:  GIF, PCX, TIFF, W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Veszteség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adatvesztés lép fel a kisebb méret és a gyorsabb letöltés kedvéé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kkal nagyobb tömörítési arányok, általában 1-től 10-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a:  JPE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akori a multimédiá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PEG-2: mindkettőt használja 100:1-es arány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AAF-CC48-4241-9BE5-D74CD114FA8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ömörítő algoritmuso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smétlő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5 8 7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0 0 0 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3 4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0 0 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5 8 7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0 4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3 4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0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a:  nagy területek ugyanazzal a színne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a helyettesít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tákat keres az adat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helyettesíti az új mintákat,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ótárat hoz lé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a: 45-ből 30 byte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plusz szótá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P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000" spc="-1" strike="noStrike">
                <a:solidFill>
                  <a:srgbClr val="ff9f11"/>
                </a:solidFill>
                <a:latin typeface="Arial"/>
              </a:rPr>
              <a:t>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00ff"/>
                </a:solidFill>
                <a:latin typeface="Arial"/>
              </a:rPr>
              <a:t>P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2000" spc="-1" strike="noStrike">
                <a:solidFill>
                  <a:srgbClr val="ff9f11"/>
                </a:solidFill>
                <a:latin typeface="Arial"/>
              </a:rPr>
              <a:t>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pi</a:t>
            </a:r>
            <a:r>
              <a:rPr b="0" lang="hu-HU" sz="2000" spc="-1" strike="noStrike">
                <a:solidFill>
                  <a:srgbClr val="00cc00"/>
                </a:solidFill>
                <a:latin typeface="Arial"/>
              </a:rPr>
              <a:t>ck</a:t>
            </a:r>
            <a:r>
              <a:rPr b="0" lang="hu-HU" sz="2000" spc="-1" strike="noStrike">
                <a:solidFill>
                  <a:srgbClr val="996633"/>
                </a:solidFill>
                <a:latin typeface="Arial"/>
              </a:rPr>
              <a:t>e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hu-HU" sz="2000" spc="-1" strike="noStrike">
                <a:solidFill>
                  <a:srgbClr val="66ccff"/>
                </a:solidFill>
                <a:latin typeface="Arial"/>
              </a:rPr>
              <a:t>pe</a:t>
            </a:r>
            <a:r>
              <a:rPr b="0" lang="hu-HU" sz="2000" spc="-1" strike="noStrike">
                <a:solidFill>
                  <a:srgbClr val="00cc00"/>
                </a:solidFill>
                <a:latin typeface="Arial"/>
              </a:rPr>
              <a:t>c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pi</a:t>
            </a:r>
            <a:r>
              <a:rPr b="0" lang="hu-HU" sz="2000" spc="-1" strike="noStrike">
                <a:solidFill>
                  <a:srgbClr val="00cc00"/>
                </a:solidFill>
                <a:latin typeface="Arial"/>
              </a:rPr>
              <a:t>c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hu-HU" sz="2000" spc="-1" strike="noStrike">
                <a:solidFill>
                  <a:srgbClr val="996633"/>
                </a:solidFill>
                <a:latin typeface="Arial"/>
              </a:rPr>
              <a:t>e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66ccff"/>
                </a:solidFill>
                <a:latin typeface="Arial"/>
              </a:rPr>
              <a:t>p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hu-HU" sz="2000" spc="-1" strike="noStrike">
                <a:solidFill>
                  <a:srgbClr val="ff9f11"/>
                </a:solidFill>
                <a:latin typeface="Arial"/>
              </a:rPr>
              <a:t>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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000" spc="-1" strike="noStrike">
                <a:solidFill>
                  <a:srgbClr val="ff9f11"/>
                </a:solidFill>
                <a:latin typeface="Wingdings 2"/>
                <a:ea typeface="Wingdings 2"/>
              </a:rPr>
              <a:t>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00ff"/>
                </a:solidFill>
                <a:latin typeface="Wingdings"/>
                <a:ea typeface="Wingdings"/>
              </a:rPr>
              <a:t>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2000" spc="-1" strike="noStrike">
                <a:solidFill>
                  <a:srgbClr val="ff9f11"/>
                </a:solidFill>
                <a:latin typeface="Wingdings 2"/>
                <a:ea typeface="Wingdings 2"/>
              </a:rPr>
              <a:t>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ff"/>
                </a:solidFill>
                <a:latin typeface="ZapfDingbats"/>
                <a:ea typeface="ZapfDingbats"/>
              </a:rPr>
              <a:t></a:t>
            </a:r>
            <a:r>
              <a:rPr b="0" lang="hu-HU" sz="2000" spc="-1" strike="noStrike">
                <a:solidFill>
                  <a:srgbClr val="00cc00"/>
                </a:solidFill>
                <a:latin typeface="ZapfDingbats"/>
                <a:ea typeface="ZapfDingbats"/>
              </a:rPr>
              <a:t></a:t>
            </a:r>
            <a:r>
              <a:rPr b="0" lang="hu-HU" sz="2000" spc="-1" strike="noStrike">
                <a:solidFill>
                  <a:srgbClr val="996633"/>
                </a:solidFill>
                <a:latin typeface="ZapfDingbats"/>
                <a:ea typeface="ZapfDingbats"/>
              </a:rPr>
              <a:t>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</a:t>
            </a:r>
            <a:r>
              <a:rPr b="0" lang="hu-HU" sz="2000" spc="-1" strike="noStrike">
                <a:solidFill>
                  <a:srgbClr val="00cc00"/>
                </a:solidFill>
                <a:latin typeface="ZapfDingbats"/>
                <a:ea typeface="ZapfDingbats"/>
              </a:rPr>
              <a:t>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hu-HU" sz="2000" spc="-1" strike="noStrike">
                <a:solidFill>
                  <a:srgbClr val="0000ff"/>
                </a:solidFill>
                <a:latin typeface="ZapfDingbats"/>
                <a:ea typeface="ZapfDingbats"/>
              </a:rPr>
              <a:t></a:t>
            </a:r>
            <a:r>
              <a:rPr b="0" lang="hu-HU" sz="2000" spc="-1" strike="noStrike">
                <a:solidFill>
                  <a:srgbClr val="00cc00"/>
                </a:solidFill>
                <a:latin typeface="ZapfDingbats"/>
                <a:ea typeface="ZapfDingbats"/>
              </a:rPr>
              <a:t>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hu-HU" sz="2000" spc="-1" strike="noStrike">
                <a:solidFill>
                  <a:srgbClr val="996633"/>
                </a:solidFill>
                <a:latin typeface="ZapfDingbats"/>
                <a:ea typeface="ZapfDingbats"/>
              </a:rPr>
              <a:t>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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hu-HU" sz="2000" spc="-1" strike="noStrike">
                <a:solidFill>
                  <a:srgbClr val="ff9f11"/>
                </a:solidFill>
                <a:latin typeface="Wingdings 2"/>
                <a:ea typeface="Wingdings 2"/>
              </a:rPr>
              <a:t>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410080" y="4038480"/>
          <a:ext cx="3429000" cy="1005120"/>
        </p:xfrm>
        <a:graphic>
          <a:graphicData uri="http://schemas.openxmlformats.org/drawingml/2006/table">
            <a:tbl>
              <a:tblPr/>
              <a:tblGrid>
                <a:gridCol w="428400"/>
                <a:gridCol w="685800"/>
                <a:gridCol w="428760"/>
                <a:gridCol w="666720"/>
                <a:gridCol w="533520"/>
                <a:gridCol w="685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ZapfDingbats"/>
                          <a:ea typeface="ZapfDingbats"/>
                        </a:rPr>
                        <a:t>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33"/>
                          </a:solidFill>
                          <a:latin typeface="ZapfDingbats"/>
                          <a:ea typeface="ZapfDingbats"/>
                        </a:rPr>
                        <a:t>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f11"/>
                          </a:solidFill>
                          <a:latin typeface="Wingdings 2"/>
                          <a:ea typeface="Wingdings 2"/>
                        </a:rPr>
                        <a:t>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00"/>
                          </a:solidFill>
                          <a:latin typeface="ZapfDingbats"/>
                          <a:ea typeface="ZapfDingbats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Wingdings"/>
                          <a:ea typeface="Wingdings"/>
                        </a:rPr>
                        <a:t>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Wingdings"/>
                          <a:ea typeface="Wingdings"/>
                        </a:rPr>
                        <a:t>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5029200" y="20574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464-9C54-4902-9C8B-91B3D392F5E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Belső számítógép adatformátum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n adat bináris számként van rögzí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Értelmezés alapj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mítógép képes a műveletek végrehajtás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gramozási nyelvek adattípus támogatása az alkalmazások készítéséh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9FD-81D2-40B0-B798-0AED6A140E9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Öt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egyszerű adattípu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ttő értékű változó vagy konstans, amelynek értéke igaz vagy h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áltozó vagy konstans, amelynek értéke alfanumerikus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umerated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felsorol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használó által meghatározott adattípusok, a definícióban megadott értékeket veheti 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DayOfWeek = Mon, Tues, Wed, Thurs, Fri, Sat, S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zitív vagy negatív egész szá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ok tizedespont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ok, amelyek érté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lyan nagy vagy kic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ogy meghaladja a számítógép integer tárolási határ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597-2001-4D83-8167-B79D1DC9BC9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első adatábrázol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fejezi a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put forrás összetettség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ükséges feldolgozás módj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timális ábrázolás szempontj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ontossá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felbontá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gyszerű fényké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ben e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estmény-album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ömörsé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rolás és továbbítá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öbb adat szükséges a jobb pontossághoz és felbontásh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80"/>
                </a:solidFill>
                <a:latin typeface="Arial"/>
              </a:rPr>
              <a:t>Tömöríté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ábrázolás tömörebb formá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Metadata</a:t>
            </a:r>
            <a:r>
              <a:rPr b="0" i="1" lang="en-US" sz="14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, ami leírja vagy meghatározza az adat értelm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ódosítások egyszerűsödé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gyszerű audió szemben 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i-Fi minőségű hang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bványosí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80"/>
                </a:solidFill>
                <a:latin typeface="Arial"/>
              </a:rPr>
              <a:t>Szabadalmazott formátum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tároláshoz és feldolgozásho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ordPerfect vs. W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ényleges szabvány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abadalmazott szabványok az általánosan használt formákon alapulv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ostScri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848-0138-4228-8F22-C898A29017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dattípusok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ámad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tematikai számításokhoz használj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sszeadá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voná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orzá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sz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ípu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 (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ész szám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(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artalmaz egy tizedespont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6B8-7C32-4792-88E4-46F74B1E77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dattípusok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lfanumeriku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fanumeriku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rakterek: </a:t>
            </a: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b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ok: </a:t>
            </a: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7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Írásjelek: </a:t>
            </a: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! ;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peciális karakterek: </a:t>
            </a: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$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jegy karakterek és szá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gyiket általános karakterként visszük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ítógép konvertálja számokká a számításokh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ák: változók deklarálása számokként a programozó által (int fut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rakterként kezeli, ha szövegként kerül feldolgozás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ák:  telefonszámok, irányítószám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C30-5B4F-40AE-BA33-6CAAAF4868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lfanumerikus kódo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tszőleges bit-sorozatok választása a karakterek ábrázolás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vetelmény: input és output eszköznek ismernie kell a kódolá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náris szám értékének karakter ábrázolása összhangban van az abc-ben való elhelyezkedésé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segíti a rendezést és keresé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ECF-BED9-4F8A-9F2C-B2461197DA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 852-es kódlap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14400" y="1523880"/>
            <a:ext cx="7772400" cy="4525920"/>
            <a:chOff x="914400" y="1523880"/>
            <a:chExt cx="7772400" cy="45259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914400" y="1523880"/>
              <a:ext cx="77724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914400" y="1523880"/>
              <a:ext cx="77724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B896-D939-40BD-924F-402F924FE7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7:44:38Z</dcterms:created>
  <dc:creator>Linda Senne</dc:creator>
  <dc:description/>
  <dc:language>en-US</dc:language>
  <cp:lastModifiedBy>Horváth Zsolt</cp:lastModifiedBy>
  <dcterms:modified xsi:type="dcterms:W3CDTF">2009-03-13T09:43:58Z</dcterms:modified>
  <cp:revision>349</cp:revision>
  <dc:subject/>
  <dc:title>CHAPTER 1: Computer Systems</dc:title>
</cp:coreProperties>
</file>