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8F7A-92B9-4D86-94DE-0309783E9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14400" y="38880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5C2B-E44A-4704-912E-BF637EFDB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7080" y="152388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14400" y="38880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97080" y="38880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8F0F-97B1-4678-8939-AEC100990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42400" y="152388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70040" y="152388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14400" y="38880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42400" y="38880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70040" y="38880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E7E9-03CC-4936-8CA1-05553AE76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3CC56-0C15-491F-8E93-B0A495032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914400" y="152388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DB9AC-0990-4812-A122-47217EF41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2D006-98FF-4BD8-AEA5-ED8A3A510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97080" y="152388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C640F-A866-4629-A4DA-703CD9A36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ABEDD-E0A3-44B6-8D2B-286D16384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1760" y="274320"/>
            <a:ext cx="79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71894-6625-400E-8F00-16810B8FB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97080" y="152388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14400" y="38880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1BABD-8E0F-4FF5-9C0D-2AF433B4A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14400" y="152388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0214-5931-4DA2-9B75-2654589A1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2388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97080" y="38880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B25FE-FA2C-4614-A49B-7FC57C783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52388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8880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B92D0-65CF-407E-9279-91FE3F186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914400" y="38880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E244F-CCFA-4FAB-BCFD-A157AAFE3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97080" y="152388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400" y="38880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897080" y="38880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955CE-0B4C-4DE2-8655-0986C2917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42400" y="152388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70040" y="152388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914400" y="38880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42400" y="38880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70040" y="38880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76BAE-5662-4989-9B07-06C54E919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F09E-3667-48A6-998A-DAE6D6A04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97080" y="152388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FF7A-17E8-4EC6-84C6-138BB1992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8DBB-99ED-4937-8E8A-E986D888B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1760" y="274320"/>
            <a:ext cx="79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ED82-3FD5-4718-9DB8-04056D6C7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97080" y="152388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14400" y="38880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6745-4770-48A5-9CA5-169E0BB10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97080" y="152388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97080" y="38880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15D9-98F5-4B79-BAB8-9B423F1DC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97080" y="152388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14400" y="38880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BB02-66FD-4A81-A426-19014962B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152388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80"/>
              </a:buClr>
              <a:buSzPct val="5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f11"/>
              </a:buClr>
              <a:buSzPct val="5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1144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61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Fejezet: 5. - Lebegőpontos számo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f1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f11"/>
                </a:solidFill>
                <a:latin typeface="Times New Roman"/>
              </a:rPr>
              <a:t>5-</a:t>
            </a:r>
            <a:fld id="{E5B2ACF5-A1EA-4AA8-9C09-8E4806C2ACA1}" type="slidenum">
              <a:rPr b="0" lang="en-US" sz="1400" spc="-1" strike="noStrike">
                <a:solidFill>
                  <a:srgbClr val="ff9f1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762120" y="228600"/>
            <a:ext cx="0" cy="5943600"/>
          </a:xfrm>
          <a:prstGeom prst="line">
            <a:avLst/>
          </a:prstGeom>
          <a:ln w="69840">
            <a:solidFill>
              <a:srgbClr val="ff9f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flipH="1">
            <a:off x="304560" y="1371600"/>
            <a:ext cx="8381880" cy="0"/>
          </a:xfrm>
          <a:prstGeom prst="line">
            <a:avLst/>
          </a:prstGeom>
          <a:ln w="69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52280" y="533520"/>
            <a:ext cx="487440" cy="704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B364E-FAAE-43BC-A3B2-4F11F0A976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685800" y="152280"/>
            <a:ext cx="0" cy="5943600"/>
          </a:xfrm>
          <a:prstGeom prst="line">
            <a:avLst/>
          </a:prstGeom>
          <a:ln w="69840">
            <a:solidFill>
              <a:srgbClr val="ff9f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228240" y="2133720"/>
            <a:ext cx="8381880" cy="0"/>
          </a:xfrm>
          <a:prstGeom prst="line">
            <a:avLst/>
          </a:prstGeom>
          <a:ln w="69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52280" y="990720"/>
            <a:ext cx="487440" cy="70488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8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80"/>
              </a:buClr>
              <a:buSzPct val="5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9f11"/>
              </a:buClr>
              <a:buSzPct val="5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8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Arial"/>
              </a:rPr>
              <a:t>5</a:t>
            </a:r>
            <a:r>
              <a:rPr b="0" lang="hu-HU" sz="4400" spc="-1" strike="noStrike">
                <a:solidFill>
                  <a:srgbClr val="000080"/>
                </a:solidFill>
                <a:latin typeface="Arial"/>
              </a:rPr>
              <a:t>. Fejezet</a:t>
            </a:r>
            <a:r>
              <a:rPr b="0" lang="en-US" sz="4400" spc="-1" strike="noStrike">
                <a:solidFill>
                  <a:srgbClr val="000080"/>
                </a:solidFill>
                <a:latin typeface="Arial"/>
              </a:rPr>
              <a:t> :</a:t>
            </a:r>
            <a:br>
              <a:rPr sz="4400"/>
            </a:br>
            <a:r>
              <a:rPr b="0" lang="hu-HU" sz="4400" spc="-1" strike="noStrike">
                <a:solidFill>
                  <a:srgbClr val="000080"/>
                </a:solidFill>
                <a:latin typeface="Arial"/>
              </a:rPr>
              <a:t>Lebegőpontos számok</a:t>
            </a: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837720" y="2361960"/>
            <a:ext cx="76201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80"/>
                </a:solidFill>
                <a:latin typeface="Arial"/>
              </a:rPr>
              <a:t>The Architecture of Computer Hardware and Systems Software: </a:t>
            </a:r>
            <a:br>
              <a:rPr sz="2800"/>
            </a:br>
            <a:r>
              <a:rPr b="1" lang="hu-HU" sz="2400" spc="-1" strike="noStrike">
                <a:solidFill>
                  <a:srgbClr val="000080"/>
                </a:solidFill>
                <a:latin typeface="Arial"/>
              </a:rPr>
              <a:t>An Information Technology Approach</a:t>
            </a:r>
            <a:endParaRPr b="1" lang="en-US" sz="2400" spc="-1" strike="noStrike">
              <a:solidFill>
                <a:srgbClr val="00008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9f11"/>
                </a:solidFill>
                <a:latin typeface="Arial"/>
              </a:rPr>
              <a:t>3. kiadás</a:t>
            </a:r>
            <a:r>
              <a:rPr b="1" lang="en-US" sz="2400" spc="-1" strike="noStrike">
                <a:solidFill>
                  <a:srgbClr val="ff9f11"/>
                </a:solidFill>
                <a:latin typeface="Arial"/>
              </a:rPr>
              <a:t>, Irv Englander</a:t>
            </a:r>
            <a:endParaRPr b="1" lang="en-US" sz="2400" spc="-1" strike="noStrike">
              <a:solidFill>
                <a:srgbClr val="00008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f11"/>
                </a:solidFill>
                <a:latin typeface="Arial"/>
              </a:rPr>
              <a:t>John Wiley and Sons </a:t>
            </a:r>
            <a:r>
              <a:rPr b="1" lang="en-US" sz="2400" spc="-1" strike="noStrike">
                <a:solidFill>
                  <a:srgbClr val="ff9f11"/>
                </a:solidFill>
                <a:latin typeface="Symbol"/>
                <a:ea typeface="Symbol"/>
              </a:rPr>
              <a:t></a:t>
            </a:r>
            <a:r>
              <a:rPr b="1" lang="en-US" sz="2400" spc="-1" strike="noStrike">
                <a:solidFill>
                  <a:srgbClr val="ff9f11"/>
                </a:solidFill>
                <a:latin typeface="Arial"/>
              </a:rPr>
              <a:t>2003</a:t>
            </a:r>
            <a:endParaRPr b="1" lang="en-US" sz="2400" spc="-1" strike="noStrike">
              <a:solidFill>
                <a:srgbClr val="00008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8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Wilson Wong, Bentley College</a:t>
            </a:r>
            <a:endParaRPr b="1" lang="en-US" sz="2000" spc="-1" strike="noStrike">
              <a:solidFill>
                <a:srgbClr val="00008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Linda Senne, </a:t>
            </a:r>
            <a:r>
              <a:rPr b="1" lang="hu-HU" sz="2000" spc="-1" strike="noStrike">
                <a:solidFill>
                  <a:srgbClr val="000080"/>
                </a:solidFill>
                <a:latin typeface="Arial"/>
              </a:rPr>
              <a:t>Bentley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 College</a:t>
            </a:r>
            <a:endParaRPr b="1" lang="en-US" sz="20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80"/>
                </a:solidFill>
                <a:latin typeface="Arial"/>
              </a:rPr>
              <a:t>Példa 3: - 0.00000075</a:t>
            </a: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914400" y="1676520"/>
          <a:ext cx="7931160" cy="3611520"/>
        </p:xfrm>
        <a:graphic>
          <a:graphicData uri="http://schemas.openxmlformats.org/drawingml/2006/table">
            <a:tbl>
              <a:tblPr/>
              <a:tblGrid>
                <a:gridCol w="4724280"/>
                <a:gridCol w="3206880"/>
              </a:tblGrid>
              <a:tr h="609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01760" indent="-40176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</a:t>
                      </a: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onenciális jelölé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0.00000075 x 10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</a:t>
                      </a: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zedespont a helyé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9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</a:t>
                      </a: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mál alakra hozá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0.75 x 10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</a:t>
                      </a: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hozzáadása az 5 jegyhe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0.75000 x 10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12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</a:t>
                      </a: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zám átalakítás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d1313"/>
                          </a:solidFill>
                          <a:latin typeface="Arial"/>
                        </a:rPr>
                        <a:t>5</a:t>
                      </a:r>
                      <a:r>
                        <a:rPr b="0" lang="en-US" sz="28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44</a:t>
                      </a:r>
                      <a:r>
                        <a:rPr b="0" lang="en-US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75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139E-71F4-48D4-8352-CC30CE90848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80"/>
                </a:solidFill>
                <a:latin typeface="Arial"/>
              </a:rPr>
              <a:t>Átalakítás példák</a:t>
            </a: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990720" y="1752480"/>
          <a:ext cx="7561080" cy="4525920"/>
        </p:xfrm>
        <a:graphic>
          <a:graphicData uri="http://schemas.openxmlformats.org/drawingml/2006/table">
            <a:tbl>
              <a:tblPr/>
              <a:tblGrid>
                <a:gridCol w="1771560"/>
                <a:gridCol w="392040"/>
                <a:gridCol w="2838600"/>
                <a:gridCol w="392040"/>
                <a:gridCol w="2166840"/>
              </a:tblGrid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d1313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28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53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456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4567 x 10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3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d1313"/>
                          </a:solidFill>
                          <a:latin typeface="Arial"/>
                        </a:rPr>
                        <a:t>5</a:t>
                      </a:r>
                      <a:r>
                        <a:rPr b="0" lang="en-US" sz="28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48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–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0000 X 10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–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1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3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d1313"/>
                          </a:solidFill>
                          <a:latin typeface="Arial"/>
                        </a:rPr>
                        <a:t>5</a:t>
                      </a:r>
                      <a:r>
                        <a:rPr b="0" lang="en-US" sz="28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55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5555</a:t>
                      </a:r>
                      <a:r>
                        <a:rPr b="0" lang="hu-HU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–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5555 x 10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–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55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d1313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28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49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5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5000 x 10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5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8745-9C49-43E4-A9F2-3525863D800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80"/>
                </a:solidFill>
                <a:latin typeface="Arial"/>
              </a:rPr>
              <a:t>Normál alakra hozás</a:t>
            </a: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01760" indent="-401760">
              <a:lnSpc>
                <a:spcPct val="8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Toljuk el balra a számokat növelve a kitevőt, míg a kezdő nullák el nem tűnn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lnSpc>
                <a:spcPct val="8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Decimális számok konvertálása általános formáb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287280">
              <a:lnSpc>
                <a:spcPct val="80000"/>
              </a:lnSpc>
              <a:spcBef>
                <a:spcPts val="601"/>
              </a:spcBef>
              <a:buClr>
                <a:srgbClr val="ff9f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Lássuk el számmal a kitevő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0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ha még nincs meghatározv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287280">
              <a:lnSpc>
                <a:spcPct val="80000"/>
              </a:lnSpc>
              <a:spcBef>
                <a:spcPts val="601"/>
              </a:spcBef>
              <a:buClr>
                <a:srgbClr val="ff9f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Növeljük/csökkentsük a kitevő értékét a tizedes pont eltolásával a helyes irány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287280">
              <a:lnSpc>
                <a:spcPct val="80000"/>
              </a:lnSpc>
              <a:spcBef>
                <a:spcPts val="601"/>
              </a:spcBef>
              <a:buClr>
                <a:srgbClr val="ff9f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Csökkentsük a kitevőt, hogy eltüntessük a nullákat a mantisszábó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287280">
              <a:lnSpc>
                <a:spcPct val="80000"/>
              </a:lnSpc>
              <a:spcBef>
                <a:spcPts val="601"/>
              </a:spcBef>
              <a:buClr>
                <a:srgbClr val="ff9f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Javítsunk a pontosságon 0-kat írva vagy elhagyva/kerekítve a kevésbé fontos számjegyekné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EE83-8CB9-4964-84E2-178953AB50C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000080"/>
                </a:solidFill>
                <a:latin typeface="Arial"/>
              </a:rPr>
              <a:t>Lebegőpont a számítógépben</a:t>
            </a:r>
            <a:endParaRPr b="1" lang="en-US" sz="40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400" y="1523520"/>
            <a:ext cx="693432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Tipikus lebegőpontos for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32 biten a mérete ~10</a:t>
            </a:r>
            <a:r>
              <a:rPr b="0" lang="hu-HU" sz="2000" spc="-1" strike="noStrike" baseline="30000">
                <a:solidFill>
                  <a:srgbClr val="000000"/>
                </a:solidFill>
                <a:latin typeface="Arial"/>
              </a:rPr>
              <a:t>-38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-tól 10</a:t>
            </a:r>
            <a:r>
              <a:rPr b="0" lang="hu-HU" sz="2000" spc="-1" strike="noStrike" baseline="30000">
                <a:solidFill>
                  <a:srgbClr val="000000"/>
                </a:solidFill>
                <a:latin typeface="Arial"/>
              </a:rPr>
              <a:t>+38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-ig terj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8 bites kitevő = 256 sz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80"/>
              </a:buClr>
              <a:buSzPct val="5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Excess-128 jelöl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23/24 bites mantissza: körülbelül 7 decimális jegy pontosság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209680" y="3886200"/>
            <a:ext cx="4480200" cy="21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DC44-0605-44E7-B7FD-C0E5D8B488A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000080"/>
                </a:solidFill>
                <a:latin typeface="Arial"/>
              </a:rPr>
              <a:t>Lebegőpont a számítógépben</a:t>
            </a:r>
            <a:endParaRPr b="1" lang="en-US" sz="4000" spc="-1" strike="noStrike">
              <a:solidFill>
                <a:srgbClr val="00008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838080" y="1523880"/>
          <a:ext cx="8458200" cy="4689720"/>
        </p:xfrm>
        <a:graphic>
          <a:graphicData uri="http://schemas.openxmlformats.org/drawingml/2006/table">
            <a:tbl>
              <a:tblPr/>
              <a:tblGrid>
                <a:gridCol w="492120"/>
                <a:gridCol w="2054520"/>
                <a:gridCol w="5911560"/>
              </a:tblGrid>
              <a:tr h="46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Excess-128 kitevő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2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fd1313"/>
                          </a:solidFill>
                          <a:latin typeface="Arial"/>
                        </a:rPr>
                        <a:t>mantissza elője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mantissz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d1313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1</a:t>
                      </a:r>
                      <a:r>
                        <a:rPr b="1" lang="hu-HU" sz="20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000 00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100 1100 0000 0000 0000 000</a:t>
                      </a:r>
                      <a:r>
                        <a:rPr b="1" lang="hu-HU" sz="20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fd1313"/>
                          </a:solidFill>
                          <a:latin typeface="Arial"/>
                        </a:rPr>
                        <a:t>+</a:t>
                      </a:r>
                      <a:r>
                        <a:rPr b="1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001 1000 0000 0000 00 </a:t>
                      </a:r>
                      <a:r>
                        <a:rPr b="1" lang="hu-HU" sz="20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azaz:</a:t>
                      </a:r>
                      <a:r>
                        <a:rPr b="1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hu-HU" sz="2000" spc="-1" strike="noStrike">
                          <a:solidFill>
                            <a:srgbClr val="fd1313"/>
                          </a:solidFill>
                          <a:latin typeface="Arial"/>
                        </a:rPr>
                        <a:t>+</a:t>
                      </a:r>
                      <a:r>
                        <a:rPr b="1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</a:t>
                      </a:r>
                      <a:r>
                        <a:rPr b="1" lang="hu-HU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M</a:t>
                      </a:r>
                      <a:r>
                        <a:rPr b="1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x 2</a:t>
                      </a:r>
                      <a:r>
                        <a:rPr b="1" lang="hu-HU" sz="2000" spc="-1" strike="noStrike" baseline="30000">
                          <a:solidFill>
                            <a:srgbClr val="ff00ff"/>
                          </a:solidFill>
                          <a:latin typeface="Arial"/>
                        </a:rPr>
                        <a:t>+</a:t>
                      </a:r>
                      <a:r>
                        <a:rPr b="1" lang="hu-HU" sz="2000" spc="-1" strike="noStrike" baseline="30000">
                          <a:solidFill>
                            <a:srgbClr val="ff9f11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d1313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1</a:t>
                      </a:r>
                      <a:r>
                        <a:rPr b="1" lang="hu-HU" sz="20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000 0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000 0111 1000 0000 0000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fd1313"/>
                          </a:solidFill>
                          <a:latin typeface="Arial"/>
                        </a:rPr>
                        <a:t>-</a:t>
                      </a:r>
                      <a:r>
                        <a:rPr b="1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.0111 1000 0000 0000 000 </a:t>
                      </a:r>
                      <a:r>
                        <a:rPr b="1" lang="hu-HU" sz="20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azaz:</a:t>
                      </a:r>
                      <a:r>
                        <a:rPr b="1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hu-HU" sz="2000" spc="-1" strike="noStrike">
                          <a:solidFill>
                            <a:srgbClr val="fd1313"/>
                          </a:solidFill>
                          <a:latin typeface="Arial"/>
                        </a:rPr>
                        <a:t>-</a:t>
                      </a:r>
                      <a:r>
                        <a:rPr b="1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</a:t>
                      </a:r>
                      <a:r>
                        <a:rPr b="1" lang="hu-HU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M</a:t>
                      </a:r>
                      <a:r>
                        <a:rPr b="1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x 2</a:t>
                      </a:r>
                      <a:r>
                        <a:rPr b="1" lang="hu-HU" sz="2000" spc="-1" strike="noStrike" baseline="30000">
                          <a:solidFill>
                            <a:srgbClr val="ff00ff"/>
                          </a:solidFill>
                          <a:latin typeface="Arial"/>
                        </a:rPr>
                        <a:t>+</a:t>
                      </a:r>
                      <a:r>
                        <a:rPr b="1" lang="hu-HU" sz="2000" spc="-1" strike="noStrike" baseline="30000">
                          <a:solidFill>
                            <a:srgbClr val="ff9f11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d1313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0</a:t>
                      </a:r>
                      <a:r>
                        <a:rPr b="1" lang="hu-HU" sz="20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111 11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010 1010 1010 1010 10101 1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fd1313"/>
                          </a:solidFill>
                          <a:latin typeface="Arial"/>
                        </a:rPr>
                        <a:t>-</a:t>
                      </a:r>
                      <a:r>
                        <a:rPr b="1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10 1010 1010 1010 1010 1</a:t>
                      </a:r>
                      <a:r>
                        <a:rPr b="1" lang="hu-HU" sz="20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 </a:t>
                      </a:r>
                      <a:r>
                        <a:rPr b="1" lang="hu-HU" sz="20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azaz:</a:t>
                      </a:r>
                      <a:r>
                        <a:rPr b="1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hu-HU" sz="2000" spc="-1" strike="noStrike">
                          <a:solidFill>
                            <a:srgbClr val="fd1313"/>
                          </a:solidFill>
                          <a:latin typeface="Arial"/>
                        </a:rPr>
                        <a:t>-</a:t>
                      </a:r>
                      <a:r>
                        <a:rPr b="1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</a:t>
                      </a:r>
                      <a:r>
                        <a:rPr b="1" lang="hu-HU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M</a:t>
                      </a:r>
                      <a:r>
                        <a:rPr b="1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x 2</a:t>
                      </a:r>
                      <a:r>
                        <a:rPr b="1" lang="hu-HU" sz="2000" spc="-1" strike="noStrike" baseline="30000">
                          <a:solidFill>
                            <a:srgbClr val="ff00ff"/>
                          </a:solidFill>
                          <a:latin typeface="Arial"/>
                        </a:rPr>
                        <a:t>-</a:t>
                      </a:r>
                      <a:r>
                        <a:rPr b="1" lang="hu-HU" sz="2000" spc="-1" strike="noStrike" baseline="30000">
                          <a:solidFill>
                            <a:srgbClr val="ff9f11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6264-689C-470C-ADD9-DF62A91A8A3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80"/>
                </a:solidFill>
                <a:latin typeface="Arial"/>
              </a:rPr>
              <a:t>IEEE 754 </a:t>
            </a:r>
            <a:r>
              <a:rPr b="1" lang="hu-HU" sz="4000" spc="-1" strike="noStrike">
                <a:solidFill>
                  <a:srgbClr val="000080"/>
                </a:solidFill>
                <a:latin typeface="Arial"/>
              </a:rPr>
              <a:t>szabvány</a:t>
            </a:r>
            <a:endParaRPr b="1" lang="en-US" sz="4000" spc="-1" strike="noStrike">
              <a:solidFill>
                <a:srgbClr val="00008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1066680" y="1523880"/>
          <a:ext cx="7543800" cy="4606920"/>
        </p:xfrm>
        <a:graphic>
          <a:graphicData uri="http://schemas.openxmlformats.org/drawingml/2006/table">
            <a:tbl>
              <a:tblPr/>
              <a:tblGrid>
                <a:gridCol w="2667240"/>
                <a:gridCol w="2361960"/>
                <a:gridCol w="2514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ntossá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9f11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9f11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solidFill>
                      <a:srgbClr val="ff9f1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gyszerű</a:t>
                      </a:r>
                      <a:br>
                        <a:rPr sz="2000"/>
                      </a:br>
                      <a:r>
                        <a:rPr b="1" lang="hu-H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32 bi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9f11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solidFill>
                      <a:srgbClr val="ff9f1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upla </a:t>
                      </a:r>
                      <a:br>
                        <a:rPr sz="2000"/>
                      </a:br>
                      <a:r>
                        <a:rPr b="1" lang="hu-H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64 bi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9f11"/>
                      </a:solidFill>
                    </a:lnR>
                    <a:lnT w="9360">
                      <a:solidFill>
                        <a:srgbClr val="ff9f11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solidFill>
                      <a:srgbClr val="ff9f11"/>
                    </a:solidFill>
                  </a:tcPr>
                </a:tc>
              </a:tr>
              <a:tr h="50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ője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b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b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48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tevő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b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 b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48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lölé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cess-1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cess-10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48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tató a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jedel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hu-HU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126</a:t>
                      </a: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tól 2</a:t>
                      </a:r>
                      <a:r>
                        <a:rPr b="0" lang="hu-HU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27</a:t>
                      </a: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i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hu-HU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1022</a:t>
                      </a: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től 2</a:t>
                      </a:r>
                      <a:r>
                        <a:rPr b="0" lang="hu-HU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023</a:t>
                      </a: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i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48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tissz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48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imális pontossá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</a:t>
                      </a: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</a:t>
                      </a: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48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rtékhatá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</a:t>
                      </a: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hu-HU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45</a:t>
                      </a: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tól 10</a:t>
                      </a:r>
                      <a:r>
                        <a:rPr b="0" lang="hu-HU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8 </a:t>
                      </a: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i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</a:t>
                      </a: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hu-HU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300</a:t>
                      </a: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tól 10</a:t>
                      </a:r>
                      <a:r>
                        <a:rPr b="0" lang="hu-HU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00 </a:t>
                      </a: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i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53BC-2635-495A-82DD-52B57C58720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80"/>
                </a:solidFill>
                <a:latin typeface="Arial"/>
              </a:rPr>
              <a:t>IEEE 754 </a:t>
            </a:r>
            <a:r>
              <a:rPr b="1" lang="hu-HU" sz="4000" spc="-1" strike="noStrike">
                <a:solidFill>
                  <a:srgbClr val="000080"/>
                </a:solidFill>
                <a:latin typeface="Arial"/>
              </a:rPr>
              <a:t>szabvány</a:t>
            </a:r>
            <a:r>
              <a:rPr b="1" lang="en-US" sz="4400" spc="-1" strike="noStrike">
                <a:solidFill>
                  <a:srgbClr val="000080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14040" y="152388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t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-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lebegő pontos érték definíci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1066680" y="2133720"/>
          <a:ext cx="7314840" cy="3809520"/>
        </p:xfrm>
        <a:graphic>
          <a:graphicData uri="http://schemas.openxmlformats.org/drawingml/2006/table">
            <a:tbl>
              <a:tblPr/>
              <a:tblGrid>
                <a:gridCol w="1850760"/>
                <a:gridCol w="2820240"/>
                <a:gridCol w="2643840"/>
              </a:tblGrid>
              <a:tr h="63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itevő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9f11"/>
                      </a:solidFill>
                    </a:lnL>
                    <a:lnR w="5760">
                      <a:solidFill>
                        <a:srgbClr val="ff9f11"/>
                      </a:solidFill>
                    </a:lnR>
                    <a:lnT w="9360">
                      <a:solidFill>
                        <a:srgbClr val="ff9f11"/>
                      </a:solidFill>
                    </a:lnT>
                    <a:lnB w="9360">
                      <a:solidFill>
                        <a:srgbClr val="000099"/>
                      </a:solidFill>
                    </a:lnB>
                    <a:solidFill>
                      <a:srgbClr val="ff9f1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ntissz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f11"/>
                      </a:solidFill>
                    </a:lnL>
                    <a:lnR w="5760">
                      <a:solidFill>
                        <a:srgbClr val="ff9f11"/>
                      </a:solidFill>
                    </a:lnR>
                    <a:lnT w="9360">
                      <a:solidFill>
                        <a:srgbClr val="ff9f11"/>
                      </a:solidFill>
                    </a:lnT>
                    <a:lnB w="9360">
                      <a:solidFill>
                        <a:srgbClr val="000099"/>
                      </a:solidFill>
                    </a:lnB>
                    <a:solidFill>
                      <a:srgbClr val="ff9f1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Érté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f11"/>
                      </a:solidFill>
                    </a:lnL>
                    <a:lnR w="9360">
                      <a:solidFill>
                        <a:srgbClr val="ff9f11"/>
                      </a:solidFill>
                    </a:lnR>
                    <a:lnT w="9360">
                      <a:solidFill>
                        <a:srgbClr val="ff9f11"/>
                      </a:solidFill>
                    </a:lnT>
                    <a:lnB w="9360">
                      <a:solidFill>
                        <a:srgbClr val="000099"/>
                      </a:solidFill>
                    </a:lnB>
                    <a:solidFill>
                      <a:srgbClr val="ff9f11"/>
                    </a:solidFill>
                  </a:tcPr>
                </a:tc>
              </a:tr>
              <a:tr h="63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99"/>
                      </a:solidFill>
                    </a:lnL>
                    <a:lnR>
                      <a:noFill/>
                    </a:lnR>
                    <a:lnT w="9360">
                      <a:solidFill>
                        <a:srgbClr val="0000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±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9360">
                      <a:solidFill>
                        <a:srgbClr val="000099"/>
                      </a:solidFill>
                    </a:lnR>
                    <a:lnT w="9360">
                      <a:solidFill>
                        <a:srgbClr val="000099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3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9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m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±2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-126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x 0.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9360">
                      <a:solidFill>
                        <a:srgbClr val="0000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2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9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árm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±2</a:t>
                      </a:r>
                      <a:r>
                        <a:rPr b="0" lang="hu-HU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(E-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127</a:t>
                      </a:r>
                      <a:r>
                        <a:rPr b="0" lang="hu-HU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x 1.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9360">
                      <a:solidFill>
                        <a:srgbClr val="0000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9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±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±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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9360">
                      <a:solidFill>
                        <a:srgbClr val="0000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99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m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iális es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9360">
                      <a:solidFill>
                        <a:srgbClr val="000099"/>
                      </a:solidFill>
                    </a:lnR>
                    <a:lnT>
                      <a:noFill/>
                    </a:lnT>
                    <a:lnB w="9360">
                      <a:solidFill>
                        <a:srgbClr val="0000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006E-46E8-403E-AFFF-8EB8751A143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800" spc="-1" strike="noStrike">
                <a:solidFill>
                  <a:srgbClr val="000080"/>
                </a:solidFill>
                <a:latin typeface="Arial"/>
              </a:rPr>
              <a:t>Átalakítás</a:t>
            </a:r>
            <a:r>
              <a:rPr b="1" lang="en-US" sz="3800" spc="-1" strike="noStrike">
                <a:solidFill>
                  <a:srgbClr val="000080"/>
                </a:solidFill>
                <a:latin typeface="Arial"/>
              </a:rPr>
              <a:t>: </a:t>
            </a:r>
            <a:r>
              <a:rPr b="1" lang="hu-HU" sz="3800" spc="-1" strike="noStrike">
                <a:solidFill>
                  <a:srgbClr val="000080"/>
                </a:solidFill>
                <a:latin typeface="Arial"/>
              </a:rPr>
              <a:t>10-es és 2-es alap</a:t>
            </a:r>
            <a:endParaRPr b="1" lang="en-US" sz="3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Két lép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számok egész és tört részét külön kell átalakítani, beágyazott tizedes vagy bináris pont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z átalakítás végrehajtása előtt az exponenciális alakban lévő számokat vissza kell alakítani egyszerű decimális vagy bináris kevert számmá vagy tört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EDBF-D51F-44B9-A758-5F301DBC9B2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800" spc="-1" strike="noStrike">
                <a:solidFill>
                  <a:srgbClr val="000080"/>
                </a:solidFill>
                <a:latin typeface="Arial"/>
              </a:rPr>
              <a:t>Átalakítás</a:t>
            </a:r>
            <a:r>
              <a:rPr b="1" lang="en-US" sz="3800" spc="-1" strike="noStrike">
                <a:solidFill>
                  <a:srgbClr val="000080"/>
                </a:solidFill>
                <a:latin typeface="Arial"/>
              </a:rPr>
              <a:t>: </a:t>
            </a:r>
            <a:r>
              <a:rPr b="1" lang="hu-HU" sz="3800" spc="-1" strike="noStrike">
                <a:solidFill>
                  <a:srgbClr val="000080"/>
                </a:solidFill>
                <a:latin typeface="Arial"/>
              </a:rPr>
              <a:t>10-es és 2-es alap</a:t>
            </a:r>
            <a:endParaRPr b="1" lang="en-US" sz="3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53.75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átalakítása bináris lebegőpontos formáb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914400" y="2611440"/>
          <a:ext cx="7924680" cy="3332160"/>
        </p:xfrm>
        <a:graphic>
          <a:graphicData uri="http://schemas.openxmlformats.org/drawingml/2006/table">
            <a:tbl>
              <a:tblPr/>
              <a:tblGrid>
                <a:gridCol w="3573360"/>
                <a:gridCol w="435132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buClr>
                          <a:srgbClr val="ff9f11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hu-H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zám szorzása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100</a:t>
                      </a:r>
                      <a:r>
                        <a:rPr b="0" lang="hu-H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z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37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7160" indent="-227160">
                        <a:spcBef>
                          <a:spcPts val="550"/>
                        </a:spcBef>
                        <a:buClr>
                          <a:srgbClr val="ff9f11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nárissá alakítá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 0011 0001 1111 </a:t>
                      </a:r>
                      <a:r>
                        <a:rPr b="0" lang="hu-H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gy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1.</a:t>
                      </a:r>
                      <a:r>
                        <a:rPr b="0" lang="en-US" sz="2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000 1100 0111</a:t>
                      </a:r>
                      <a:r>
                        <a:rPr b="0" lang="en-US" sz="2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x 2</a:t>
                      </a:r>
                      <a:r>
                        <a:rPr b="0" lang="en-US" sz="2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buClr>
                          <a:srgbClr val="ff9f11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EEE </a:t>
                      </a:r>
                      <a:r>
                        <a:rPr b="0" lang="hu-H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ábrázolá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d1313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1000</a:t>
                      </a:r>
                      <a:r>
                        <a:rPr b="0" lang="hu-HU" sz="22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110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0</a:t>
                      </a:r>
                      <a:r>
                        <a:rPr b="0" lang="hu-HU" sz="2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0011</a:t>
                      </a:r>
                      <a:r>
                        <a:rPr b="0" lang="hu-HU" sz="2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0001</a:t>
                      </a:r>
                      <a:r>
                        <a:rPr b="0" lang="hu-HU" sz="2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11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4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103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227160" indent="-227160">
                        <a:spcBef>
                          <a:spcPts val="550"/>
                        </a:spcBef>
                        <a:buClr>
                          <a:srgbClr val="ff9f11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z eredeti decimális értéket visszakapjuk, ha elvégzünk egy 100</a:t>
                      </a:r>
                      <a:r>
                        <a:rPr b="0" lang="hu-HU" sz="2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hu-H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zal való osztást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49" name=""/>
          <p:cNvSpPr/>
          <p:nvPr/>
        </p:nvSpPr>
        <p:spPr>
          <a:xfrm>
            <a:off x="7391520" y="4343400"/>
            <a:ext cx="1562040" cy="609480"/>
          </a:xfrm>
          <a:prstGeom prst="borderCallout1">
            <a:avLst>
              <a:gd name="adj1" fmla="val 18750"/>
              <a:gd name="adj2" fmla="val -8333"/>
              <a:gd name="adj3" fmla="val -20833"/>
              <a:gd name="adj4" fmla="val -14532"/>
            </a:avLst>
          </a:prstGeom>
          <a:noFill/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4419720"/>
            <a:ext cx="2514600" cy="642600"/>
          </a:xfrm>
          <a:prstGeom prst="rect">
            <a:avLst/>
          </a:prstGeom>
          <a:noFill/>
          <a:ln w="34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9f11"/>
                </a:solidFill>
                <a:latin typeface="Arial"/>
              </a:rPr>
              <a:t>Excess-127 kitevő = 127 + </a:t>
            </a:r>
            <a:r>
              <a:rPr b="1" lang="hu-HU" sz="1800" spc="-1" strike="noStrike">
                <a:solidFill>
                  <a:srgbClr val="ff00ff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467480" y="44956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80"/>
                </a:solidFill>
                <a:latin typeface="Arial"/>
              </a:rPr>
              <a:t>mantiss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209680" y="441972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40106"/>
              <a:gd name="adj4" fmla="val 248263"/>
            </a:avLst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209680" y="45720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d1313"/>
                </a:solidFill>
                <a:latin typeface="Arial"/>
              </a:rPr>
              <a:t>Előj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5486400" y="4190760"/>
            <a:ext cx="76320" cy="228600"/>
          </a:xfrm>
          <a:prstGeom prst="line">
            <a:avLst/>
          </a:prstGeom>
          <a:ln w="34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89D9-0889-4B07-8449-F901BB21FA2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Excess</a:t>
            </a:r>
            <a:r>
              <a:rPr b="1" lang="hu-HU" sz="32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hu-HU" sz="3800" spc="-1" strike="noStrike">
                <a:solidFill>
                  <a:srgbClr val="000080"/>
                </a:solidFill>
                <a:latin typeface="Arial"/>
              </a:rPr>
              <a:t>128-as illetve 127-es alak</a:t>
            </a:r>
            <a:endParaRPr b="1" lang="en-US" sz="3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52352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128-as eseté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valódi kitevő = szimbolikus kitevő - 1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127-es eseté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valódi kitevő = szimbolikus kitevő - 128+1 azaz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valódi kitevő = szimbolikus kitevő - 1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1C02-1C81-4CAE-AE6E-EEF745483FF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80"/>
                </a:solidFill>
                <a:latin typeface="Arial"/>
              </a:rPr>
              <a:t>Lebegőpontos számok</a:t>
            </a: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Valós szám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kkor használjuk a számítógépeknél, h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Kívül esik a számítógép integer határá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túl kicsi vagy túl nag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Tizedes törtet tartalma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4959-7802-4EA2-AD5C-482208F95E2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Excess</a:t>
            </a:r>
            <a:r>
              <a:rPr b="1" lang="hu-HU" sz="3200" spc="-1" strike="noStrike">
                <a:solidFill>
                  <a:srgbClr val="000080"/>
                </a:solidFill>
                <a:latin typeface="Arial"/>
              </a:rPr>
              <a:t> 128-as illetve 127-es alak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61760" y="15235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Például, ha a pozitív szimbolikus kitevő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00ff"/>
                </a:solidFill>
                <a:latin typeface="Arial"/>
              </a:rPr>
              <a:t>1</a:t>
            </a:r>
            <a:r>
              <a:rPr b="0" lang="hu-HU" sz="2400" spc="-1" strike="noStrike">
                <a:solidFill>
                  <a:srgbClr val="0000ff"/>
                </a:solidFill>
                <a:latin typeface="Arial"/>
              </a:rPr>
              <a:t>000 0001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akkor 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vk = 129 - 12</a:t>
            </a:r>
            <a:r>
              <a:rPr b="0" lang="hu-HU" sz="2400" spc="-1" strike="noStrike">
                <a:solidFill>
                  <a:srgbClr val="009999"/>
                </a:solidFill>
                <a:latin typeface="Arial"/>
              </a:rPr>
              <a:t>8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hu-HU" sz="2400" spc="-1" strike="noStrike">
                <a:solidFill>
                  <a:srgbClr val="ff00ff"/>
                </a:solidFill>
                <a:latin typeface="Arial"/>
              </a:rPr>
              <a:t>+</a:t>
            </a:r>
            <a:r>
              <a:rPr b="0" lang="hu-HU" sz="24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=&gt; (0.M * 2</a:t>
            </a:r>
            <a:r>
              <a:rPr b="0" lang="hu-HU" sz="2400" spc="-1" strike="noStrike" baseline="30000">
                <a:solidFill>
                  <a:srgbClr val="ff00ff"/>
                </a:solidFill>
                <a:latin typeface="Arial"/>
              </a:rPr>
              <a:t>+</a:t>
            </a:r>
            <a:r>
              <a:rPr b="0" lang="hu-HU" sz="2400" spc="-1" strike="noStrike" baseline="30000">
                <a:solidFill>
                  <a:srgbClr val="0000ff"/>
                </a:solidFill>
                <a:latin typeface="Arial"/>
              </a:rPr>
              <a:t>1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) 12</a:t>
            </a:r>
            <a:r>
              <a:rPr b="0" lang="hu-HU" sz="2400" spc="-1" strike="noStrike">
                <a:solidFill>
                  <a:srgbClr val="009999"/>
                </a:solidFill>
                <a:latin typeface="Arial"/>
              </a:rPr>
              <a:t>8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-as alak esetén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vk = 129 - 12</a:t>
            </a:r>
            <a:r>
              <a:rPr b="0" lang="hu-HU" sz="2400" spc="-1" strike="noStrike">
                <a:solidFill>
                  <a:srgbClr val="009999"/>
                </a:solidFill>
                <a:latin typeface="Arial"/>
              </a:rPr>
              <a:t>7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hu-HU" sz="2400" spc="-1" strike="noStrike">
                <a:solidFill>
                  <a:srgbClr val="ff00ff"/>
                </a:solidFill>
                <a:latin typeface="Arial"/>
              </a:rPr>
              <a:t>+</a:t>
            </a:r>
            <a:r>
              <a:rPr b="0" lang="hu-HU" sz="24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=&gt; (1.M * 2</a:t>
            </a:r>
            <a:r>
              <a:rPr b="0" lang="hu-HU" sz="2400" spc="-1" strike="noStrike" baseline="30000">
                <a:solidFill>
                  <a:srgbClr val="ff00ff"/>
                </a:solidFill>
                <a:latin typeface="Arial"/>
              </a:rPr>
              <a:t>+</a:t>
            </a:r>
            <a:r>
              <a:rPr b="0" lang="hu-HU" sz="24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) 12</a:t>
            </a:r>
            <a:r>
              <a:rPr b="0" lang="hu-HU" sz="2400" spc="-1" strike="noStrike">
                <a:solidFill>
                  <a:srgbClr val="009999"/>
                </a:solidFill>
                <a:latin typeface="Arial"/>
              </a:rPr>
              <a:t>7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-es alak eseté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Például, ha a negatív szimbolikus kitevő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00ff"/>
                </a:solidFill>
                <a:latin typeface="Arial"/>
              </a:rPr>
              <a:t>0</a:t>
            </a:r>
            <a:r>
              <a:rPr b="0" lang="hu-HU" sz="2400" spc="-1" strike="noStrike">
                <a:solidFill>
                  <a:srgbClr val="0000ff"/>
                </a:solidFill>
                <a:latin typeface="Arial"/>
              </a:rPr>
              <a:t>111 1110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akkor 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vk = 126 - 12</a:t>
            </a:r>
            <a:r>
              <a:rPr b="0" lang="hu-HU" sz="2400" spc="-1" strike="noStrike">
                <a:solidFill>
                  <a:srgbClr val="009999"/>
                </a:solidFill>
                <a:latin typeface="Arial"/>
              </a:rPr>
              <a:t>8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hu-HU" sz="2400" spc="-1" strike="noStrike">
                <a:solidFill>
                  <a:srgbClr val="ff00ff"/>
                </a:solidFill>
                <a:latin typeface="Arial"/>
              </a:rPr>
              <a:t>-</a:t>
            </a:r>
            <a:r>
              <a:rPr b="0" lang="hu-HU" sz="24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=&gt; (0.M * 2</a:t>
            </a:r>
            <a:r>
              <a:rPr b="0" lang="hu-HU" sz="2400" spc="-1" strike="noStrike" baseline="30000">
                <a:solidFill>
                  <a:srgbClr val="ff00ff"/>
                </a:solidFill>
                <a:latin typeface="Arial"/>
              </a:rPr>
              <a:t>-</a:t>
            </a:r>
            <a:r>
              <a:rPr b="0" lang="hu-HU" sz="24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) 12</a:t>
            </a:r>
            <a:r>
              <a:rPr b="0" lang="hu-HU" sz="2400" spc="-1" strike="noStrike">
                <a:solidFill>
                  <a:srgbClr val="009999"/>
                </a:solidFill>
                <a:latin typeface="Arial"/>
              </a:rPr>
              <a:t>8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-as alak esetén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vk = 126 - 12</a:t>
            </a:r>
            <a:r>
              <a:rPr b="0" lang="hu-HU" sz="2400" spc="-1" strike="noStrike">
                <a:solidFill>
                  <a:srgbClr val="009999"/>
                </a:solidFill>
                <a:latin typeface="Arial"/>
              </a:rPr>
              <a:t>7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hu-HU" sz="2400" spc="-1" strike="noStrike">
                <a:solidFill>
                  <a:srgbClr val="ff00ff"/>
                </a:solidFill>
                <a:latin typeface="Arial"/>
              </a:rPr>
              <a:t>-</a:t>
            </a:r>
            <a:r>
              <a:rPr b="0" lang="hu-HU" sz="24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=&gt; (1.M * 2</a:t>
            </a:r>
            <a:r>
              <a:rPr b="0" lang="hu-HU" sz="2400" spc="-1" strike="noStrike" baseline="30000">
                <a:solidFill>
                  <a:srgbClr val="ff00ff"/>
                </a:solidFill>
                <a:latin typeface="Arial"/>
              </a:rPr>
              <a:t>-</a:t>
            </a:r>
            <a:r>
              <a:rPr b="0" lang="hu-HU" sz="2400" spc="-1" strike="noStrike" baseline="30000">
                <a:solidFill>
                  <a:srgbClr val="0000ff"/>
                </a:solidFill>
                <a:latin typeface="Arial"/>
              </a:rPr>
              <a:t>1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) 12</a:t>
            </a:r>
            <a:r>
              <a:rPr b="0" lang="hu-HU" sz="2400" spc="-1" strike="noStrike">
                <a:solidFill>
                  <a:srgbClr val="009999"/>
                </a:solidFill>
                <a:latin typeface="Arial"/>
              </a:rPr>
              <a:t>7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-es alak eseté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5484-9C58-4317-8924-84133AE2C41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80"/>
                </a:solidFill>
                <a:latin typeface="Arial"/>
              </a:rPr>
              <a:t>Tömörített decimális forma</a:t>
            </a: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3915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Dollárok és centek ábrázolása valós számokk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vállalat-orientált nyelvek támogatják, mint 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B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BM 370/390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é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mpaq Alph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2057400" y="3505320"/>
            <a:ext cx="5089680" cy="2127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9505-4A21-439E-9F96-0F12D911776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000080"/>
                </a:solidFill>
                <a:latin typeface="Arial"/>
              </a:rPr>
              <a:t>Programozási megfontolás</a:t>
            </a:r>
            <a:endParaRPr b="1" lang="en-US" sz="40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14040" y="15238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er 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előnye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számítógép könnyebben használ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Precízeb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Gyorsab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Kisebb tárhely és idő igé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 legtöbb magas szintű nyelv kettő vagy több formát szolgált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Rövid egész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16 bit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Hosszú egész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64 b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3EDE-9022-488C-847E-065C678BB4D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000080"/>
                </a:solidFill>
                <a:latin typeface="Arial"/>
              </a:rPr>
              <a:t>Programozási megfontolás</a:t>
            </a:r>
            <a:endParaRPr b="1" lang="en-US" sz="40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040" y="15238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Valós szám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Változónak vagy konstansnak van tört rés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nagyon kicsi vagy nagyon nagy értékű számok kívül esnek az integer ábrázolási határá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program lehet, hogy nem lesz elég precíz a feladat végrehajtásáho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Tömörített decimális számábrázolás vonzóbb a vállalati alkalmazásokná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5094-755F-4E05-92B8-16B46AAB275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80"/>
                </a:solidFill>
                <a:latin typeface="Arial"/>
              </a:rPr>
              <a:t>Exponenciális jelölés</a:t>
            </a: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4040" y="152388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5960" indent="-34596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Hívják még </a:t>
            </a:r>
            <a:r>
              <a:rPr b="0" i="1" lang="hu-HU" sz="2400" spc="-1" strike="noStrike">
                <a:solidFill>
                  <a:srgbClr val="000080"/>
                </a:solidFill>
                <a:latin typeface="Arial"/>
              </a:rPr>
              <a:t>tudományos jelölésnek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i="1" lang="hu-HU" sz="2400" spc="-1" strike="noStrike">
                <a:solidFill>
                  <a:srgbClr val="00008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4 alkotóelem kell egy számho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3960">
              <a:lnSpc>
                <a:spcPct val="90000"/>
              </a:lnSpc>
              <a:spcBef>
                <a:spcPts val="499"/>
              </a:spcBef>
              <a:buClr>
                <a:srgbClr val="ff9f1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Előjel (pl.: ”+”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3960">
              <a:lnSpc>
                <a:spcPct val="90000"/>
              </a:lnSpc>
              <a:spcBef>
                <a:spcPts val="499"/>
              </a:spcBef>
              <a:buClr>
                <a:srgbClr val="ff9f1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Érték vagy </a:t>
            </a:r>
            <a:r>
              <a:rPr b="0" i="1" lang="hu-HU" sz="2000" spc="-1" strike="noStrike">
                <a:solidFill>
                  <a:srgbClr val="000099"/>
                </a:solidFill>
                <a:latin typeface="Arial"/>
              </a:rPr>
              <a:t>mantissza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 (pl.: 1234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3960">
              <a:lnSpc>
                <a:spcPct val="90000"/>
              </a:lnSpc>
              <a:spcBef>
                <a:spcPts val="499"/>
              </a:spcBef>
              <a:buClr>
                <a:srgbClr val="ff9f1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Kitevő előjele (pl.: ”+” a 10</a:t>
            </a:r>
            <a:r>
              <a:rPr b="0" lang="hu-HU" sz="20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-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3960">
              <a:lnSpc>
                <a:spcPct val="90000"/>
              </a:lnSpc>
              <a:spcBef>
                <a:spcPts val="499"/>
              </a:spcBef>
              <a:buClr>
                <a:srgbClr val="ff9f1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Kitevő értéke (pl.: 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Plus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3960">
              <a:lnSpc>
                <a:spcPct val="90000"/>
              </a:lnSpc>
              <a:spcBef>
                <a:spcPts val="499"/>
              </a:spcBef>
              <a:buClr>
                <a:srgbClr val="ff9f11"/>
              </a:buClr>
              <a:buFont typeface="Arial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Kitevő alapja (pl.: 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3960">
              <a:lnSpc>
                <a:spcPct val="90000"/>
              </a:lnSpc>
              <a:spcBef>
                <a:spcPts val="499"/>
              </a:spcBef>
              <a:buClr>
                <a:srgbClr val="ff9f11"/>
              </a:buClr>
              <a:buFont typeface="Arial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Tizedesvessző helye (vagy más bázisé) alappo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1600200" y="1981080"/>
          <a:ext cx="5638680" cy="911520"/>
        </p:xfrm>
        <a:graphic>
          <a:graphicData uri="http://schemas.openxmlformats.org/drawingml/2006/table">
            <a:tbl>
              <a:tblPr/>
              <a:tblGrid>
                <a:gridCol w="2514600"/>
                <a:gridCol w="31240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ff9f11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3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ff9f11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345 x 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7280" indent="-287280">
                        <a:spcBef>
                          <a:spcPts val="601"/>
                        </a:spcBef>
                        <a:buClr>
                          <a:srgbClr val="ff9f11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2345 x 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ff9f11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3450000 x 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BB0F-AB3A-435C-BDDD-33A27AB8371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80"/>
                </a:solidFill>
                <a:latin typeface="Arial"/>
              </a:rPr>
              <a:t>Szabályok összegzése</a:t>
            </a: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914400" y="1981080"/>
          <a:ext cx="7848720" cy="2957760"/>
        </p:xfrm>
        <a:graphic>
          <a:graphicData uri="http://schemas.openxmlformats.org/drawingml/2006/table">
            <a:tbl>
              <a:tblPr/>
              <a:tblGrid>
                <a:gridCol w="1962000"/>
                <a:gridCol w="1963800"/>
                <a:gridCol w="1960560"/>
                <a:gridCol w="1962360"/>
              </a:tblGrid>
              <a:tr h="521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d1313"/>
                          </a:solidFill>
                          <a:latin typeface="Arial"/>
                        </a:rPr>
                        <a:t>Mantissza elője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Kitevő elője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5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4000" spc="-1" strike="noStrike">
                          <a:solidFill>
                            <a:srgbClr val="fd1313"/>
                          </a:solidFill>
                          <a:latin typeface="Arial"/>
                        </a:rPr>
                        <a:t>-</a:t>
                      </a:r>
                      <a:r>
                        <a:rPr b="0" lang="hu-H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</a:t>
                      </a:r>
                      <a:r>
                        <a:rPr b="1" lang="hu-HU" sz="36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35790</a:t>
                      </a:r>
                      <a:r>
                        <a:rPr b="0" lang="hu-H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x </a:t>
                      </a:r>
                      <a:r>
                        <a:rPr b="1" lang="hu-H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1" lang="hu-HU" sz="3600" spc="-1" strike="noStrike" baseline="30000">
                          <a:solidFill>
                            <a:srgbClr val="ff00ff"/>
                          </a:solidFill>
                          <a:latin typeface="Arial"/>
                        </a:rPr>
                        <a:t>-</a:t>
                      </a:r>
                      <a:r>
                        <a:rPr b="1" lang="hu-HU" sz="3600" spc="-1" strike="noStrike" baseline="30000">
                          <a:solidFill>
                            <a:srgbClr val="ff9f11"/>
                          </a:solidFill>
                          <a:latin typeface="Arial"/>
                        </a:rPr>
                        <a:t>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1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zedes-vessző hely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5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Mantissz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a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Kitevő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97" name=""/>
          <p:cNvGrpSpPr/>
          <p:nvPr/>
        </p:nvGrpSpPr>
        <p:grpSpPr>
          <a:xfrm>
            <a:off x="1981080" y="2438280"/>
            <a:ext cx="4876920" cy="1371240"/>
            <a:chOff x="1981080" y="2438280"/>
            <a:chExt cx="4876920" cy="1371240"/>
          </a:xfrm>
        </p:grpSpPr>
        <p:sp>
          <p:nvSpPr>
            <p:cNvPr id="98" name=""/>
            <p:cNvSpPr/>
            <p:nvPr/>
          </p:nvSpPr>
          <p:spPr>
            <a:xfrm>
              <a:off x="1981080" y="2514600"/>
              <a:ext cx="1143000" cy="533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>
              <a:off x="6095520" y="2438280"/>
              <a:ext cx="304920" cy="38124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 flipV="1">
              <a:off x="6324480" y="3124080"/>
              <a:ext cx="533520" cy="53352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V="1">
              <a:off x="5790960" y="3276360"/>
              <a:ext cx="7632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3809880" y="3276720"/>
              <a:ext cx="533520" cy="45720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>
              <a:off x="2514600" y="3276360"/>
              <a:ext cx="114300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3B54-05A0-4E5A-9CBB-87BBDBB9A96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80"/>
                </a:solidFill>
                <a:latin typeface="Arial"/>
              </a:rPr>
              <a:t>Formai leírás</a:t>
            </a: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Előre definiált form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általában 8 b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Megnövelt értékhatá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két jegyű kitevő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kisebb pontosság árá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ötjegyű mantissz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066680" y="3657600"/>
          <a:ext cx="7134120" cy="2200320"/>
        </p:xfrm>
        <a:graphic>
          <a:graphicData uri="http://schemas.openxmlformats.org/drawingml/2006/table">
            <a:tbl>
              <a:tblPr/>
              <a:tblGrid>
                <a:gridCol w="3468600"/>
                <a:gridCol w="3665520"/>
              </a:tblGrid>
              <a:tr h="520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d1313"/>
                          </a:solidFill>
                          <a:latin typeface="Arial"/>
                        </a:rPr>
                        <a:t>Mantissza elője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248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d1313"/>
                          </a:solidFill>
                          <a:latin typeface="Arial"/>
                        </a:rPr>
                        <a:t>S</a:t>
                      </a:r>
                      <a:r>
                        <a:rPr b="1" lang="en-US" sz="40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EE</a:t>
                      </a:r>
                      <a:r>
                        <a:rPr b="1" lang="en-US" sz="40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MMMMM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2 jegyű kitevő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5 jegyű mantissz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07" name=""/>
          <p:cNvGrpSpPr/>
          <p:nvPr/>
        </p:nvGrpSpPr>
        <p:grpSpPr>
          <a:xfrm>
            <a:off x="2286000" y="4114800"/>
            <a:ext cx="4114440" cy="1295280"/>
            <a:chOff x="2286000" y="4114800"/>
            <a:chExt cx="4114440" cy="1295280"/>
          </a:xfrm>
        </p:grpSpPr>
        <p:sp>
          <p:nvSpPr>
            <p:cNvPr id="108" name=""/>
            <p:cNvSpPr/>
            <p:nvPr/>
          </p:nvSpPr>
          <p:spPr>
            <a:xfrm>
              <a:off x="2286000" y="4114800"/>
              <a:ext cx="609480" cy="533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 flipV="1">
              <a:off x="5333760" y="5029200"/>
              <a:ext cx="1066680" cy="38088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flipV="1">
              <a:off x="2666880" y="4952880"/>
              <a:ext cx="1067040" cy="38088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772C-0C5B-439C-AA3C-F5DECF7B1E7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80"/>
                </a:solidFill>
                <a:latin typeface="Arial"/>
              </a:rPr>
              <a:t>Forma</a:t>
            </a: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Mantissza: előjel karakter az előjel-érték formáb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Tizedespont a mantissza elején helyezkedik 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Excess-N jelölés: komplemens ábrázolá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Vegyük az eltolást a középértéknek, ahol N a középérté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219320" y="4952880"/>
          <a:ext cx="7640640" cy="1239840"/>
        </p:xfrm>
        <a:graphic>
          <a:graphicData uri="http://schemas.openxmlformats.org/drawingml/2006/table">
            <a:tbl>
              <a:tblPr/>
              <a:tblGrid>
                <a:gridCol w="3373200"/>
                <a:gridCol w="1140120"/>
                <a:gridCol w="1101600"/>
                <a:gridCol w="927000"/>
                <a:gridCol w="10987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Ábrázolá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9f11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ff9f11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9f1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18720">
                      <a:solidFill>
                        <a:srgbClr val="ff9f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18720">
                      <a:solidFill>
                        <a:srgbClr val="ff9f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18720">
                      <a:solidFill>
                        <a:srgbClr val="ff9f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18720">
                      <a:solidFill>
                        <a:srgbClr val="ff9f11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Ábrázolt kitevő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9f11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9f1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-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18720">
                      <a:solidFill>
                        <a:srgbClr val="ff9f11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18720">
                      <a:solidFill>
                        <a:srgbClr val="ff9f11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  </a:t>
                      </a:r>
                      <a:r>
                        <a:rPr b="1" i="1" lang="en-US" sz="20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18720">
                      <a:solidFill>
                        <a:srgbClr val="ff9f11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18720">
                      <a:solidFill>
                        <a:srgbClr val="ff9f11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44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    –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övekvő érték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20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8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4" name=""/>
          <p:cNvSpPr/>
          <p:nvPr/>
        </p:nvSpPr>
        <p:spPr>
          <a:xfrm>
            <a:off x="4724280" y="6095880"/>
            <a:ext cx="4038840" cy="0"/>
          </a:xfrm>
          <a:prstGeom prst="line">
            <a:avLst/>
          </a:prstGeom>
          <a:ln w="3168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2976-CB8F-4DC1-9F7D-727101A1108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000080"/>
                </a:solidFill>
                <a:latin typeface="Arial"/>
              </a:rPr>
              <a:t>Túlcsordulás és alulcsordulás</a:t>
            </a:r>
            <a:endParaRPr b="1" lang="en-US" sz="40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235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kkor fordul elő, ha az adott számábrázolást tekintve túl kicsi vagy túl nagy számokat szeretnénk kezel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523880" y="3048120"/>
            <a:ext cx="6096240" cy="1541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B95D-702E-4310-AA07-824AEDCAE2F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80"/>
                </a:solidFill>
                <a:latin typeface="Arial"/>
              </a:rPr>
              <a:t>Példa 1: 246.8035</a:t>
            </a: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914400" y="1752480"/>
          <a:ext cx="7931160" cy="3946680"/>
        </p:xfrm>
        <a:graphic>
          <a:graphicData uri="http://schemas.openxmlformats.org/drawingml/2006/table">
            <a:tbl>
              <a:tblPr/>
              <a:tblGrid>
                <a:gridCol w="4044960"/>
                <a:gridCol w="3886200"/>
              </a:tblGrid>
              <a:tr h="60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Adjunk kitevő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6.8035 x 10</a:t>
                      </a:r>
                      <a:r>
                        <a:rPr b="0" lang="hu-HU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Pozícionáljuk a tizedesvesszőt a normál alakho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2468035 x 10</a:t>
                      </a:r>
                      <a:r>
                        <a:rPr b="0" lang="hu-HU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8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Vágjuk le 5 jegyű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24680 x 10</a:t>
                      </a:r>
                      <a:r>
                        <a:rPr b="0" lang="hu-HU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8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Szám átalakítás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fd1313"/>
                          </a:solidFill>
                          <a:latin typeface="Arial"/>
                        </a:rPr>
                        <a:t>0</a:t>
                      </a:r>
                      <a:r>
                        <a:rPr b="0" lang="hu-HU" sz="24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53</a:t>
                      </a:r>
                      <a:r>
                        <a:rPr b="0" lang="hu-HU" sz="24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246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29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0" name=""/>
          <p:cNvSpPr/>
          <p:nvPr/>
        </p:nvSpPr>
        <p:spPr>
          <a:xfrm>
            <a:off x="2514600" y="5410080"/>
            <a:ext cx="2666880" cy="609840"/>
          </a:xfrm>
          <a:prstGeom prst="borderCallout1">
            <a:avLst>
              <a:gd name="adj1" fmla="val 18750"/>
              <a:gd name="adj2" fmla="val -8333"/>
              <a:gd name="adj3" fmla="val -147657"/>
              <a:gd name="adj4" fmla="val 15309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486400" y="5410080"/>
            <a:ext cx="1562040" cy="609840"/>
          </a:xfrm>
          <a:prstGeom prst="borderCallout1">
            <a:avLst>
              <a:gd name="adj1" fmla="val 18750"/>
              <a:gd name="adj2" fmla="val -8333"/>
              <a:gd name="adj3" fmla="val -146092"/>
              <a:gd name="adj4" fmla="val 113921"/>
            </a:avLst>
          </a:prstGeom>
          <a:noFill/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733920" y="4648320"/>
            <a:ext cx="1066680" cy="609480"/>
          </a:xfrm>
          <a:prstGeom prst="borderCallout1">
            <a:avLst>
              <a:gd name="adj1" fmla="val 18750"/>
              <a:gd name="adj2" fmla="val -8333"/>
              <a:gd name="adj3" fmla="val -42967"/>
              <a:gd name="adj4" fmla="val 229912"/>
            </a:avLst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09880" y="48006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d1313"/>
                </a:solidFill>
                <a:latin typeface="Arial"/>
              </a:rPr>
              <a:t>Előj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590920" y="556272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9f11"/>
                </a:solidFill>
                <a:latin typeface="Arial"/>
              </a:rPr>
              <a:t>Excess-50 kitev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562720" y="54864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80"/>
                </a:solidFill>
                <a:latin typeface="Arial"/>
              </a:rPr>
              <a:t>Mantiss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085C-7974-4B98-B120-1A0D58FC8F0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80"/>
                </a:solidFill>
                <a:latin typeface="Arial"/>
              </a:rPr>
              <a:t>Példa 2: 1255 x 10</a:t>
            </a:r>
            <a:r>
              <a:rPr b="1" lang="hu-HU" sz="4400" spc="-1" strike="noStrike" baseline="30000">
                <a:solidFill>
                  <a:srgbClr val="000080"/>
                </a:solidFill>
                <a:latin typeface="Arial"/>
              </a:rPr>
              <a:t>-3</a:t>
            </a: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914400" y="1676520"/>
          <a:ext cx="7931160" cy="4022640"/>
        </p:xfrm>
        <a:graphic>
          <a:graphicData uri="http://schemas.openxmlformats.org/drawingml/2006/table">
            <a:tbl>
              <a:tblPr/>
              <a:tblGrid>
                <a:gridCol w="5105520"/>
                <a:gridCol w="2825640"/>
              </a:tblGrid>
              <a:tr h="608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01760" indent="-40176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</a:t>
                      </a: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ár exponenciális formáj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55</a:t>
                      </a: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10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</a:t>
                      </a: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zícionáljuk a tizedesvessző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1255 x 10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8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</a:t>
                      </a: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mál alak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</a:t>
                      </a: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junk hozzá 0-t az 5 jegyhe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255 x 10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11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</a:t>
                      </a: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zám átalakítás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d1313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28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51</a:t>
                      </a:r>
                      <a:r>
                        <a:rPr b="0" lang="en-US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25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CA49-120E-406A-B781-201C7DA3492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4T17:44:38Z</dcterms:created>
  <dc:creator>Linda Senne</dc:creator>
  <dc:description/>
  <dc:language>en-US</dc:language>
  <cp:lastModifiedBy>Horváth Zsolt</cp:lastModifiedBy>
  <dcterms:modified xsi:type="dcterms:W3CDTF">2009-03-13T10:42:42Z</dcterms:modified>
  <cp:revision>144</cp:revision>
  <dc:subject/>
  <dc:title>CHAPTER 1: Computer Systems</dc:title>
</cp:coreProperties>
</file>