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B47F3-7364-4C20-A56C-560BD549D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D771F-332B-4762-AE8D-0D851E53E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BF401-8F81-4AA5-B2A8-83CEDCCF2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94F71-AB6A-4396-A88E-F45E605EE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C1B8F-BF6E-4595-9182-1C8EDF509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F9FFC-5119-4629-9541-98963FDDC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651F-B92A-4BF1-8029-0EEAE8C6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960C-C83F-4DFF-A901-06DD6067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FA8B-2A52-49A0-980D-BEF56B78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B794-3BB1-4FED-88BE-248C7B49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C6C4-D4D2-4ABE-9FEB-6C3D170C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E69B-C5B2-4BE4-931F-425D748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7CD2-FB45-4BB9-ACB8-5BECEF77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6880-4AF7-49C5-9383-7E3F4587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364F-6A90-4F43-A0D1-F8FFCB05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0170-DCC1-42EE-A9B8-896CC0D7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F181-2A6A-4E8E-8209-CB2FC19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746C2-9B84-49AC-AA36-3BBB1D6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1928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56720" y="6381360"/>
            <a:ext cx="10540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03F9-52AB-4C80-B48F-9BA992AF23A5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c8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b5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b5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610920" y="6381720"/>
            <a:ext cx="13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40728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Times New Roman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108000" y="6308640"/>
            <a:ext cx="39672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ftr" idx="4"/>
          </p:nvPr>
        </p:nvSpPr>
        <p:spPr>
          <a:xfrm>
            <a:off x="6084720" y="5877000"/>
            <a:ext cx="28958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5"/>
          </p:nvPr>
        </p:nvSpPr>
        <p:spPr>
          <a:xfrm>
            <a:off x="1835280" y="6021360"/>
            <a:ext cx="208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00000"/>
                </a:solidFill>
                <a:latin typeface="Georgia"/>
              </a:rPr>
              <a:t>Adatok ábrázolása, adattípusok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Összefoglalá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modell határa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Nem foglalkozunk vele, hogy hogyan történik, feltételezzük, hogy rendelkezésre ál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rogram betöltése a memóriáb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atok belehelyezése a bemeneti kosárba („In Basket”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8BAE-9E61-4080-85D4-00D75396A1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Utasításo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LM képes utasításokat végrehajtan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Utasítások sorozatát működés előtt elkészítjük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z utasításokat különböző csoportokba oszthatjuk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ritmetikai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at mozgató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input/output (be-/kimeneti) 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vezérlő utasításo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19CD-B76F-456B-9C4C-4C5AD31A64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Utasítások tárolás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Verdana"/>
              </a:rPr>
              <a:t>Gépi kód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utasításokhoz rendelt kó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zeket az utasításkódokat valós számítógépekben a processzor közvetlenül tudja értelmezni és végrehajt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 gépi kódú utasítások az LMC esetén háromjegyű decimális számo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1BC7-23E7-4A06-B8B4-580334D43C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Utasítások felépíté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744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i kó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űvelet kód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tetszőleges rövidítés (mnemon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 operandu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ódosítandó „objektum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dat értéke va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dat címe, ahol az érték tárolód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43000" y="4772160"/>
          <a:ext cx="7238880" cy="1552320"/>
        </p:xfrm>
        <a:graphic>
          <a:graphicData uri="http://schemas.openxmlformats.org/drawingml/2006/table">
            <a:tbl>
              <a:tblPr/>
              <a:tblGrid>
                <a:gridCol w="1676520"/>
                <a:gridCol w="2666880"/>
                <a:gridCol w="2895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Cí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B1C8-8AC6-4734-BFE1-B7C3D343FD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Utasításkészle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00200" y="1606680"/>
          <a:ext cx="6477120" cy="464184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  <a:gridCol w="25909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Aritmetik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1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Összead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2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Kivon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Adat mozgat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3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áro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5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Betöl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/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Be-</a:t>
                      </a: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/</a:t>
                      </a:r>
                      <a:r>
                        <a:rPr b="0" lang="hu-HU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Kimene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</a:t>
                      </a:r>
                      <a:r>
                        <a:rPr b="0" lang="hu-HU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Gép irányítása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kávészünet</a:t>
                      </a:r>
                      <a:r>
                        <a:rPr b="0" lang="en-US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Leál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C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669BF-BCB2-4983-8EE0-FA61BB7EB28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alap utasítása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413000"/>
          <a:ext cx="8218440" cy="4994280"/>
        </p:xfrm>
        <a:graphic>
          <a:graphicData uri="http://schemas.openxmlformats.org/drawingml/2006/table">
            <a:tbl>
              <a:tblPr/>
              <a:tblGrid>
                <a:gridCol w="3122640"/>
                <a:gridCol w="1577880"/>
                <a:gridCol w="351792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típ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Aritmetik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Összead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Kivon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Adat mozgat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3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Táro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5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Betölt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Input/Output </a:t>
                      </a:r>
                      <a:br>
                        <a:rPr sz="2800"/>
                      </a:b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(Be-/Kimenet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Beolvasás (INPU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Kiírás (OUTPU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Vezérlő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Leállás (CO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4BA3-78BB-4569-8A27-927F48C34F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ssembly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nyelv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függő programnyel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gy az egyhez összerendelés az assembly nyelv utasításai és a bináris gépi kódú (CPU által végrehajtható) utasítások közö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Verdana"/>
              </a:rPr>
              <a:t>Mnemonic-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rövid karakter sorozat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utasításokat reprezentál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kkor használjuk, ha a programozónak a hardver pontos vezérlésére van szüksé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pl.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szközmeghajtók (driver-ek) készíté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7B58-5992-4331-A6D9-7F3AAAEC71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alap utasításainak assembly kódj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4920" y="1600200"/>
          <a:ext cx="8446680" cy="4978440"/>
        </p:xfrm>
        <a:graphic>
          <a:graphicData uri="http://schemas.openxmlformats.org/drawingml/2006/table">
            <a:tbl>
              <a:tblPr/>
              <a:tblGrid>
                <a:gridCol w="1964160"/>
                <a:gridCol w="3819600"/>
                <a:gridCol w="26629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assembly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Összead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von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áro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A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öl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olvasás (INP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írás (OUTP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ál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ffe brea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9DE8-4A8F-4AA2-84F0-182693F57F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put/Output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 mozgatása a számológép és a be/ki kosarak közö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219320" y="2743200"/>
          <a:ext cx="7162560" cy="2819520"/>
        </p:xfrm>
        <a:graphic>
          <a:graphicData uri="http://schemas.openxmlformats.org/drawingml/2006/table">
            <a:tbl>
              <a:tblPr/>
              <a:tblGrid>
                <a:gridCol w="2077200"/>
                <a:gridCol w="216000"/>
                <a:gridCol w="2510640"/>
                <a:gridCol w="23587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UT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out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9554-EDB3-4AB6-A26E-67B55402D7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7520" y="1487520"/>
            <a:ext cx="5962320" cy="4262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Input/Outpu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429000"/>
            <a:ext cx="1066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d1313"/>
                </a:solidFill>
                <a:latin typeface="Tahoma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d1313"/>
                </a:solidFill>
                <a:latin typeface="Tahoma"/>
              </a:rPr>
              <a:t>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05320" y="2819520"/>
            <a:ext cx="1218960" cy="83808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571920" y="3365280"/>
            <a:ext cx="1237320" cy="81180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1176-985B-4D53-841D-E5F67501B8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Adatok ábrázolása, adattípuso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ítógépes rendszere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ködés: információfeldolgoz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IPO: input-process-output mod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információ tárolása adatok formájáb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atformátum választás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gépi feldolgozás, tárolás egyszerű legyen – Neumann János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 bináris ábrázol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formátum választása: az adatokon műveleteket egyszerűen SZISZTEMATIKUS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8400-3087-4C53-A708-A2035DF28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Belső adatmozgás 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(LMC-n belül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73484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 postaláda és a számológép közö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76520" y="2666880"/>
          <a:ext cx="6629040" cy="3048120"/>
        </p:xfrm>
        <a:graphic>
          <a:graphicData uri="http://schemas.openxmlformats.org/drawingml/2006/table">
            <a:tbl>
              <a:tblPr/>
              <a:tblGrid>
                <a:gridCol w="1657080"/>
                <a:gridCol w="315360"/>
                <a:gridCol w="2525760"/>
                <a:gridCol w="213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STO 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árolás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LDA 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betöltés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0D0D-17D5-48AC-BD5C-C5B4F823BB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48160" cy="4798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belső adatmozgatá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33526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3124080"/>
            <a:ext cx="1295640" cy="1143000"/>
          </a:xfrm>
          <a:prstGeom prst="line">
            <a:avLst/>
          </a:prstGeom>
          <a:ln w="2844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105160" y="2743200"/>
            <a:ext cx="1066680" cy="152280"/>
          </a:xfrm>
          <a:prstGeom prst="line">
            <a:avLst/>
          </a:prstGeom>
          <a:ln w="2844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281952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Tahoma"/>
              </a:rPr>
              <a:t>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Tahoma"/>
              </a:rPr>
              <a:t>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2FE7-884B-445E-8830-3CF736AADD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datok tárolás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Utasításokat és az adatokat tároló   postaláda fiókok fizikailag azonosak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 (általában) nincsenek beleágyazva az utasítások köz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Verdana"/>
              </a:rPr>
              <a:t>D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nemonic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 azonosítja őket az assembly kódb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6956-B3C1-449D-A439-16E89D9E36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ritmetikai utasítás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ostaládában tárolt érték beolvasá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 elvégzése a számológép segítségé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3197160"/>
          <a:ext cx="8218440" cy="2288880"/>
        </p:xfrm>
        <a:graphic>
          <a:graphicData uri="http://schemas.openxmlformats.org/drawingml/2006/table">
            <a:tbl>
              <a:tblPr/>
              <a:tblGrid>
                <a:gridCol w="2152440"/>
                <a:gridCol w="628920"/>
                <a:gridCol w="2719440"/>
                <a:gridCol w="271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Összead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Kivon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5E15-ADA5-4EF0-984B-5E5E702AAF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681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ritmetikai utasítás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33526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76560" y="2590920"/>
            <a:ext cx="1066680" cy="152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228600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ahoma"/>
              </a:rPr>
              <a:t>Össze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ahoma"/>
              </a:rPr>
              <a:t>Kivon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E9F1-6F18-488D-89B1-5C3A112232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Egyszerű program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  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2 szám összeadá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717560"/>
            <a:ext cx="57214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Feltételezzük, hogy az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at 90&lt; címekkel címzett postaládákba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tárolju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Írjuk meg a programo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1752480"/>
            <a:ext cx="2819160" cy="72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Beolvassuk </a:t>
            </a:r>
            <a:br>
              <a:rPr sz="1800"/>
            </a:b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az első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843280"/>
            <a:ext cx="2819160" cy="7268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Eltároljuk a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3935520"/>
            <a:ext cx="2819160" cy="7268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Beolvassuk </a:t>
            </a:r>
            <a:br>
              <a:rPr sz="1800"/>
            </a:b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az második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879800"/>
            <a:ext cx="2819160" cy="72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Összeadjuk a két számot</a:t>
            </a:r>
            <a:r>
              <a:rPr b="1" lang="en-US" sz="1800" spc="-1" strike="noStrike">
                <a:solidFill>
                  <a:srgbClr val="00008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5826240"/>
            <a:ext cx="2819160" cy="7268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Kiírjuk az összeget</a:t>
            </a:r>
            <a:r>
              <a:rPr b="1" lang="en-US" sz="1800" spc="-1" strike="noStrike">
                <a:solidFill>
                  <a:srgbClr val="00008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46880" y="2479680"/>
            <a:ext cx="0" cy="36360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46880" y="3570120"/>
            <a:ext cx="0" cy="36540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46880" y="4662360"/>
            <a:ext cx="0" cy="21456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46880" y="5607000"/>
            <a:ext cx="0" cy="2192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E08F-02D2-4346-A0EB-1D3D631FAC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Két szám összeadását végző assembly progra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752480"/>
          <a:ext cx="8218440" cy="4813200"/>
        </p:xfrm>
        <a:graphic>
          <a:graphicData uri="http://schemas.openxmlformats.org/drawingml/2006/table">
            <a:tbl>
              <a:tblPr/>
              <a:tblGrid>
                <a:gridCol w="1423800"/>
                <a:gridCol w="2130480"/>
                <a:gridCol w="46641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esláda címké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mbly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lső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 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Szám tárol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Második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Két szám összead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Adat rekesz a szám tárolásá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94A8-1D09-4D19-8329-64EA06A0F6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Két szám összeadását végző gépi kódú pro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752480"/>
          <a:ext cx="8218440" cy="4813200"/>
        </p:xfrm>
        <a:graphic>
          <a:graphicData uri="http://schemas.openxmlformats.org/drawingml/2006/table">
            <a:tbl>
              <a:tblPr/>
              <a:tblGrid>
                <a:gridCol w="1423800"/>
                <a:gridCol w="2132280"/>
                <a:gridCol w="46623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esláda címké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épi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lső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Szám tárol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Második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Két szám összead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Adat rekesz a szám tárolásá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EC96-8515-4F65-A1D8-0E45CFF8FB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2 szám összeadásár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Mnemonic-okat használ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716120"/>
          <a:ext cx="8076960" cy="4989600"/>
        </p:xfrm>
        <a:graphic>
          <a:graphicData uri="http://schemas.openxmlformats.org/drawingml/2006/table">
            <a:tbl>
              <a:tblPr/>
              <a:tblGrid>
                <a:gridCol w="1981080"/>
                <a:gridCol w="2209680"/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talá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nem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tasítás le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 tárol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ét szám összead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16DB-F31F-4F91-84E5-8BF284CB9B2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2 szám összeadásá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8360" y="1671480"/>
          <a:ext cx="8056080" cy="4424400"/>
        </p:xfrm>
        <a:graphic>
          <a:graphicData uri="http://schemas.openxmlformats.org/drawingml/2006/table">
            <a:tbl>
              <a:tblPr/>
              <a:tblGrid>
                <a:gridCol w="2014200"/>
                <a:gridCol w="966600"/>
                <a:gridCol w="507528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talá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tasítás le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 tárol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ét szám összead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1DF1-FB9F-4B07-B7A6-8589CF51B67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Adatokon végzett műveletek (IPO modell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793880"/>
            <a:ext cx="82184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Információ számítógép által feldolgozható formába rögzíteni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számítógép perifériák (bemeneti egysége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Információ feldolgoz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CPU, memó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Eredmények megjelenítés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számítógép perifériák (kimeneti egysége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7B2F-8E74-489C-A2FD-AFECEE847D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Program vezérlé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lágazá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o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szekvenciális utasítás-végrehajtás eltéríté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Cím megváltoztatása az utasítás-számlálób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Leáll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3520" y="3048120"/>
          <a:ext cx="7924320" cy="3105000"/>
        </p:xfrm>
        <a:graphic>
          <a:graphicData uri="http://schemas.openxmlformats.org/drawingml/2006/table">
            <a:tbl>
              <a:tblPr/>
              <a:tblGrid>
                <a:gridCol w="2726640"/>
                <a:gridCol w="406440"/>
                <a:gridCol w="2396520"/>
                <a:gridCol w="239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Műveleti</a:t>
                      </a: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peran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Z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0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-nál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P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 + -nál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COB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Leáll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igno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37482-DB5E-4D9B-9600-30152C2DB4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vezérlő utasításo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68360" y="1413000"/>
          <a:ext cx="8218440" cy="5252760"/>
        </p:xfrm>
        <a:graphic>
          <a:graphicData uri="http://schemas.openxmlformats.org/drawingml/2006/table">
            <a:tbl>
              <a:tblPr/>
              <a:tblGrid>
                <a:gridCol w="1574640"/>
                <a:gridCol w="2144880"/>
                <a:gridCol w="4498920"/>
              </a:tblGrid>
              <a:tr h="13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</a:t>
                      </a:r>
                      <a:br>
                        <a:rPr sz="2400"/>
                      </a:b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mbly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a számológép tartalma nulla, 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a számológép tartalma nagyobb nullánál, 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állás (Coffee brea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FAFF-1D8F-4AAB-9EA2-8108AE43D2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utasításkészle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93760" y="1487520"/>
          <a:ext cx="5945400" cy="4397400"/>
        </p:xfrm>
        <a:graphic>
          <a:graphicData uri="http://schemas.openxmlformats.org/drawingml/2006/table">
            <a:tbl>
              <a:tblPr/>
              <a:tblGrid>
                <a:gridCol w="2938680"/>
                <a:gridCol w="966600"/>
                <a:gridCol w="204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Aritmetik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1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Összead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2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Kivon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Adatmozgat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3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áro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5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Betölt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6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7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 0-ná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8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 +-ná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/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Vezérlő utasítá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kávészünet</a:t>
                      </a: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298A-12B8-4D46-9E9C-D6CD6E5C01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oljuk ki két szám különbségének abszolút értékét (kimenet pozitív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14400" y="1657440"/>
          <a:ext cx="7772400" cy="5048280"/>
        </p:xfrm>
        <a:graphic>
          <a:graphicData uri="http://schemas.openxmlformats.org/drawingml/2006/table">
            <a:tbl>
              <a:tblPr/>
              <a:tblGrid>
                <a:gridCol w="685800"/>
                <a:gridCol w="1219320"/>
                <a:gridCol w="990360"/>
                <a:gridCol w="4876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P 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tes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DA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 negatí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dított sorrendben kell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tárol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tárol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73C4-F118-40E5-8F1C-FB4ABC8D23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Utasítás-végrehajtási cikl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utasítások végrehajtása két lépésre oszthat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Fetch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 (~kikeresés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sember kideríti, hogy milyen utasítást hajtson vég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Végrehajtá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sember elvégzi az utasítás által definiált művelet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Számítógép által egy-egy utasítás végrehajtásakor elvégzett tevékenységek sorozatát </a:t>
            </a:r>
            <a:r>
              <a:rPr b="0" i="1" lang="hu-HU" sz="2800" spc="-1" strike="noStrike">
                <a:solidFill>
                  <a:srgbClr val="000000"/>
                </a:solidFill>
                <a:latin typeface="Verdana"/>
              </a:rPr>
              <a:t>utasítás végrehajtási ciklusnak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nevezzü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végrehajtott lépések ciklikusan ismétlődn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92728-61D3-4105-9009-5EA0917A00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tch </a:t>
            </a: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része az utasítás-végrehajtási ciklusna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133720"/>
            <a:ext cx="3276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sember beolvassa a címet az utasítás helyét tároló számlálóból (utasításszámlál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191120"/>
            <a:ext cx="3276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lmegy a postaládához, ami az utasítás-számlálóban tárolt értékhez tart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44547" b="32657"/>
          <a:stretch/>
        </p:blipFill>
        <p:spPr>
          <a:xfrm>
            <a:off x="1295280" y="1752480"/>
            <a:ext cx="327672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8A45-0D1B-487C-B359-0643D942B7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etch,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(foly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1981080"/>
            <a:ext cx="327672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cetliről leolvassa postaládában tárolt a számot (visszarakja a cetlit, hátha szüksége lesz még rá későb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1795320"/>
            <a:ext cx="3886200" cy="26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E3C3-8BE7-434E-B822-271DCEE3A8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54090" t="22326" r="0" b="43785"/>
          <a:stretch/>
        </p:blipFill>
        <p:spPr>
          <a:xfrm>
            <a:off x="4952880" y="3747960"/>
            <a:ext cx="3657600" cy="2652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Végrehajtás része az utasítás-végrehajtási ciklusnak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rcRect l="0" t="0" r="53890" b="68019"/>
          <a:stretch/>
        </p:blipFill>
        <p:spPr>
          <a:xfrm>
            <a:off x="468360" y="1754280"/>
            <a:ext cx="3867120" cy="2360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191120" y="2438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828800"/>
            <a:ext cx="3581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sember odamegy ahhoz a postaládához, ami az imént fetch-elt utasítás kódjában volt definiál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4343400"/>
            <a:ext cx="3733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olvassa a számot a postaládából (emlékezik a cserére, hátha szüksége lesz rá későb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42670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191120"/>
            <a:ext cx="3045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B4E4-1D97-4D2C-993D-F98F550BAF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Végrehajtás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(foly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43779" r="54685" b="19187"/>
          <a:stretch/>
        </p:blipFill>
        <p:spPr>
          <a:xfrm>
            <a:off x="468360" y="1413000"/>
            <a:ext cx="4110120" cy="2754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952880" y="2133720"/>
            <a:ext cx="358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damegy a számológéphez és begépeli a szám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267080"/>
            <a:ext cx="43434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damegy a az utasítás helyét tároló számlálóhoz (utasításszámlálóhoz) és megnyomja (inkrementá-lja), ami után készen áll fetch-elni a következő utasítá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4952880"/>
            <a:ext cx="38124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rcRect l="54000" t="65922" r="0" b="0"/>
          <a:stretch/>
        </p:blipFill>
        <p:spPr>
          <a:xfrm>
            <a:off x="4952880" y="3630600"/>
            <a:ext cx="3962520" cy="2577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952880" y="51814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FE4B-6AE2-4263-B3BD-C1EDB2E2D0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Neumann architektúra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194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Tárolt program el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programokat és az adatokat azonos memóriában tárolju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emória használata a tartalom figyelembevétele nélkü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Bináris számábrázolás használ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emória lineáris (szekvenciális) címzé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208E-1A43-4E13-AA5A-1186AAC917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hu-HU" sz="4600" spc="-1" strike="noStrike">
                <a:solidFill>
                  <a:srgbClr val="000000"/>
                </a:solidFill>
                <a:latin typeface="Georgia"/>
              </a:rPr>
              <a:t>. Fejezet</a:t>
            </a:r>
            <a:r>
              <a:rPr b="0" lang="en-US" sz="46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4600"/>
            </a:br>
            <a:r>
              <a:rPr b="0" lang="hu-HU" sz="4600" spc="-1" strike="noStrike">
                <a:solidFill>
                  <a:srgbClr val="000000"/>
                </a:solidFill>
                <a:latin typeface="Georgia"/>
              </a:rPr>
              <a:t>Little Man Computer</a:t>
            </a:r>
            <a:br>
              <a:rPr sz="4600"/>
            </a:br>
            <a:r>
              <a:rPr b="0" lang="hu-HU" sz="4200" spc="-1" strike="noStrike">
                <a:solidFill>
                  <a:srgbClr val="000000"/>
                </a:solidFill>
                <a:latin typeface="Georgia"/>
              </a:rPr>
              <a:t>(Kisember számítógép)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549680"/>
            <a:ext cx="6019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ittle Man Computer (LM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8660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9D5F-8B92-47C4-A755-64F48FA1D62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ittle Man Computer (LM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339920"/>
          <a:ext cx="9144000" cy="59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914400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8892-9993-4A63-BFCD-3873756091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ostalád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cí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é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tartalo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56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ostaláda adatok tárolására szolgá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ok elérése a postaláda cím alapjá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postaláda címek egymást követ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00…99 (100 db rekesz v. leveleslád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postaláda tartalma (3 számjegy) leh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 va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743200" y="4648320"/>
          <a:ext cx="4027320" cy="1552320"/>
        </p:xfrm>
        <a:graphic>
          <a:graphicData uri="http://schemas.openxmlformats.org/drawingml/2006/table">
            <a:tbl>
              <a:tblPr/>
              <a:tblGrid>
                <a:gridCol w="2014200"/>
                <a:gridCol w="2013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Cí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174B-281A-420E-BC87-FE1633D413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elemei I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Bemeneti és kimeneti kosá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LM bele tehet vagy kivehet egy 3 jegyű számot tartalmazó cetl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láló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0 és 99 között tud számol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edá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egnyomására a számlálóban tárolt szám értéke eggyel megnöveksz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Értéket nullára állíthatjuk egy külső ún. „reset” (beállító) gombbal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0459-8E54-4926-889A-5B316B85DF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elemei II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ológé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három számjegyű decimális számokat tud kezeln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Kép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vonni é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összeadni, valami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begépelt vagy a számítás eredményeként kapott értéket eltárol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89097-1058-429F-B334-D0181472D1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3:43:27Z</dcterms:created>
  <dc:creator>Linda Senne</dc:creator>
  <dc:description/>
  <dc:language>en-US</dc:language>
  <cp:lastModifiedBy>Horváth Zsolt</cp:lastModifiedBy>
  <dcterms:modified xsi:type="dcterms:W3CDTF">2009-05-23T13:14:44Z</dcterms:modified>
  <cp:revision>75</cp:revision>
  <dc:subject/>
  <dc:title>CHAPTER 1: Computer Systems</dc:title>
</cp:coreProperties>
</file>